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00"/>
              </a:solidFill>
              <a:latin typeface="Times New Roman"/>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c9ff"/>
                </a:solidFill>
                <a:latin typeface="Arial"/>
              </a:rPr>
              <a:t>Click to move the slide</a:t>
            </a:r>
            <a:endParaRPr b="0" lang="en-US" sz="4400" spc="-1" strike="noStrike">
              <a:solidFill>
                <a:srgbClr val="e4c9ff"/>
              </a:solidFill>
              <a:latin typeface="Arial"/>
            </a:endParaRPr>
          </a:p>
        </p:txBody>
      </p:sp>
      <p:sp>
        <p:nvSpPr>
          <p:cNvPr id="9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46F07-F2B5-47F9-ADED-B0D62E20B5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esentation is about teaching the </a:t>
            </a:r>
            <a:r>
              <a:rPr b="0" i="1" lang="en-US" sz="1200" spc="-1" strike="noStrike">
                <a:solidFill>
                  <a:srgbClr val="000000"/>
                </a:solidFill>
                <a:latin typeface="Times New Roman"/>
              </a:rPr>
              <a:t>Discovering the Real Me</a:t>
            </a:r>
            <a:r>
              <a:rPr b="0" lang="en-US" sz="1200" spc="-1" strike="noStrike">
                <a:solidFill>
                  <a:srgbClr val="000000"/>
                </a:solidFill>
                <a:latin typeface="Times New Roman"/>
              </a:rPr>
              <a:t> series, Student Textbook and Teacher’s Manual 12.</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ffective objectives of “Our Emotional Life” are for students to be grateful that positive emotions are stronger than negative ones, to desire to cultivate positive emotions, and to desire to let reason guide their emotions.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ehavioral objectives of “Our Emotional Life” are to identify and describe different emotions in order to become more aware of their presence, and to apply the rule that, especially in romantic matters, it is better to follow reason rather than emotion. A specific behavioral application would be to consult with trusted and responsible adults about emotional matters for assistance in applying reason to them.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ecommended activity is to bring in pictures, photos, magazines to class and allow students to identify the emotions of the people in the pictures in order to cultivate emotional awareness. The students and teacher go over a list of positive emotions presented in both the student and teacher texts. The students then record their emotions—both positive and negative—over the course of a week in order to become more aware of the force of emotion in their lives.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recommended discussion, students and teacher enjoy naming and singing famous love songs, many of which talk about being “crazy for you”, “losing my mind” or “losing control” in matters of love. The students then discuss a short story in their books and in the teacher’s text where a young woman, crazily in love, is being betrayed by her boyfriend. The influence of her aunt reasoning with her allows her to extricate herself from a situation that will only become more and more painful. The text makes the point that students do well to allow their reason to prevail over their emotions in romantic relationships. This is particularly true in the case of not getting sexually involved without the commitment of marriage. Sexual involvement only entangles the emotions more completely, causing people to make bad relationship choices, leading to great unhappiness. True love is reasonable as well as emotional.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next sample chapter is Chapter 3: “A Motto for Life”. In this chapter, students are encouraged to look at famous mottoes and mission statements in order to craft one for their own lives. The text covers how moral codes and systems evolved over time. This quote, attributed to Mohandas K. Gandhi, the great peacemaker, shows how mentors in modern times surpassed the old moral code of “An eye for an eye and a tooth for a tooth”.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of the main points of the chapter are that moral codes throughout history have evolved from the “law of the jungle”--which means someone took greater vengeance for an act against him or his--to the law of equal vengeance for wrongs done (“An eye for an eye”) to the highest standard of being able to forgive and reunite in brotherhood and sisterhood with one’s enemy. The chapter covers The Golden Rule, which emphasizes reciprocity in human relationships, and which is found in some form or other in each culture. The chapter makes the point that a motto or mission statement is important in directing a person’s efforts and energy in life toward a worthy goal.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gnitive objectives of “A Motto for Life” are that students will understand clearly what mottoes and mission statements are; they will learn examples of famous mottoes and mission statements and see how these direct the efforts of individuals and groups dedicated to them.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ffective objectives of “A Motto for Life” are that the students will want to adopt good mottoes and mission statements and be guided by them in their lives.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ehavioral objectives of “A Motto for Life” are that students will name any personal mottoes they have; they will discern the values behind the mission statements of some famous groups and corporations, and they will craft their own mission statements.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scussion part of one of the lesson plans features a list of famous mottoes, of which these are just a few. These mottoes appear in the student and teacher texts. The meaning of these mottoes should be discussed, and the students should be able to add substantially to the list of famous mottoes. The teacher then provides famous mission statements from well-known corporations, including these paraphrased ones, and the students and teacher explore the values behind the mission statements.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itle of Book 12 is </a:t>
            </a:r>
            <a:r>
              <a:rPr b="0" i="1" lang="en-US" sz="1200" spc="-1" strike="noStrike">
                <a:solidFill>
                  <a:srgbClr val="000000"/>
                </a:solidFill>
                <a:latin typeface="Times New Roman"/>
              </a:rPr>
              <a:t>Preparing for Life in Society</a:t>
            </a:r>
            <a:r>
              <a:rPr b="0" lang="en-US" sz="1200" spc="-1" strike="noStrike">
                <a:solidFill>
                  <a:srgbClr val="000000"/>
                </a:solidFill>
                <a:latin typeface="Times New Roman"/>
              </a:rPr>
              <a:t>. It contains 17 original chapters on contemporary topics of interest to young people ages 17 to 18 years. It contains Questions for Reflection and Discussion to stimulate student thinking, as well as exercises and activities to help expand upon and engrain the knowledg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a personal motto or from one of the ones discussed in class, the students craft their own mission statement for their own lives, setting it up as a goal and direction for their energies.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iscovering the Real Me</a:t>
            </a:r>
            <a:r>
              <a:rPr b="0" lang="en-US" sz="1200" spc="-1" strike="noStrike">
                <a:solidFill>
                  <a:srgbClr val="000000"/>
                </a:solidFill>
                <a:latin typeface="Times New Roman"/>
              </a:rPr>
              <a:t> Book 12, </a:t>
            </a:r>
            <a:r>
              <a:rPr b="0" i="1" lang="en-US" sz="1200" spc="-1" strike="noStrike">
                <a:solidFill>
                  <a:srgbClr val="000000"/>
                </a:solidFill>
                <a:latin typeface="Times New Roman"/>
              </a:rPr>
              <a:t>Preparing for Life in Society</a:t>
            </a:r>
            <a:r>
              <a:rPr b="0" lang="en-US" sz="1200" spc="-1" strike="noStrike">
                <a:solidFill>
                  <a:srgbClr val="000000"/>
                </a:solidFill>
                <a:latin typeface="Times New Roman"/>
              </a:rPr>
              <a:t>, provides young people with education for life. It is character-shaping and provides the opportunity for students to reflect upon and discuss meaningful topics. It provides some armaments for the challenges that lie ahead of them. Working with the book is enjoyable for both students and teacher. </a:t>
            </a:r>
            <a:r>
              <a:rPr b="0" i="1" lang="en-US" sz="1200" spc="-1" strike="noStrike">
                <a:solidFill>
                  <a:srgbClr val="000000"/>
                </a:solidFill>
                <a:latin typeface="Times New Roman"/>
              </a:rPr>
              <a:t>Preparing for Life</a:t>
            </a:r>
            <a:r>
              <a:rPr b="0" lang="en-US" sz="1200" spc="-1" strike="noStrike">
                <a:solidFill>
                  <a:srgbClr val="000000"/>
                </a:solidFill>
                <a:latin typeface="Times New Roman"/>
              </a:rPr>
              <a:t> prepares students to be launched into society in a positive, energetic, and morally directed way. </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d.</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but a few of the topics covered: emotions, the divided self, building character, marriage and divorce, altruism, and a worthwhile life.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acher’s Manual gives advice and instruction on teaching character education from this particular series, including a section on what a balanced education is, teaching methods, course requirements and expectations and stimulating icebreakers that help set the stage for meaningful interactions between teacher and students and students and students. There are two lesson plans for each chapter, covering a 35-week school year.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acter education’s general goals are to help students know the good in their heads, care about the good in their hearts, and do the good with their hands, or through their actions.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fore, each chapter has cognitive, affective, and behavioral goals to educate the head, heart, and hands.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ill cover, as a sample chapter, Chapter 1 of </a:t>
            </a:r>
            <a:r>
              <a:rPr b="0" i="1" lang="en-US" sz="1200" spc="-1" strike="noStrike">
                <a:solidFill>
                  <a:srgbClr val="000000"/>
                </a:solidFill>
                <a:latin typeface="Times New Roman"/>
              </a:rPr>
              <a:t>Preparing for Life in Society</a:t>
            </a:r>
            <a:r>
              <a:rPr b="0" lang="en-US" sz="1200" spc="-1" strike="noStrike">
                <a:solidFill>
                  <a:srgbClr val="000000"/>
                </a:solidFill>
                <a:latin typeface="Times New Roman"/>
              </a:rPr>
              <a:t>:  “Our Emotional Life”.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in points of this chapter are: 1) that there are only a few basic human emotions, and most of them come under these three major categories of pleasure, fear, and anger. (Grief might be considered another major category, although grief has an anger and a fear component as well) 2) Positive emotions are stronger than negative emotions and can outweigh them 3) We can control our emotions through our reason or rationality 3) Controlling our emotions through reason and rationality is especially important in romantic relationships at this sexually vulnerable age.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gnitive objectives of Chapter 1, “Our Emotional Life” are for students to become more aware of emotions, to recognize that positive emotions are stronger than negative emotions, and to realize that it is possible to control emotions, uncontrollable and overwhelming as they may seem at times.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F83E10-9611-4445-8941-762A7873EE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c9ff"/>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F01737-A4F2-4FB6-91EE-CC27E043A1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c9ff"/>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FFCC4D-8CDB-4971-B196-E064DAF982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c9ff"/>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FE1B9D-09D4-428C-9E06-1DDD3E4937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0319E9-AB80-464B-AE4F-BBF69F1CF8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c9ff"/>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3461DA-EDE2-4E55-A9DE-DBD4C9E482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c9ff"/>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58DE37-822A-4110-B493-111790F4C2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c9ff"/>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BD1369-7CCA-4B86-97A5-32C0AEE4C5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c9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B3C6FD-5F69-4AE6-B8D6-26F2EF1C44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520539-2B7F-41A9-932F-30552623BE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c9ff"/>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6310A2-44F0-4DD6-8442-B9F2F8630C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c9ff"/>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FDBEAE-11F1-4218-8127-0CF2596158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c9ff"/>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849CA1-7801-4578-9268-F16D415B41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c9ff"/>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00BF8E-775A-43FD-A5F6-37AA729153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c9ff"/>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D29BCF-36C4-4911-B03B-14614B0C2B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c9ff"/>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C883CA-BCAC-4313-98C8-2287F5AD22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c9ff"/>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EF2AAA-E14A-4C42-A720-A1D18F130F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c9ff"/>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DEEABE-1C22-4E33-AAC8-8190F6918E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c9ff"/>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BF125A-8820-465C-A0EF-B360BD93A3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c9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C81CA8-6A19-4B67-BE56-7E7A077059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AA01DA-59AE-4F34-B0B1-DD23DF10BF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c9ff"/>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B7F8D4-2AFC-494E-BCD2-C1CB5AEEAD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c9ff"/>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A9420C-D93C-4481-868D-7348D01A8F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c9ff"/>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FC6F1B-8A33-401B-9CB4-7DD7B10872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9900cc"/>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10320" y="1440"/>
            <a:ext cx="17543160" cy="13690440"/>
            <a:chOff x="-8410320" y="1440"/>
            <a:chExt cx="17543160" cy="136904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cc99ff"/>
                </a:gs>
                <a:gs pos="100000">
                  <a:srgbClr val="5e46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 name=""/>
            <p:cNvSpPr/>
            <p:nvPr/>
          </p:nvSpPr>
          <p:spPr>
            <a:xfrm>
              <a:off x="-8410320" y="1440"/>
              <a:ext cx="168206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c9ff"/>
                </a:solidFill>
                <a:latin typeface="Arial"/>
              </a:rPr>
              <a:t>Click to edit the title text format</a:t>
            </a:r>
            <a:endParaRPr b="0" lang="en-US" sz="4400" spc="-1" strike="noStrike">
              <a:solidFill>
                <a:srgbClr val="e4c9ff"/>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lt;date/time&gt;</a:t>
            </a:r>
            <a:endParaRPr b="0" lang="en-US" sz="1400" spc="-1" strike="noStrike">
              <a:solidFill>
                <a:srgbClr val="ffffff"/>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lt;footer&gt;</a:t>
            </a:r>
            <a:endParaRPr b="0" lang="en-US" sz="1400" spc="-1" strike="noStrike">
              <a:solidFill>
                <a:srgbClr val="ffffff"/>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71B2F-B84C-447D-989C-FD70F6B77663}" type="slidenum">
              <a:rPr b="0" lang="en-US" sz="1400" spc="-1" strike="noStrike">
                <a:solidFill>
                  <a:srgbClr val="ffff00"/>
                </a:solidFill>
                <a:latin typeface="Times New Roman"/>
              </a:rPr>
              <a:t>&lt;number&gt;</a:t>
            </a:fld>
            <a:endParaRPr b="0" lang="en-US" sz="1400" spc="-1" strike="noStrike">
              <a:solidFill>
                <a:srgbClr val="ffffff"/>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lick to edit the outline text format</a:t>
            </a:r>
            <a:endParaRPr b="0" lang="en-US" sz="3200" spc="-1" strike="noStrike">
              <a:solidFill>
                <a:srgbClr val="ffff00"/>
              </a:solidFill>
              <a:latin typeface="Times New Roman"/>
            </a:endParaRPr>
          </a:p>
          <a:p>
            <a:pPr lvl="1" marL="735480" indent="-282960">
              <a:spcBef>
                <a:spcPts val="799"/>
              </a:spcBef>
              <a:buClr>
                <a:srgbClr val="ffff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econd Outline Level</a:t>
            </a:r>
            <a:endParaRPr b="0" lang="en-US" sz="3200" spc="-1" strike="noStrike">
              <a:solidFill>
                <a:srgbClr val="ffff00"/>
              </a:solidFill>
              <a:latin typeface="Times New Roman"/>
            </a:endParaRPr>
          </a:p>
          <a:p>
            <a:pPr lvl="2" marL="1131480" indent="-226080">
              <a:spcBef>
                <a:spcPts val="799"/>
              </a:spcBef>
              <a:buClr>
                <a:srgbClr val="cce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Third Outline Level</a:t>
            </a:r>
            <a:endParaRPr b="0" lang="en-US" sz="3200" spc="-1" strike="noStrike">
              <a:solidFill>
                <a:srgbClr val="ffff00"/>
              </a:solidFill>
              <a:latin typeface="Times New Roman"/>
            </a:endParaRPr>
          </a:p>
          <a:p>
            <a:pPr lvl="3" marL="158400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Fourth Outline Level</a:t>
            </a:r>
            <a:endParaRPr b="0" lang="en-US" sz="3200" spc="-1" strike="noStrike">
              <a:solidFill>
                <a:srgbClr val="ffff00"/>
              </a:solidFill>
              <a:latin typeface="Times New Roman"/>
            </a:endParaRPr>
          </a:p>
          <a:p>
            <a:pPr lvl="4"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Fifth Outline Level</a:t>
            </a:r>
            <a:endParaRPr b="0" lang="en-US" sz="3200" spc="-1" strike="noStrike">
              <a:solidFill>
                <a:srgbClr val="ffff00"/>
              </a:solidFill>
              <a:latin typeface="Times New Roman"/>
            </a:endParaRPr>
          </a:p>
          <a:p>
            <a:pPr lvl="5" marL="203652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ixth Outline Level</a:t>
            </a:r>
            <a:endParaRPr b="0" lang="en-US" sz="3200" spc="-1" strike="noStrike">
              <a:solidFill>
                <a:srgbClr val="ffff00"/>
              </a:solidFill>
              <a:latin typeface="Times New Roman"/>
            </a:endParaRPr>
          </a:p>
          <a:p>
            <a:pPr lvl="6" marL="203652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eventh Outline Level</a:t>
            </a:r>
            <a:endParaRPr b="0" lang="en-US" sz="3200" spc="-1" strike="noStrike">
              <a:solidFill>
                <a:srgbClr val="ffff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9900cc"/>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7761240" y="1460520"/>
            <a:ext cx="16905240" cy="10794600"/>
            <a:chOff x="-7761240" y="1460520"/>
            <a:chExt cx="16905240" cy="1079460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cc99ff"/>
                </a:gs>
                <a:gs pos="100000">
                  <a:srgbClr val="5e46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46" name=""/>
            <p:cNvSpPr/>
            <p:nvPr/>
          </p:nvSpPr>
          <p:spPr>
            <a:xfrm>
              <a:off x="-7761240" y="1460520"/>
              <a:ext cx="1345212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grpSp>
      <p:sp>
        <p:nvSpPr>
          <p:cNvPr id="4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c9ff"/>
                </a:solidFill>
                <a:latin typeface="Arial"/>
              </a:rPr>
              <a:t>Click to edit the title text format</a:t>
            </a:r>
            <a:endParaRPr b="0" lang="en-US" sz="4400" spc="-1" strike="noStrike">
              <a:solidFill>
                <a:srgbClr val="e4c9ff"/>
              </a:solidFill>
              <a:latin typeface="Arial"/>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FEECF-5FDF-4A16-97FE-0244FFA733AE}" type="slidenum">
              <a:rPr b="0" lang="en-US" sz="1400" spc="-1" strike="noStrike">
                <a:solidFill>
                  <a:srgbClr val="ffff00"/>
                </a:solidFill>
                <a:latin typeface="Times New Roman"/>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lick to edit the outline text format</a:t>
            </a:r>
            <a:endParaRPr b="0" lang="en-US" sz="3200" spc="-1" strike="noStrike">
              <a:solidFill>
                <a:srgbClr val="ffff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Second Outline Level</a:t>
            </a:r>
            <a:endParaRPr b="0" lang="en-US" sz="2800" spc="-1" strike="noStrike">
              <a:solidFill>
                <a:srgbClr val="ffff00"/>
              </a:solidFill>
              <a:latin typeface="Times New Roman"/>
            </a:endParaRPr>
          </a:p>
          <a:p>
            <a:pPr lvl="2" marL="914400" algn="ctr">
              <a:spcBef>
                <a:spcPts val="601"/>
              </a:spcBef>
              <a:buClr>
                <a:srgbClr val="cce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ird Outline Level</a:t>
            </a:r>
            <a:endParaRPr b="0" lang="en-US" sz="2400" spc="-1" strike="noStrike">
              <a:solidFill>
                <a:srgbClr val="ffff00"/>
              </a:solidFill>
              <a:latin typeface="Times New Roman"/>
            </a:endParaRPr>
          </a:p>
          <a:p>
            <a:pPr lvl="3" marL="1371600" algn="ctr">
              <a:spcBef>
                <a:spcPts val="499"/>
              </a:spcBef>
              <a:buClr>
                <a:srgbClr val="ffff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Fourth Outline Level</a:t>
            </a:r>
            <a:endParaRPr b="0" lang="en-US" sz="2000" spc="-1" strike="noStrike">
              <a:solidFill>
                <a:srgbClr val="ffff00"/>
              </a:solidFill>
              <a:latin typeface="Times New Roman"/>
            </a:endParaRPr>
          </a:p>
          <a:p>
            <a:pPr lvl="4" marL="1828800" algn="ctr">
              <a:spcBef>
                <a:spcPts val="499"/>
              </a:spcBef>
              <a:buClr>
                <a:srgbClr val="ccec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Fifth Outline Level</a:t>
            </a:r>
            <a:endParaRPr b="0" lang="en-US" sz="2000" spc="-1" strike="noStrike">
              <a:solidFill>
                <a:srgbClr val="ffff00"/>
              </a:solidFill>
              <a:latin typeface="Times New Roman"/>
            </a:endParaRPr>
          </a:p>
          <a:p>
            <a:pPr lvl="5" marL="1828800">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Sixth Outline Level</a:t>
            </a:r>
            <a:endParaRPr b="0" lang="en-US" sz="2000" spc="-1" strike="noStrike">
              <a:solidFill>
                <a:srgbClr val="ffff00"/>
              </a:solidFill>
              <a:latin typeface="Times New Roman"/>
            </a:endParaRPr>
          </a:p>
          <a:p>
            <a:pPr lvl="6" marL="1828800">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Seventh Outline Level</a:t>
            </a:r>
            <a:endParaRPr b="0" lang="en-US" sz="2000" spc="-1" strike="noStrike">
              <a:solidFill>
                <a:srgbClr val="ffff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9900cc"/>
            </a:gs>
          </a:gsLst>
          <a:lin ang="108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838080" y="15998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c9ff"/>
                </a:solidFill>
                <a:latin typeface="Arial"/>
              </a:rPr>
              <a:t>Teaching the </a:t>
            </a:r>
            <a:r>
              <a:rPr b="0" i="1" lang="en-US" sz="4400" spc="-1" strike="noStrike">
                <a:solidFill>
                  <a:srgbClr val="e4c9ff"/>
                </a:solidFill>
                <a:latin typeface="Arial"/>
              </a:rPr>
              <a:t>Discovering the Real Me</a:t>
            </a:r>
            <a:r>
              <a:rPr b="0" lang="en-US" sz="4400" spc="-1" strike="noStrike">
                <a:solidFill>
                  <a:srgbClr val="e4c9ff"/>
                </a:solidFill>
                <a:latin typeface="Arial"/>
              </a:rPr>
              <a:t> Series</a:t>
            </a:r>
            <a:endParaRPr b="0" lang="en-US" sz="4400" spc="-1" strike="noStrike">
              <a:solidFill>
                <a:srgbClr val="e4c9ff"/>
              </a:solidFill>
              <a:latin typeface="Arial"/>
            </a:endParaRPr>
          </a:p>
        </p:txBody>
      </p:sp>
      <p:sp>
        <p:nvSpPr>
          <p:cNvPr id="96" name="PlaceHolder 2"/>
          <p:cNvSpPr>
            <a:spLocks noGrp="1"/>
          </p:cNvSpPr>
          <p:nvPr>
            <p:ph type="subTitle"/>
          </p:nvPr>
        </p:nvSpPr>
        <p:spPr>
          <a:xfrm>
            <a:off x="1600200" y="2895120"/>
            <a:ext cx="6400800" cy="1752840"/>
          </a:xfrm>
          <a:prstGeom prst="rect">
            <a:avLst/>
          </a:prstGeom>
          <a:no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tudent Textbook and Teacher’s Manual 12</a:t>
            </a:r>
            <a:endParaRPr b="0" lang="en-US" sz="32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9900cc"/>
            </a:gs>
          </a:gsLst>
          <a:lin ang="108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c9ff"/>
                </a:solidFill>
                <a:latin typeface="Arial"/>
              </a:rPr>
              <a:t>“</a:t>
            </a:r>
            <a:r>
              <a:rPr b="0" lang="en-US" sz="4400" spc="-1" strike="noStrike">
                <a:solidFill>
                  <a:srgbClr val="e4c9ff"/>
                </a:solidFill>
                <a:latin typeface="Arial"/>
              </a:rPr>
              <a:t>Our Emotional Life”: Affective Objectives</a:t>
            </a:r>
            <a:endParaRPr b="0" lang="en-US" sz="4400" spc="-1" strike="noStrike">
              <a:solidFill>
                <a:srgbClr val="e4c9ff"/>
              </a:solidFill>
              <a:latin typeface="Arial"/>
            </a:endParaRPr>
          </a:p>
        </p:txBody>
      </p:sp>
      <p:sp>
        <p:nvSpPr>
          <p:cNvPr id="185"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Be grateful that positive emotions are stronger than negative ones</a:t>
            </a:r>
            <a:endParaRPr b="0" lang="en-US" sz="2800" spc="-1" strike="noStrike">
              <a:solidFill>
                <a:srgbClr val="ffff00"/>
              </a:solidFill>
              <a:latin typeface="Times New Roman"/>
            </a:endParaRPr>
          </a:p>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Desire to cultivate positive emotions</a:t>
            </a:r>
            <a:endParaRPr b="0" lang="en-US" sz="2800" spc="-1" strike="noStrike">
              <a:solidFill>
                <a:srgbClr val="ffff00"/>
              </a:solidFill>
              <a:latin typeface="Times New Roman"/>
            </a:endParaRPr>
          </a:p>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Desire to let reason guide emotion</a:t>
            </a:r>
            <a:endParaRPr b="0" lang="en-US" sz="2800" spc="-1" strike="noStrike">
              <a:solidFill>
                <a:srgbClr val="ffff00"/>
              </a:solidFill>
              <a:latin typeface="Times New Roman"/>
            </a:endParaRPr>
          </a:p>
        </p:txBody>
      </p:sp>
      <p:sp>
        <p:nvSpPr>
          <p:cNvPr id="186" name=""/>
          <p:cNvSpPr/>
          <p:nvPr/>
        </p:nvSpPr>
        <p:spPr>
          <a:xfrm>
            <a:off x="1219320" y="2209680"/>
            <a:ext cx="2895480" cy="3353040"/>
          </a:xfrm>
          <a:custGeom>
            <a:avLst/>
            <a:gdLst>
              <a:gd name="textAreaLeft" fmla="*/ 680400 w 2895480"/>
              <a:gd name="textAreaRight" fmla="*/ 2212920 w 2895480"/>
              <a:gd name="textAreaTop" fmla="*/ 394200 h 3353040"/>
              <a:gd name="textAreaBottom" fmla="*/ 2103120 h 335304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ccecff"/>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9900cc"/>
            </a:gs>
          </a:gsLst>
          <a:lin ang="108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c9ff"/>
                </a:solidFill>
                <a:latin typeface="Arial"/>
              </a:rPr>
              <a:t>“</a:t>
            </a:r>
            <a:r>
              <a:rPr b="0" lang="en-US" sz="4400" spc="-1" strike="noStrike">
                <a:solidFill>
                  <a:srgbClr val="e4c9ff"/>
                </a:solidFill>
                <a:latin typeface="Arial"/>
              </a:rPr>
              <a:t>Our Emotional Life”: Behavioral Objectives</a:t>
            </a:r>
            <a:endParaRPr b="0" lang="en-US" sz="4400" spc="-1" strike="noStrike">
              <a:solidFill>
                <a:srgbClr val="e4c9ff"/>
              </a:solidFill>
              <a:latin typeface="Arial"/>
            </a:endParaRPr>
          </a:p>
        </p:txBody>
      </p:sp>
      <p:sp>
        <p:nvSpPr>
          <p:cNvPr id="188"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Identify and describe different emotions</a:t>
            </a:r>
            <a:endParaRPr b="0" lang="en-US" sz="3200" spc="-1" strike="noStrike">
              <a:solidFill>
                <a:srgbClr val="ffff00"/>
              </a:solidFill>
              <a:latin typeface="Times New Roman"/>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Apply rule that in romantic matters, it is better to follow reason rather than emotion</a:t>
            </a:r>
            <a:endParaRPr b="0" lang="en-US" sz="3200" spc="-1" strike="noStrike">
              <a:solidFill>
                <a:srgbClr val="ffff00"/>
              </a:solidFill>
              <a:latin typeface="Times New Roman"/>
            </a:endParaRPr>
          </a:p>
        </p:txBody>
      </p:sp>
      <p:pic>
        <p:nvPicPr>
          <p:cNvPr id="189" name="" descr=""/>
          <p:cNvPicPr/>
          <p:nvPr/>
        </p:nvPicPr>
        <p:blipFill>
          <a:blip r:embed="rId1"/>
          <a:stretch/>
        </p:blipFill>
        <p:spPr>
          <a:xfrm>
            <a:off x="4876920" y="2895480"/>
            <a:ext cx="3581280" cy="2286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9900cc"/>
            </a:gs>
          </a:gsLst>
          <a:lin ang="108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6212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c9ff"/>
                </a:solidFill>
                <a:latin typeface="Arial"/>
              </a:rPr>
              <a:t>Lesson Plan</a:t>
            </a:r>
            <a:r>
              <a:rPr b="0" lang="en-US" sz="4400" spc="-1" strike="noStrike">
                <a:solidFill>
                  <a:srgbClr val="e4c9ff"/>
                </a:solidFill>
                <a:latin typeface="Arial"/>
                <a:ea typeface="Arial"/>
              </a:rPr>
              <a:t>—</a:t>
            </a:r>
            <a:r>
              <a:rPr b="0" lang="en-US" sz="4400" spc="-1" strike="noStrike">
                <a:solidFill>
                  <a:srgbClr val="e4c9ff"/>
                </a:solidFill>
                <a:latin typeface="Arial"/>
              </a:rPr>
              <a:t>Activity</a:t>
            </a:r>
            <a:endParaRPr b="0" lang="en-US" sz="4400" spc="-1" strike="noStrike">
              <a:solidFill>
                <a:srgbClr val="e4c9ff"/>
              </a:solidFill>
              <a:latin typeface="Arial"/>
            </a:endParaRPr>
          </a:p>
        </p:txBody>
      </p:sp>
      <p:sp>
        <p:nvSpPr>
          <p:cNvPr id="191" name="PlaceHolder 2"/>
          <p:cNvSpPr>
            <a:spLocks noGrp="1"/>
          </p:cNvSpPr>
          <p:nvPr>
            <p:ph/>
          </p:nvPr>
        </p:nvSpPr>
        <p:spPr>
          <a:xfrm>
            <a:off x="4648320" y="1599840"/>
            <a:ext cx="4495680" cy="4876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    </a:t>
            </a:r>
            <a:r>
              <a:rPr b="0" lang="en-US" sz="3200" spc="-1" strike="noStrike">
                <a:solidFill>
                  <a:srgbClr val="ffff00"/>
                </a:solidFill>
                <a:latin typeface="Times New Roman"/>
              </a:rPr>
              <a:t>Students will:</a:t>
            </a:r>
            <a:endParaRPr b="0" lang="en-US" sz="3200" spc="-1" strike="noStrike">
              <a:solidFill>
                <a:srgbClr val="ffff00"/>
              </a:solidFill>
              <a:latin typeface="Times New Roman"/>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 </a:t>
            </a:r>
            <a:r>
              <a:rPr b="0" lang="en-US" sz="3200" spc="-1" strike="noStrike">
                <a:solidFill>
                  <a:srgbClr val="ffff00"/>
                </a:solidFill>
                <a:latin typeface="Times New Roman"/>
              </a:rPr>
              <a:t>Identify emotions shown by people in pictures, photos, magazines, etc.</a:t>
            </a:r>
            <a:endParaRPr b="0" lang="en-US" sz="3200" spc="-1" strike="noStrike">
              <a:solidFill>
                <a:srgbClr val="ffff00"/>
              </a:solidFill>
              <a:latin typeface="Times New Roman"/>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List positive emotions</a:t>
            </a:r>
            <a:endParaRPr b="0" lang="en-US" sz="3200" spc="-1" strike="noStrike">
              <a:solidFill>
                <a:srgbClr val="ffff00"/>
              </a:solidFill>
              <a:latin typeface="Times New Roman"/>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Record their emotions throughout a week</a:t>
            </a:r>
            <a:endParaRPr b="0" lang="en-US" sz="3200" spc="-1" strike="noStrike">
              <a:solidFill>
                <a:srgbClr val="ffff00"/>
              </a:solidFill>
              <a:latin typeface="Times New Roman"/>
            </a:endParaRPr>
          </a:p>
        </p:txBody>
      </p:sp>
      <p:pic>
        <p:nvPicPr>
          <p:cNvPr id="192" name="" descr=""/>
          <p:cNvPicPr/>
          <p:nvPr/>
        </p:nvPicPr>
        <p:blipFill>
          <a:blip r:embed="rId1"/>
          <a:stretch/>
        </p:blipFill>
        <p:spPr>
          <a:xfrm>
            <a:off x="1100160" y="1981080"/>
            <a:ext cx="2981160" cy="4114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9900cc"/>
            </a:gs>
          </a:gsLst>
          <a:lin ang="108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c9ff"/>
                </a:solidFill>
                <a:latin typeface="Arial"/>
              </a:rPr>
              <a:t>Lesson Plan</a:t>
            </a:r>
            <a:r>
              <a:rPr b="0" lang="en-US" sz="4400" spc="-1" strike="noStrike">
                <a:solidFill>
                  <a:srgbClr val="e4c9ff"/>
                </a:solidFill>
                <a:latin typeface="Arial"/>
                <a:ea typeface="Arial"/>
              </a:rPr>
              <a:t>—</a:t>
            </a:r>
            <a:r>
              <a:rPr b="0" lang="en-US" sz="4400" spc="-1" strike="noStrike">
                <a:solidFill>
                  <a:srgbClr val="e4c9ff"/>
                </a:solidFill>
                <a:latin typeface="Arial"/>
              </a:rPr>
              <a:t>Discussion</a:t>
            </a:r>
            <a:endParaRPr b="0" lang="en-US" sz="4400" spc="-1" strike="noStrike">
              <a:solidFill>
                <a:srgbClr val="e4c9ff"/>
              </a:solidFill>
              <a:latin typeface="Arial"/>
            </a:endParaRPr>
          </a:p>
        </p:txBody>
      </p:sp>
      <p:sp>
        <p:nvSpPr>
          <p:cNvPr id="194" name="PlaceHolder 2"/>
          <p:cNvSpPr>
            <a:spLocks noGrp="1"/>
          </p:cNvSpPr>
          <p:nvPr>
            <p:ph/>
          </p:nvPr>
        </p:nvSpPr>
        <p:spPr>
          <a:xfrm>
            <a:off x="151920" y="1752120"/>
            <a:ext cx="4343400" cy="4876920"/>
          </a:xfrm>
          <a:prstGeom prst="rect">
            <a:avLst/>
          </a:prstGeom>
          <a:noFill/>
          <a:ln w="0">
            <a:noFill/>
          </a:ln>
        </p:spPr>
        <p:txBody>
          <a:bodyPr lIns="90000" rIns="90000" tIns="46800" bIns="46800"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tudents sing famous love songs about being “crazy”, “out of my mind”, “losing control”</a:t>
            </a:r>
            <a:endParaRPr b="0" lang="en-US" sz="3200" spc="-1" strike="noStrike">
              <a:solidFill>
                <a:srgbClr val="ffff00"/>
              </a:solidFill>
              <a:latin typeface="Times New Roman"/>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tudents discuss story where reason wins over emotion in a “love” story</a:t>
            </a:r>
            <a:endParaRPr b="0" lang="en-US" sz="3200" spc="-1" strike="noStrike">
              <a:solidFill>
                <a:srgbClr val="ffff00"/>
              </a:solidFill>
              <a:latin typeface="Times New Roman"/>
            </a:endParaRPr>
          </a:p>
        </p:txBody>
      </p:sp>
      <p:pic>
        <p:nvPicPr>
          <p:cNvPr id="195" name="" descr=""/>
          <p:cNvPicPr/>
          <p:nvPr/>
        </p:nvPicPr>
        <p:blipFill>
          <a:blip r:embed="rId1"/>
          <a:stretch/>
        </p:blipFill>
        <p:spPr>
          <a:xfrm>
            <a:off x="4419720" y="2133720"/>
            <a:ext cx="4190760" cy="4128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9900cc"/>
            </a:gs>
          </a:gsLst>
          <a:lin ang="108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c9ff"/>
                </a:solidFill>
                <a:latin typeface="Arial"/>
              </a:rPr>
              <a:t>Sample Chapter 3: “A Motto for Life”</a:t>
            </a:r>
            <a:endParaRPr b="0" lang="en-US" sz="4400" spc="-1" strike="noStrike">
              <a:solidFill>
                <a:srgbClr val="e4c9ff"/>
              </a:solidFill>
              <a:latin typeface="Arial"/>
            </a:endParaRPr>
          </a:p>
        </p:txBody>
      </p:sp>
      <p:sp>
        <p:nvSpPr>
          <p:cNvPr id="197" name="PlaceHolder 2"/>
          <p:cNvSpPr>
            <a:spLocks noGrp="1"/>
          </p:cNvSpPr>
          <p:nvPr>
            <p:ph/>
          </p:nvPr>
        </p:nvSpPr>
        <p:spPr>
          <a:xfrm>
            <a:off x="685440" y="2895480"/>
            <a:ext cx="380988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a:t>
            </a:r>
            <a:r>
              <a:rPr b="0" lang="en-US" sz="3200" spc="-1" strike="noStrike">
                <a:solidFill>
                  <a:srgbClr val="ffff00"/>
                </a:solidFill>
                <a:latin typeface="Times New Roman"/>
              </a:rPr>
              <a:t>An eye for an eye only leaves the whole world blind.”</a:t>
            </a:r>
            <a:endParaRPr b="0" lang="en-US" sz="3200" spc="-1" strike="noStrike">
              <a:solidFill>
                <a:srgbClr val="ffff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Mohandas K. Gandhi</a:t>
            </a:r>
            <a:endParaRPr b="0" lang="en-US" sz="3200" spc="-1" strike="noStrike">
              <a:solidFill>
                <a:srgbClr val="ffff00"/>
              </a:solidFill>
              <a:latin typeface="Times New Roman"/>
            </a:endParaRPr>
          </a:p>
        </p:txBody>
      </p:sp>
      <p:pic>
        <p:nvPicPr>
          <p:cNvPr id="198" name="" descr=""/>
          <p:cNvPicPr/>
          <p:nvPr/>
        </p:nvPicPr>
        <p:blipFill>
          <a:blip r:embed="rId1"/>
          <a:stretch/>
        </p:blipFill>
        <p:spPr>
          <a:xfrm>
            <a:off x="4648320" y="1981080"/>
            <a:ext cx="3809880" cy="4114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9900cc"/>
            </a:gs>
          </a:gsLst>
          <a:lin ang="108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c9ff"/>
                </a:solidFill>
                <a:latin typeface="Arial"/>
              </a:rPr>
              <a:t>Main Points </a:t>
            </a:r>
            <a:endParaRPr b="0" lang="en-US" sz="4400" spc="-1" strike="noStrike">
              <a:solidFill>
                <a:srgbClr val="e4c9ff"/>
              </a:solidFill>
              <a:latin typeface="Arial"/>
            </a:endParaRPr>
          </a:p>
        </p:txBody>
      </p:sp>
      <p:sp>
        <p:nvSpPr>
          <p:cNvPr id="2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Moral codes throughout history have evolved from greater vengeance to equal vengeance to forgiving the enemy</a:t>
            </a:r>
            <a:endParaRPr b="0" lang="en-US" sz="3200" spc="-1" strike="noStrike">
              <a:solidFill>
                <a:srgbClr val="ffff00"/>
              </a:solidFill>
              <a:latin typeface="Times New Roman"/>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Variants of wise sayings like The Golden Rule are found in all cultures</a:t>
            </a:r>
            <a:endParaRPr b="0" lang="en-US" sz="3200" spc="-1" strike="noStrike">
              <a:solidFill>
                <a:srgbClr val="ffff00"/>
              </a:solidFill>
              <a:latin typeface="Times New Roman"/>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A rule, motto, or mission statement to live by helps direct one’s efforts in life</a:t>
            </a:r>
            <a:endParaRPr b="0" lang="en-US" sz="32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9900cc"/>
            </a:gs>
          </a:gsLst>
          <a:lin ang="108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c9ff"/>
                </a:solidFill>
                <a:latin typeface="Arial"/>
              </a:rPr>
              <a:t>“</a:t>
            </a:r>
            <a:r>
              <a:rPr b="0" lang="en-US" sz="4400" spc="-1" strike="noStrike">
                <a:solidFill>
                  <a:srgbClr val="e4c9ff"/>
                </a:solidFill>
                <a:latin typeface="Arial"/>
              </a:rPr>
              <a:t>A Motto for Life”: Cognitive Objectives</a:t>
            </a:r>
            <a:endParaRPr b="0" lang="en-US" sz="4400" spc="-1" strike="noStrike">
              <a:solidFill>
                <a:srgbClr val="e4c9ff"/>
              </a:solidFill>
              <a:latin typeface="Arial"/>
            </a:endParaRPr>
          </a:p>
        </p:txBody>
      </p:sp>
      <p:sp>
        <p:nvSpPr>
          <p:cNvPr id="202"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Students will understand what mottoes and mission statements are</a:t>
            </a:r>
            <a:endParaRPr b="0" lang="en-US" sz="2800" spc="-1" strike="noStrike">
              <a:solidFill>
                <a:srgbClr val="ffff00"/>
              </a:solidFill>
              <a:latin typeface="Times New Roman"/>
            </a:endParaRPr>
          </a:p>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y will learn examples of famous mottoes and mission statements and how they direct efforts </a:t>
            </a:r>
            <a:endParaRPr b="0" lang="en-US" sz="2800" spc="-1" strike="noStrike">
              <a:solidFill>
                <a:srgbClr val="ffff00"/>
              </a:solidFill>
              <a:latin typeface="Times New Roman"/>
            </a:endParaRPr>
          </a:p>
        </p:txBody>
      </p:sp>
      <p:pic>
        <p:nvPicPr>
          <p:cNvPr id="203" name="" descr=""/>
          <p:cNvPicPr/>
          <p:nvPr/>
        </p:nvPicPr>
        <p:blipFill>
          <a:blip r:embed="rId1"/>
          <a:stretch/>
        </p:blipFill>
        <p:spPr>
          <a:xfrm>
            <a:off x="4741920" y="1981080"/>
            <a:ext cx="3620880" cy="4114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9900cc"/>
            </a:gs>
          </a:gsLst>
          <a:lin ang="108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c9ff"/>
                </a:solidFill>
                <a:latin typeface="Arial"/>
              </a:rPr>
              <a:t>“</a:t>
            </a:r>
            <a:r>
              <a:rPr b="0" lang="en-US" sz="4400" spc="-1" strike="noStrike">
                <a:solidFill>
                  <a:srgbClr val="e4c9ff"/>
                </a:solidFill>
                <a:latin typeface="Arial"/>
              </a:rPr>
              <a:t>A Motto for Life”: Affective Objectives </a:t>
            </a:r>
            <a:endParaRPr b="0" lang="en-US" sz="4400" spc="-1" strike="noStrike">
              <a:solidFill>
                <a:srgbClr val="e4c9ff"/>
              </a:solidFill>
              <a:latin typeface="Arial"/>
            </a:endParaRPr>
          </a:p>
        </p:txBody>
      </p:sp>
      <p:sp>
        <p:nvSpPr>
          <p:cNvPr id="205" name="PlaceHolder 2"/>
          <p:cNvSpPr>
            <a:spLocks noGrp="1"/>
          </p:cNvSpPr>
          <p:nvPr>
            <p:ph/>
          </p:nvPr>
        </p:nvSpPr>
        <p:spPr>
          <a:xfrm>
            <a:off x="4571640" y="2743200"/>
            <a:ext cx="3809880" cy="4114800"/>
          </a:xfrm>
          <a:prstGeom prst="rect">
            <a:avLst/>
          </a:prstGeom>
          <a:noFill/>
          <a:ln w="0">
            <a:noFill/>
          </a:ln>
        </p:spPr>
        <p:txBody>
          <a:bodyPr lIns="90000" rIns="90000" tIns="46800" bIns="46800" anchor="t">
            <a:normAutofit/>
          </a:bodyPr>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Students will want to adopt good mottoes and mission statements and be guided by them </a:t>
            </a:r>
            <a:endParaRPr b="0" lang="en-US" sz="2800" spc="-1" strike="noStrike">
              <a:solidFill>
                <a:srgbClr val="ffff00"/>
              </a:solidFill>
              <a:latin typeface="Times New Roman"/>
            </a:endParaRPr>
          </a:p>
        </p:txBody>
      </p:sp>
      <p:sp>
        <p:nvSpPr>
          <p:cNvPr id="206" name=""/>
          <p:cNvSpPr/>
          <p:nvPr/>
        </p:nvSpPr>
        <p:spPr>
          <a:xfrm>
            <a:off x="914400" y="2362320"/>
            <a:ext cx="3276720" cy="3352680"/>
          </a:xfrm>
          <a:custGeom>
            <a:avLst/>
            <a:gdLst>
              <a:gd name="textAreaLeft" fmla="*/ 770040 w 3276720"/>
              <a:gd name="textAreaRight" fmla="*/ 2504520 w 3276720"/>
              <a:gd name="textAreaTop" fmla="*/ 394200 h 3352680"/>
              <a:gd name="textAreaBottom" fmla="*/ 2103120 h 335268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ccecff"/>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9900cc"/>
            </a:gs>
          </a:gsLst>
          <a:lin ang="108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c9ff"/>
                </a:solidFill>
                <a:latin typeface="Arial"/>
              </a:rPr>
              <a:t>“</a:t>
            </a:r>
            <a:r>
              <a:rPr b="0" lang="en-US" sz="4400" spc="-1" strike="noStrike">
                <a:solidFill>
                  <a:srgbClr val="e4c9ff"/>
                </a:solidFill>
                <a:latin typeface="Arial"/>
              </a:rPr>
              <a:t>A Motto for Life”: Behavioral Objectives </a:t>
            </a:r>
            <a:endParaRPr b="0" lang="en-US" sz="4400" spc="-1" strike="noStrike">
              <a:solidFill>
                <a:srgbClr val="e4c9ff"/>
              </a:solidFill>
              <a:latin typeface="Arial"/>
            </a:endParaRPr>
          </a:p>
        </p:txBody>
      </p:sp>
      <p:sp>
        <p:nvSpPr>
          <p:cNvPr id="208" name="PlaceHolder 2"/>
          <p:cNvSpPr>
            <a:spLocks noGrp="1"/>
          </p:cNvSpPr>
          <p:nvPr>
            <p:ph/>
          </p:nvPr>
        </p:nvSpPr>
        <p:spPr>
          <a:xfrm>
            <a:off x="685440" y="1981080"/>
            <a:ext cx="3809880" cy="4648320"/>
          </a:xfrm>
          <a:prstGeom prst="rect">
            <a:avLst/>
          </a:prstGeom>
          <a:noFill/>
          <a:ln w="0">
            <a:noFill/>
          </a:ln>
        </p:spPr>
        <p:txBody>
          <a:bodyPr lIns="90000" rIns="90000" tIns="46800" bIns="46800" anchor="t">
            <a:normAutofit/>
          </a:bodyPr>
          <a:p>
            <a:pPr marL="343080" indent="-343080">
              <a:lnSpc>
                <a:spcPct val="90000"/>
              </a:lnSpc>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tudents will name their personal motto</a:t>
            </a:r>
            <a:endParaRPr b="0" lang="en-US" sz="3200" spc="-1" strike="noStrike">
              <a:solidFill>
                <a:srgbClr val="ffff00"/>
              </a:solidFill>
              <a:latin typeface="Times New Roman"/>
            </a:endParaRPr>
          </a:p>
          <a:p>
            <a:pPr marL="343080" indent="-343080">
              <a:lnSpc>
                <a:spcPct val="90000"/>
              </a:lnSpc>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tudents will distinguish the values in some mission statements</a:t>
            </a:r>
            <a:endParaRPr b="0" lang="en-US" sz="3200" spc="-1" strike="noStrike">
              <a:solidFill>
                <a:srgbClr val="ffff00"/>
              </a:solidFill>
              <a:latin typeface="Times New Roman"/>
            </a:endParaRPr>
          </a:p>
          <a:p>
            <a:pPr marL="343080" indent="-343080">
              <a:lnSpc>
                <a:spcPct val="90000"/>
              </a:lnSpc>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tudents will craft their own mission statements</a:t>
            </a:r>
            <a:endParaRPr b="0" lang="en-US" sz="3200" spc="-1" strike="noStrike">
              <a:solidFill>
                <a:srgbClr val="ffff00"/>
              </a:solidFill>
              <a:latin typeface="Times New Roman"/>
            </a:endParaRPr>
          </a:p>
        </p:txBody>
      </p:sp>
      <p:pic>
        <p:nvPicPr>
          <p:cNvPr id="209" name="" descr=""/>
          <p:cNvPicPr/>
          <p:nvPr/>
        </p:nvPicPr>
        <p:blipFill>
          <a:blip r:embed="rId1"/>
          <a:stretch/>
        </p:blipFill>
        <p:spPr>
          <a:xfrm>
            <a:off x="4876920" y="2819520"/>
            <a:ext cx="3809880" cy="2431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9900cc"/>
            </a:gs>
          </a:gsLst>
          <a:lin ang="108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c9ff"/>
                </a:solidFill>
                <a:latin typeface="Arial"/>
              </a:rPr>
              <a:t>Lesson Plan—Discussion</a:t>
            </a:r>
            <a:endParaRPr b="0" lang="en-US" sz="4400" spc="-1" strike="noStrike">
              <a:solidFill>
                <a:srgbClr val="e4c9ff"/>
              </a:solidFill>
              <a:latin typeface="Arial"/>
            </a:endParaRPr>
          </a:p>
        </p:txBody>
      </p:sp>
      <p:sp>
        <p:nvSpPr>
          <p:cNvPr id="211"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3200" spc="-1" strike="noStrike">
                <a:solidFill>
                  <a:srgbClr val="ffff00"/>
                </a:solidFill>
                <a:latin typeface="Times New Roman"/>
              </a:rPr>
              <a:t>Famous mottoes:</a:t>
            </a:r>
            <a:endParaRPr b="0" lang="en-US" sz="3200" spc="-1" strike="noStrike">
              <a:solidFill>
                <a:srgbClr val="ffff00"/>
              </a:solidFill>
              <a:latin typeface="Times New Roman"/>
            </a:endParaRPr>
          </a:p>
          <a:p>
            <a:pPr marL="343080" indent="-343080">
              <a:lnSpc>
                <a:spcPct val="90000"/>
              </a:lnSpc>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Nothing ventured, nothing gained</a:t>
            </a:r>
            <a:endParaRPr b="0" lang="en-US" sz="3200" spc="-1" strike="noStrike">
              <a:solidFill>
                <a:srgbClr val="ffff00"/>
              </a:solidFill>
              <a:latin typeface="Times New Roman"/>
            </a:endParaRPr>
          </a:p>
          <a:p>
            <a:pPr marL="343080" indent="-343080">
              <a:lnSpc>
                <a:spcPct val="90000"/>
              </a:lnSpc>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A penny saved is a penny earned</a:t>
            </a:r>
            <a:endParaRPr b="0" lang="en-US" sz="3200" spc="-1" strike="noStrike">
              <a:solidFill>
                <a:srgbClr val="ffff00"/>
              </a:solidFill>
              <a:latin typeface="Times New Roman"/>
            </a:endParaRPr>
          </a:p>
          <a:p>
            <a:pPr marL="343080" indent="-343080">
              <a:lnSpc>
                <a:spcPct val="90000"/>
              </a:lnSpc>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What goes around comes around </a:t>
            </a:r>
            <a:endParaRPr b="0" lang="en-US" sz="3200" spc="-1" strike="noStrike">
              <a:solidFill>
                <a:srgbClr val="ffff00"/>
              </a:solidFill>
              <a:latin typeface="Times New Roman"/>
            </a:endParaRPr>
          </a:p>
          <a:p>
            <a:pPr marL="343080" indent="-343080">
              <a:lnSpc>
                <a:spcPct val="90000"/>
              </a:lnSpc>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Waste not, want not</a:t>
            </a:r>
            <a:endParaRPr b="0" lang="en-US" sz="3200" spc="-1" strike="noStrike">
              <a:solidFill>
                <a:srgbClr val="ffff00"/>
              </a:solidFill>
              <a:latin typeface="Times New Roman"/>
            </a:endParaRPr>
          </a:p>
        </p:txBody>
      </p:sp>
      <p:sp>
        <p:nvSpPr>
          <p:cNvPr id="21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Famous mission statements:</a:t>
            </a:r>
            <a:endParaRPr b="0" lang="en-US" sz="3200" spc="-1" strike="noStrike">
              <a:solidFill>
                <a:srgbClr val="ffff00"/>
              </a:solidFill>
              <a:latin typeface="Times New Roman"/>
            </a:endParaRPr>
          </a:p>
          <a:p>
            <a:pPr marL="325800" indent="-325800">
              <a:lnSpc>
                <a:spcPct val="90000"/>
              </a:lnSpc>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Levi Strauss: Clothe the world</a:t>
            </a:r>
            <a:endParaRPr b="0" lang="en-US" sz="3200" spc="-1" strike="noStrike">
              <a:solidFill>
                <a:srgbClr val="ffff00"/>
              </a:solidFill>
              <a:latin typeface="Times New Roman"/>
            </a:endParaRPr>
          </a:p>
          <a:p>
            <a:pPr marL="325800" indent="-325800">
              <a:lnSpc>
                <a:spcPct val="90000"/>
              </a:lnSpc>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Ford:  Democratize the automobile</a:t>
            </a:r>
            <a:endParaRPr b="0" lang="en-US" sz="3200" spc="-1" strike="noStrike">
              <a:solidFill>
                <a:srgbClr val="ffff00"/>
              </a:solidFill>
              <a:latin typeface="Times New Roman"/>
            </a:endParaRPr>
          </a:p>
          <a:p>
            <a:pPr marL="325800" indent="-325800">
              <a:lnSpc>
                <a:spcPct val="90000"/>
              </a:lnSpc>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Merck:  Preserve and improve human life</a:t>
            </a:r>
            <a:endParaRPr b="0" lang="en-US" sz="32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9900cc"/>
            </a:gs>
          </a:gsLst>
          <a:lin ang="108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e4c9ff"/>
                </a:solidFill>
                <a:latin typeface="Arial"/>
              </a:rPr>
              <a:t>Discovering the Real Me</a:t>
            </a:r>
            <a:r>
              <a:rPr b="0" lang="en-US" sz="4400" spc="-1" strike="noStrike">
                <a:solidFill>
                  <a:srgbClr val="e4c9ff"/>
                </a:solidFill>
                <a:latin typeface="Arial"/>
              </a:rPr>
              <a:t>:</a:t>
            </a:r>
            <a:br>
              <a:rPr sz="4400"/>
            </a:br>
            <a:r>
              <a:rPr b="0" lang="en-US" sz="4400" spc="-1" strike="noStrike">
                <a:solidFill>
                  <a:srgbClr val="e4c9ff"/>
                </a:solidFill>
                <a:latin typeface="Arial"/>
              </a:rPr>
              <a:t>Student Textbook 12: </a:t>
            </a:r>
            <a:r>
              <a:rPr b="0" i="1" lang="en-US" sz="4400" spc="-1" strike="noStrike">
                <a:solidFill>
                  <a:srgbClr val="ccecff"/>
                </a:solidFill>
                <a:latin typeface="Arial"/>
              </a:rPr>
              <a:t>Preparing for Life in Society</a:t>
            </a:r>
            <a:endParaRPr b="0" lang="en-US" sz="4400" spc="-1" strike="noStrike">
              <a:solidFill>
                <a:srgbClr val="e4c9ff"/>
              </a:solidFill>
              <a:latin typeface="Arial"/>
            </a:endParaRPr>
          </a:p>
        </p:txBody>
      </p:sp>
      <p:sp>
        <p:nvSpPr>
          <p:cNvPr id="98" name="PlaceHolder 2"/>
          <p:cNvSpPr>
            <a:spLocks noGrp="1"/>
          </p:cNvSpPr>
          <p:nvPr>
            <p:ph/>
          </p:nvPr>
        </p:nvSpPr>
        <p:spPr>
          <a:xfrm>
            <a:off x="685800" y="2743200"/>
            <a:ext cx="7772400" cy="4114800"/>
          </a:xfrm>
          <a:prstGeom prst="rect">
            <a:avLst/>
          </a:prstGeom>
          <a:noFill/>
          <a:ln w="0">
            <a:noFill/>
          </a:ln>
        </p:spPr>
        <p:txBody>
          <a:bodyPr lIns="90000" rIns="90000" tIns="46800" bIns="46800"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17 original chapters on contemporary topics</a:t>
            </a:r>
            <a:endParaRPr b="0" lang="en-US" sz="3200" spc="-1" strike="noStrike">
              <a:solidFill>
                <a:srgbClr val="ffff00"/>
              </a:solidFill>
              <a:latin typeface="Times New Roman"/>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Ages 17 to 18 years </a:t>
            </a:r>
            <a:endParaRPr b="0" lang="en-US" sz="3200" spc="-1" strike="noStrike">
              <a:solidFill>
                <a:srgbClr val="ffff00"/>
              </a:solidFill>
              <a:latin typeface="Times New Roman"/>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Questions for Reflection and Discussion</a:t>
            </a:r>
            <a:endParaRPr b="0" lang="en-US" sz="3200" spc="-1" strike="noStrike">
              <a:solidFill>
                <a:srgbClr val="ffff00"/>
              </a:solidFill>
              <a:latin typeface="Times New Roman"/>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Exercises</a:t>
            </a:r>
            <a:endParaRPr b="0" lang="en-US" sz="3200" spc="-1" strike="noStrike">
              <a:solidFill>
                <a:srgbClr val="ffff00"/>
              </a:solidFill>
              <a:latin typeface="Times New Roman"/>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Activities</a:t>
            </a:r>
            <a:endParaRPr b="0" lang="en-US" sz="3200" spc="-1" strike="noStrike">
              <a:solidFill>
                <a:srgbClr val="ffff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9900cc"/>
            </a:gs>
          </a:gsLst>
          <a:lin ang="108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c9ff"/>
                </a:solidFill>
                <a:latin typeface="Arial"/>
              </a:rPr>
              <a:t>Lesson Plan</a:t>
            </a:r>
            <a:r>
              <a:rPr b="0" lang="en-US" sz="4400" spc="-1" strike="noStrike">
                <a:solidFill>
                  <a:srgbClr val="e4c9ff"/>
                </a:solidFill>
                <a:latin typeface="Arial"/>
                <a:ea typeface="Arial"/>
              </a:rPr>
              <a:t>—Students Craft Their Own Mission Statements from Mottoes</a:t>
            </a:r>
            <a:endParaRPr b="0" lang="en-US" sz="4400" spc="-1" strike="noStrike">
              <a:solidFill>
                <a:srgbClr val="e4c9ff"/>
              </a:solidFill>
              <a:latin typeface="Arial"/>
            </a:endParaRPr>
          </a:p>
        </p:txBody>
      </p:sp>
      <p:sp>
        <p:nvSpPr>
          <p:cNvPr id="214" name="PlaceHolder 2"/>
          <p:cNvSpPr>
            <a:spLocks noGrp="1"/>
          </p:cNvSpPr>
          <p:nvPr>
            <p:ph/>
          </p:nvPr>
        </p:nvSpPr>
        <p:spPr>
          <a:xfrm>
            <a:off x="761760" y="2361960"/>
            <a:ext cx="3809880" cy="4267080"/>
          </a:xfrm>
          <a:prstGeom prst="rect">
            <a:avLst/>
          </a:prstGeom>
          <a:noFill/>
          <a:ln w="0">
            <a:noFill/>
          </a:ln>
        </p:spPr>
        <p:txBody>
          <a:bodyPr lIns="90000" rIns="90000" tIns="46800" bIns="46800" anchor="t">
            <a:normAutofit/>
          </a:bodyPr>
          <a:p>
            <a:pPr marL="343080" indent="-343080">
              <a:lnSpc>
                <a:spcPct val="90000"/>
              </a:lnSpc>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a:t>
            </a:r>
            <a:r>
              <a:rPr b="0" lang="en-US" sz="3200" spc="-1" strike="noStrike">
                <a:solidFill>
                  <a:srgbClr val="ffff00"/>
                </a:solidFill>
                <a:latin typeface="Times New Roman"/>
              </a:rPr>
              <a:t>Waste not, want not”</a:t>
            </a:r>
            <a:endParaRPr b="0" lang="en-US" sz="3200" spc="-1" strike="noStrike">
              <a:solidFill>
                <a:srgbClr val="ffff00"/>
              </a:solidFill>
              <a:latin typeface="Times New Roman"/>
            </a:endParaRPr>
          </a:p>
          <a:p>
            <a:pPr marL="343080" indent="-343080">
              <a:lnSpc>
                <a:spcPct val="90000"/>
              </a:lnSpc>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a:t>
            </a:r>
            <a:r>
              <a:rPr b="0" lang="en-US" sz="3200" spc="-1" strike="noStrike">
                <a:solidFill>
                  <a:srgbClr val="ffff00"/>
                </a:solidFill>
                <a:latin typeface="Times New Roman"/>
              </a:rPr>
              <a:t>I will work to preserve our planet from pollution and wasting of resources for the sake of future generations.”  </a:t>
            </a:r>
            <a:endParaRPr b="0" lang="en-US" sz="3200" spc="-1" strike="noStrike">
              <a:solidFill>
                <a:srgbClr val="ffff00"/>
              </a:solidFill>
              <a:latin typeface="Times New Roman"/>
            </a:endParaRPr>
          </a:p>
        </p:txBody>
      </p:sp>
      <p:pic>
        <p:nvPicPr>
          <p:cNvPr id="215" name="" descr=""/>
          <p:cNvPicPr/>
          <p:nvPr/>
        </p:nvPicPr>
        <p:blipFill>
          <a:blip r:embed="rId1"/>
          <a:stretch/>
        </p:blipFill>
        <p:spPr>
          <a:xfrm>
            <a:off x="4952880" y="2362320"/>
            <a:ext cx="3456000" cy="41148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9900cc"/>
            </a:gs>
          </a:gsLst>
          <a:lin ang="108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e4c9ff"/>
                </a:solidFill>
                <a:latin typeface="Arial"/>
              </a:rPr>
              <a:t>Preparing for Life in Society</a:t>
            </a:r>
            <a:endParaRPr b="0" lang="en-US" sz="4400" spc="-1" strike="noStrike">
              <a:solidFill>
                <a:srgbClr val="e4c9ff"/>
              </a:solidFill>
              <a:latin typeface="Arial"/>
            </a:endParaRPr>
          </a:p>
        </p:txBody>
      </p:sp>
      <p:sp>
        <p:nvSpPr>
          <p:cNvPr id="2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Education for life</a:t>
            </a:r>
            <a:endParaRPr b="0" lang="en-US" sz="3200" spc="-1" strike="noStrike">
              <a:solidFill>
                <a:srgbClr val="ffff00"/>
              </a:solidFill>
              <a:latin typeface="Times New Roman"/>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haracter-shaping </a:t>
            </a:r>
            <a:endParaRPr b="0" lang="en-US" sz="3200" spc="-1" strike="noStrike">
              <a:solidFill>
                <a:srgbClr val="ffff00"/>
              </a:solidFill>
              <a:latin typeface="Times New Roman"/>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timulates discussion and reflection on meaningful life topics</a:t>
            </a:r>
            <a:endParaRPr b="0" lang="en-US" sz="3200" spc="-1" strike="noStrike">
              <a:solidFill>
                <a:srgbClr val="ffff00"/>
              </a:solidFill>
              <a:latin typeface="Times New Roman"/>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Armaments for the challenges that lie ahead </a:t>
            </a:r>
            <a:endParaRPr b="0" lang="en-US" sz="3200" spc="-1" strike="noStrike">
              <a:solidFill>
                <a:srgbClr val="ffff00"/>
              </a:solidFill>
              <a:latin typeface="Times New Roman"/>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Enjoyable for students and teacher</a:t>
            </a:r>
            <a:endParaRPr b="0" lang="en-US" sz="32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9900cc"/>
            </a:gs>
          </a:gsLst>
          <a:lin ang="10800000"/>
        </a:gradFill>
      </p:bgPr>
    </p:bg>
    <p:spTree>
      <p:nvGrpSpPr>
        <p:cNvPr id="1" name=""/>
        <p:cNvGrpSpPr/>
        <p:nvPr/>
      </p:nvGrpSpPr>
      <p:grpSpPr>
        <a:xfrm>
          <a:off x="0" y="0"/>
          <a:ext cx="0" cy="0"/>
          <a:chOff x="0" y="0"/>
          <a:chExt cx="0" cy="0"/>
        </a:xfrm>
      </p:grpSpPr>
      <p:sp>
        <p:nvSpPr>
          <p:cNvPr id="218" name=""/>
          <p:cNvSpPr/>
          <p:nvPr/>
        </p:nvSpPr>
        <p:spPr>
          <a:xfrm>
            <a:off x="3124080" y="609480"/>
            <a:ext cx="2846520" cy="5713560"/>
          </a:xfrm>
          <a:custGeom>
            <a:avLst/>
            <a:gdLst/>
            <a:ahLst/>
            <a:rect l="l" t="t" r="r" b="b"/>
            <a:pathLst>
              <a:path w="1793" h="7198">
                <a:moveTo>
                  <a:pt x="1296" y="2659"/>
                </a:moveTo>
                <a:lnTo>
                  <a:pt x="1295" y="2643"/>
                </a:lnTo>
                <a:lnTo>
                  <a:pt x="1294" y="2631"/>
                </a:lnTo>
                <a:lnTo>
                  <a:pt x="1294" y="2619"/>
                </a:lnTo>
                <a:lnTo>
                  <a:pt x="1293" y="2610"/>
                </a:lnTo>
                <a:lnTo>
                  <a:pt x="1293" y="2602"/>
                </a:lnTo>
                <a:lnTo>
                  <a:pt x="1293" y="2594"/>
                </a:lnTo>
                <a:lnTo>
                  <a:pt x="1293" y="2588"/>
                </a:lnTo>
                <a:lnTo>
                  <a:pt x="1291" y="2584"/>
                </a:lnTo>
                <a:lnTo>
                  <a:pt x="1291" y="2576"/>
                </a:lnTo>
                <a:lnTo>
                  <a:pt x="1290" y="2572"/>
                </a:lnTo>
                <a:lnTo>
                  <a:pt x="1290" y="2570"/>
                </a:lnTo>
                <a:lnTo>
                  <a:pt x="1290" y="2564"/>
                </a:lnTo>
                <a:lnTo>
                  <a:pt x="1289" y="2558"/>
                </a:lnTo>
                <a:lnTo>
                  <a:pt x="1288" y="2550"/>
                </a:lnTo>
                <a:lnTo>
                  <a:pt x="1288" y="2544"/>
                </a:lnTo>
                <a:lnTo>
                  <a:pt x="1287" y="2536"/>
                </a:lnTo>
                <a:lnTo>
                  <a:pt x="1287" y="2529"/>
                </a:lnTo>
                <a:lnTo>
                  <a:pt x="1287" y="2519"/>
                </a:lnTo>
                <a:lnTo>
                  <a:pt x="1286" y="2507"/>
                </a:lnTo>
                <a:lnTo>
                  <a:pt x="1285" y="2493"/>
                </a:lnTo>
                <a:lnTo>
                  <a:pt x="1285" y="2477"/>
                </a:lnTo>
                <a:lnTo>
                  <a:pt x="1283" y="2457"/>
                </a:lnTo>
                <a:lnTo>
                  <a:pt x="1282" y="2438"/>
                </a:lnTo>
                <a:lnTo>
                  <a:pt x="1281" y="2414"/>
                </a:lnTo>
                <a:lnTo>
                  <a:pt x="1280" y="2388"/>
                </a:lnTo>
                <a:lnTo>
                  <a:pt x="1279" y="2358"/>
                </a:lnTo>
                <a:lnTo>
                  <a:pt x="1275" y="2384"/>
                </a:lnTo>
                <a:lnTo>
                  <a:pt x="1268" y="2463"/>
                </a:lnTo>
                <a:lnTo>
                  <a:pt x="1261" y="2540"/>
                </a:lnTo>
                <a:lnTo>
                  <a:pt x="1255" y="2619"/>
                </a:lnTo>
                <a:lnTo>
                  <a:pt x="1248" y="2697"/>
                </a:lnTo>
                <a:lnTo>
                  <a:pt x="1244" y="2728"/>
                </a:lnTo>
                <a:lnTo>
                  <a:pt x="1241" y="2805"/>
                </a:lnTo>
                <a:lnTo>
                  <a:pt x="1237" y="2813"/>
                </a:lnTo>
                <a:lnTo>
                  <a:pt x="1236" y="2863"/>
                </a:lnTo>
                <a:lnTo>
                  <a:pt x="1255" y="2841"/>
                </a:lnTo>
                <a:lnTo>
                  <a:pt x="1272" y="2819"/>
                </a:lnTo>
                <a:lnTo>
                  <a:pt x="1270" y="2813"/>
                </a:lnTo>
                <a:lnTo>
                  <a:pt x="1270" y="2791"/>
                </a:lnTo>
                <a:lnTo>
                  <a:pt x="1281" y="2764"/>
                </a:lnTo>
                <a:lnTo>
                  <a:pt x="1294" y="2742"/>
                </a:lnTo>
                <a:lnTo>
                  <a:pt x="1296" y="2720"/>
                </a:lnTo>
                <a:lnTo>
                  <a:pt x="1296" y="2659"/>
                </a:lnTo>
                <a:close/>
                <a:moveTo>
                  <a:pt x="896" y="2"/>
                </a:moveTo>
                <a:lnTo>
                  <a:pt x="905" y="28"/>
                </a:lnTo>
                <a:lnTo>
                  <a:pt x="938" y="53"/>
                </a:lnTo>
                <a:lnTo>
                  <a:pt x="973" y="91"/>
                </a:lnTo>
                <a:lnTo>
                  <a:pt x="995" y="123"/>
                </a:lnTo>
                <a:lnTo>
                  <a:pt x="996" y="130"/>
                </a:lnTo>
                <a:lnTo>
                  <a:pt x="1003" y="160"/>
                </a:lnTo>
                <a:lnTo>
                  <a:pt x="1003" y="172"/>
                </a:lnTo>
                <a:lnTo>
                  <a:pt x="1008" y="186"/>
                </a:lnTo>
                <a:lnTo>
                  <a:pt x="1017" y="190"/>
                </a:lnTo>
                <a:lnTo>
                  <a:pt x="1018" y="204"/>
                </a:lnTo>
                <a:lnTo>
                  <a:pt x="1029" y="227"/>
                </a:lnTo>
                <a:lnTo>
                  <a:pt x="1030" y="229"/>
                </a:lnTo>
                <a:lnTo>
                  <a:pt x="1030" y="235"/>
                </a:lnTo>
                <a:lnTo>
                  <a:pt x="1027" y="243"/>
                </a:lnTo>
                <a:lnTo>
                  <a:pt x="1012" y="229"/>
                </a:lnTo>
                <a:lnTo>
                  <a:pt x="1000" y="223"/>
                </a:lnTo>
                <a:lnTo>
                  <a:pt x="991" y="217"/>
                </a:lnTo>
                <a:lnTo>
                  <a:pt x="987" y="227"/>
                </a:lnTo>
                <a:lnTo>
                  <a:pt x="987" y="312"/>
                </a:lnTo>
                <a:lnTo>
                  <a:pt x="981" y="336"/>
                </a:lnTo>
                <a:lnTo>
                  <a:pt x="981" y="360"/>
                </a:lnTo>
                <a:lnTo>
                  <a:pt x="977" y="366"/>
                </a:lnTo>
                <a:lnTo>
                  <a:pt x="977" y="395"/>
                </a:lnTo>
                <a:lnTo>
                  <a:pt x="972" y="405"/>
                </a:lnTo>
                <a:lnTo>
                  <a:pt x="973" y="492"/>
                </a:lnTo>
                <a:lnTo>
                  <a:pt x="981" y="579"/>
                </a:lnTo>
                <a:lnTo>
                  <a:pt x="980" y="625"/>
                </a:lnTo>
                <a:lnTo>
                  <a:pt x="956" y="803"/>
                </a:lnTo>
                <a:lnTo>
                  <a:pt x="952" y="862"/>
                </a:lnTo>
                <a:lnTo>
                  <a:pt x="947" y="882"/>
                </a:lnTo>
                <a:lnTo>
                  <a:pt x="954" y="909"/>
                </a:lnTo>
                <a:lnTo>
                  <a:pt x="972" y="951"/>
                </a:lnTo>
                <a:lnTo>
                  <a:pt x="977" y="971"/>
                </a:lnTo>
                <a:lnTo>
                  <a:pt x="990" y="992"/>
                </a:lnTo>
                <a:lnTo>
                  <a:pt x="995" y="988"/>
                </a:lnTo>
                <a:lnTo>
                  <a:pt x="999" y="988"/>
                </a:lnTo>
                <a:lnTo>
                  <a:pt x="1022" y="1024"/>
                </a:lnTo>
                <a:lnTo>
                  <a:pt x="1064" y="1068"/>
                </a:lnTo>
                <a:lnTo>
                  <a:pt x="1081" y="1075"/>
                </a:lnTo>
                <a:lnTo>
                  <a:pt x="1127" y="1103"/>
                </a:lnTo>
                <a:lnTo>
                  <a:pt x="1162" y="1133"/>
                </a:lnTo>
                <a:lnTo>
                  <a:pt x="1226" y="1190"/>
                </a:lnTo>
                <a:lnTo>
                  <a:pt x="1241" y="1194"/>
                </a:lnTo>
                <a:lnTo>
                  <a:pt x="1250" y="1208"/>
                </a:lnTo>
                <a:lnTo>
                  <a:pt x="1248" y="1212"/>
                </a:lnTo>
                <a:lnTo>
                  <a:pt x="1276" y="1245"/>
                </a:lnTo>
                <a:lnTo>
                  <a:pt x="1278" y="1245"/>
                </a:lnTo>
                <a:lnTo>
                  <a:pt x="1279" y="1243"/>
                </a:lnTo>
                <a:lnTo>
                  <a:pt x="1279" y="1240"/>
                </a:lnTo>
                <a:lnTo>
                  <a:pt x="1286" y="1251"/>
                </a:lnTo>
                <a:lnTo>
                  <a:pt x="1289" y="1251"/>
                </a:lnTo>
                <a:lnTo>
                  <a:pt x="1324" y="1305"/>
                </a:lnTo>
                <a:lnTo>
                  <a:pt x="1360" y="1394"/>
                </a:lnTo>
                <a:lnTo>
                  <a:pt x="1393" y="1495"/>
                </a:lnTo>
                <a:lnTo>
                  <a:pt x="1400" y="1532"/>
                </a:lnTo>
                <a:lnTo>
                  <a:pt x="1410" y="1564"/>
                </a:lnTo>
                <a:lnTo>
                  <a:pt x="1420" y="1627"/>
                </a:lnTo>
                <a:lnTo>
                  <a:pt x="1438" y="1742"/>
                </a:lnTo>
                <a:lnTo>
                  <a:pt x="1453" y="1815"/>
                </a:lnTo>
                <a:lnTo>
                  <a:pt x="1480" y="1971"/>
                </a:lnTo>
                <a:lnTo>
                  <a:pt x="1512" y="2147"/>
                </a:lnTo>
                <a:lnTo>
                  <a:pt x="1528" y="2210"/>
                </a:lnTo>
                <a:lnTo>
                  <a:pt x="1550" y="2305"/>
                </a:lnTo>
                <a:lnTo>
                  <a:pt x="1564" y="2349"/>
                </a:lnTo>
                <a:lnTo>
                  <a:pt x="1565" y="2358"/>
                </a:lnTo>
                <a:lnTo>
                  <a:pt x="1575" y="2372"/>
                </a:lnTo>
                <a:lnTo>
                  <a:pt x="1576" y="2370"/>
                </a:lnTo>
                <a:lnTo>
                  <a:pt x="1580" y="2370"/>
                </a:lnTo>
                <a:lnTo>
                  <a:pt x="1581" y="2451"/>
                </a:lnTo>
                <a:lnTo>
                  <a:pt x="1585" y="2457"/>
                </a:lnTo>
                <a:lnTo>
                  <a:pt x="1592" y="2449"/>
                </a:lnTo>
                <a:lnTo>
                  <a:pt x="1592" y="2469"/>
                </a:lnTo>
                <a:lnTo>
                  <a:pt x="1587" y="2469"/>
                </a:lnTo>
                <a:lnTo>
                  <a:pt x="1587" y="2511"/>
                </a:lnTo>
                <a:lnTo>
                  <a:pt x="1594" y="2513"/>
                </a:lnTo>
                <a:lnTo>
                  <a:pt x="1594" y="2519"/>
                </a:lnTo>
                <a:lnTo>
                  <a:pt x="1590" y="2515"/>
                </a:lnTo>
                <a:lnTo>
                  <a:pt x="1587" y="2653"/>
                </a:lnTo>
                <a:lnTo>
                  <a:pt x="1586" y="2657"/>
                </a:lnTo>
                <a:lnTo>
                  <a:pt x="1590" y="2673"/>
                </a:lnTo>
                <a:lnTo>
                  <a:pt x="1585" y="2708"/>
                </a:lnTo>
                <a:lnTo>
                  <a:pt x="1578" y="2825"/>
                </a:lnTo>
                <a:lnTo>
                  <a:pt x="1571" y="2938"/>
                </a:lnTo>
                <a:lnTo>
                  <a:pt x="1566" y="2981"/>
                </a:lnTo>
                <a:lnTo>
                  <a:pt x="1555" y="2991"/>
                </a:lnTo>
                <a:lnTo>
                  <a:pt x="1550" y="3003"/>
                </a:lnTo>
                <a:lnTo>
                  <a:pt x="1538" y="3015"/>
                </a:lnTo>
                <a:lnTo>
                  <a:pt x="1474" y="3027"/>
                </a:lnTo>
                <a:lnTo>
                  <a:pt x="1423" y="3029"/>
                </a:lnTo>
                <a:lnTo>
                  <a:pt x="1414" y="3023"/>
                </a:lnTo>
                <a:lnTo>
                  <a:pt x="1407" y="3023"/>
                </a:lnTo>
                <a:lnTo>
                  <a:pt x="1407" y="3043"/>
                </a:lnTo>
                <a:lnTo>
                  <a:pt x="1415" y="3084"/>
                </a:lnTo>
                <a:lnTo>
                  <a:pt x="1417" y="3139"/>
                </a:lnTo>
                <a:lnTo>
                  <a:pt x="1422" y="3153"/>
                </a:lnTo>
                <a:lnTo>
                  <a:pt x="1422" y="3167"/>
                </a:lnTo>
                <a:lnTo>
                  <a:pt x="1427" y="3171"/>
                </a:lnTo>
                <a:lnTo>
                  <a:pt x="1430" y="3230"/>
                </a:lnTo>
                <a:lnTo>
                  <a:pt x="1430" y="3286"/>
                </a:lnTo>
                <a:lnTo>
                  <a:pt x="1420" y="3323"/>
                </a:lnTo>
                <a:lnTo>
                  <a:pt x="1412" y="3343"/>
                </a:lnTo>
                <a:lnTo>
                  <a:pt x="1414" y="3345"/>
                </a:lnTo>
                <a:lnTo>
                  <a:pt x="1405" y="3375"/>
                </a:lnTo>
                <a:lnTo>
                  <a:pt x="1399" y="3385"/>
                </a:lnTo>
                <a:lnTo>
                  <a:pt x="1394" y="3410"/>
                </a:lnTo>
                <a:lnTo>
                  <a:pt x="1394" y="3458"/>
                </a:lnTo>
                <a:lnTo>
                  <a:pt x="1390" y="3473"/>
                </a:lnTo>
                <a:lnTo>
                  <a:pt x="1391" y="3483"/>
                </a:lnTo>
                <a:lnTo>
                  <a:pt x="1391" y="3491"/>
                </a:lnTo>
                <a:lnTo>
                  <a:pt x="1382" y="3507"/>
                </a:lnTo>
                <a:lnTo>
                  <a:pt x="1378" y="3507"/>
                </a:lnTo>
                <a:lnTo>
                  <a:pt x="1376" y="3523"/>
                </a:lnTo>
                <a:lnTo>
                  <a:pt x="1372" y="3523"/>
                </a:lnTo>
                <a:lnTo>
                  <a:pt x="1376" y="3553"/>
                </a:lnTo>
                <a:lnTo>
                  <a:pt x="1378" y="3624"/>
                </a:lnTo>
                <a:lnTo>
                  <a:pt x="1382" y="3687"/>
                </a:lnTo>
                <a:lnTo>
                  <a:pt x="1383" y="3810"/>
                </a:lnTo>
                <a:lnTo>
                  <a:pt x="1391" y="4009"/>
                </a:lnTo>
                <a:lnTo>
                  <a:pt x="1395" y="4035"/>
                </a:lnTo>
                <a:lnTo>
                  <a:pt x="1400" y="4132"/>
                </a:lnTo>
                <a:lnTo>
                  <a:pt x="1405" y="4138"/>
                </a:lnTo>
                <a:lnTo>
                  <a:pt x="1405" y="4140"/>
                </a:lnTo>
                <a:lnTo>
                  <a:pt x="1407" y="4163"/>
                </a:lnTo>
                <a:lnTo>
                  <a:pt x="1385" y="4156"/>
                </a:lnTo>
                <a:lnTo>
                  <a:pt x="1389" y="4223"/>
                </a:lnTo>
                <a:lnTo>
                  <a:pt x="1393" y="4233"/>
                </a:lnTo>
                <a:lnTo>
                  <a:pt x="1394" y="4306"/>
                </a:lnTo>
                <a:lnTo>
                  <a:pt x="1401" y="4367"/>
                </a:lnTo>
                <a:lnTo>
                  <a:pt x="1406" y="4436"/>
                </a:lnTo>
                <a:lnTo>
                  <a:pt x="1410" y="4474"/>
                </a:lnTo>
                <a:lnTo>
                  <a:pt x="1410" y="4496"/>
                </a:lnTo>
                <a:lnTo>
                  <a:pt x="1417" y="4543"/>
                </a:lnTo>
                <a:lnTo>
                  <a:pt x="1415" y="4555"/>
                </a:lnTo>
                <a:lnTo>
                  <a:pt x="1422" y="4592"/>
                </a:lnTo>
                <a:lnTo>
                  <a:pt x="1422" y="4604"/>
                </a:lnTo>
                <a:lnTo>
                  <a:pt x="1427" y="4632"/>
                </a:lnTo>
                <a:lnTo>
                  <a:pt x="1427" y="4650"/>
                </a:lnTo>
                <a:lnTo>
                  <a:pt x="1434" y="4719"/>
                </a:lnTo>
                <a:lnTo>
                  <a:pt x="1432" y="4747"/>
                </a:lnTo>
                <a:lnTo>
                  <a:pt x="1432" y="4753"/>
                </a:lnTo>
                <a:lnTo>
                  <a:pt x="1367" y="4792"/>
                </a:lnTo>
                <a:lnTo>
                  <a:pt x="1362" y="4800"/>
                </a:lnTo>
                <a:lnTo>
                  <a:pt x="1369" y="4909"/>
                </a:lnTo>
                <a:lnTo>
                  <a:pt x="1367" y="5033"/>
                </a:lnTo>
                <a:lnTo>
                  <a:pt x="1368" y="5182"/>
                </a:lnTo>
                <a:lnTo>
                  <a:pt x="1391" y="5357"/>
                </a:lnTo>
                <a:lnTo>
                  <a:pt x="1399" y="5403"/>
                </a:lnTo>
                <a:lnTo>
                  <a:pt x="1410" y="5589"/>
                </a:lnTo>
                <a:lnTo>
                  <a:pt x="1414" y="5745"/>
                </a:lnTo>
                <a:lnTo>
                  <a:pt x="1417" y="5899"/>
                </a:lnTo>
                <a:lnTo>
                  <a:pt x="1423" y="6034"/>
                </a:lnTo>
                <a:lnTo>
                  <a:pt x="1436" y="6217"/>
                </a:lnTo>
                <a:lnTo>
                  <a:pt x="1443" y="6279"/>
                </a:lnTo>
                <a:lnTo>
                  <a:pt x="1458" y="6285"/>
                </a:lnTo>
                <a:lnTo>
                  <a:pt x="1465" y="6300"/>
                </a:lnTo>
                <a:lnTo>
                  <a:pt x="1467" y="6322"/>
                </a:lnTo>
                <a:lnTo>
                  <a:pt x="1467" y="6328"/>
                </a:lnTo>
                <a:lnTo>
                  <a:pt x="1468" y="6332"/>
                </a:lnTo>
                <a:lnTo>
                  <a:pt x="1484" y="6299"/>
                </a:lnTo>
                <a:lnTo>
                  <a:pt x="1494" y="6289"/>
                </a:lnTo>
                <a:lnTo>
                  <a:pt x="1499" y="6289"/>
                </a:lnTo>
                <a:lnTo>
                  <a:pt x="1518" y="6306"/>
                </a:lnTo>
                <a:lnTo>
                  <a:pt x="1564" y="6332"/>
                </a:lnTo>
                <a:lnTo>
                  <a:pt x="1566" y="6336"/>
                </a:lnTo>
                <a:lnTo>
                  <a:pt x="1563" y="6354"/>
                </a:lnTo>
                <a:lnTo>
                  <a:pt x="1563" y="6364"/>
                </a:lnTo>
                <a:lnTo>
                  <a:pt x="1558" y="6378"/>
                </a:lnTo>
                <a:lnTo>
                  <a:pt x="1556" y="6423"/>
                </a:lnTo>
                <a:lnTo>
                  <a:pt x="1548" y="6459"/>
                </a:lnTo>
                <a:lnTo>
                  <a:pt x="1544" y="6474"/>
                </a:lnTo>
                <a:lnTo>
                  <a:pt x="1531" y="6554"/>
                </a:lnTo>
                <a:lnTo>
                  <a:pt x="1546" y="6589"/>
                </a:lnTo>
                <a:lnTo>
                  <a:pt x="1546" y="6591"/>
                </a:lnTo>
                <a:lnTo>
                  <a:pt x="1542" y="6599"/>
                </a:lnTo>
                <a:lnTo>
                  <a:pt x="1550" y="6603"/>
                </a:lnTo>
                <a:lnTo>
                  <a:pt x="1594" y="6662"/>
                </a:lnTo>
                <a:lnTo>
                  <a:pt x="1617" y="6700"/>
                </a:lnTo>
                <a:lnTo>
                  <a:pt x="1622" y="6700"/>
                </a:lnTo>
                <a:lnTo>
                  <a:pt x="1644" y="6729"/>
                </a:lnTo>
                <a:lnTo>
                  <a:pt x="1714" y="6777"/>
                </a:lnTo>
                <a:lnTo>
                  <a:pt x="1736" y="6789"/>
                </a:lnTo>
                <a:lnTo>
                  <a:pt x="1762" y="6818"/>
                </a:lnTo>
                <a:lnTo>
                  <a:pt x="1778" y="6860"/>
                </a:lnTo>
                <a:lnTo>
                  <a:pt x="1778" y="6866"/>
                </a:lnTo>
                <a:lnTo>
                  <a:pt x="1785" y="6874"/>
                </a:lnTo>
                <a:lnTo>
                  <a:pt x="1786" y="6872"/>
                </a:lnTo>
                <a:lnTo>
                  <a:pt x="1787" y="6872"/>
                </a:lnTo>
                <a:lnTo>
                  <a:pt x="1791" y="6880"/>
                </a:lnTo>
                <a:lnTo>
                  <a:pt x="1791" y="6898"/>
                </a:lnTo>
                <a:lnTo>
                  <a:pt x="1793" y="6905"/>
                </a:lnTo>
                <a:lnTo>
                  <a:pt x="1791" y="6985"/>
                </a:lnTo>
                <a:lnTo>
                  <a:pt x="1770" y="7026"/>
                </a:lnTo>
                <a:lnTo>
                  <a:pt x="1719" y="7024"/>
                </a:lnTo>
                <a:lnTo>
                  <a:pt x="1650" y="7014"/>
                </a:lnTo>
                <a:lnTo>
                  <a:pt x="1622" y="7004"/>
                </a:lnTo>
                <a:lnTo>
                  <a:pt x="1599" y="6998"/>
                </a:lnTo>
                <a:lnTo>
                  <a:pt x="1539" y="6998"/>
                </a:lnTo>
                <a:lnTo>
                  <a:pt x="1457" y="7016"/>
                </a:lnTo>
                <a:lnTo>
                  <a:pt x="1429" y="7018"/>
                </a:lnTo>
                <a:lnTo>
                  <a:pt x="1393" y="7026"/>
                </a:lnTo>
                <a:lnTo>
                  <a:pt x="1328" y="7024"/>
                </a:lnTo>
                <a:lnTo>
                  <a:pt x="1294" y="7012"/>
                </a:lnTo>
                <a:lnTo>
                  <a:pt x="1282" y="7000"/>
                </a:lnTo>
                <a:lnTo>
                  <a:pt x="1265" y="6913"/>
                </a:lnTo>
                <a:lnTo>
                  <a:pt x="1265" y="6822"/>
                </a:lnTo>
                <a:lnTo>
                  <a:pt x="1268" y="6785"/>
                </a:lnTo>
                <a:lnTo>
                  <a:pt x="1282" y="6617"/>
                </a:lnTo>
                <a:lnTo>
                  <a:pt x="1286" y="6611"/>
                </a:lnTo>
                <a:lnTo>
                  <a:pt x="1282" y="6516"/>
                </a:lnTo>
                <a:lnTo>
                  <a:pt x="1271" y="6510"/>
                </a:lnTo>
                <a:lnTo>
                  <a:pt x="1264" y="6504"/>
                </a:lnTo>
                <a:lnTo>
                  <a:pt x="1260" y="6490"/>
                </a:lnTo>
                <a:lnTo>
                  <a:pt x="1252" y="6478"/>
                </a:lnTo>
                <a:lnTo>
                  <a:pt x="1255" y="6459"/>
                </a:lnTo>
                <a:lnTo>
                  <a:pt x="1266" y="6433"/>
                </a:lnTo>
                <a:lnTo>
                  <a:pt x="1252" y="6417"/>
                </a:lnTo>
                <a:lnTo>
                  <a:pt x="1244" y="6386"/>
                </a:lnTo>
                <a:lnTo>
                  <a:pt x="1246" y="6360"/>
                </a:lnTo>
                <a:lnTo>
                  <a:pt x="1270" y="6310"/>
                </a:lnTo>
                <a:lnTo>
                  <a:pt x="1276" y="6302"/>
                </a:lnTo>
                <a:lnTo>
                  <a:pt x="1279" y="6299"/>
                </a:lnTo>
                <a:lnTo>
                  <a:pt x="1243" y="6097"/>
                </a:lnTo>
                <a:lnTo>
                  <a:pt x="1207" y="5953"/>
                </a:lnTo>
                <a:lnTo>
                  <a:pt x="1201" y="5911"/>
                </a:lnTo>
                <a:lnTo>
                  <a:pt x="1183" y="5828"/>
                </a:lnTo>
                <a:lnTo>
                  <a:pt x="1157" y="5678"/>
                </a:lnTo>
                <a:lnTo>
                  <a:pt x="1153" y="5644"/>
                </a:lnTo>
                <a:lnTo>
                  <a:pt x="1139" y="5460"/>
                </a:lnTo>
                <a:lnTo>
                  <a:pt x="1140" y="5391"/>
                </a:lnTo>
                <a:lnTo>
                  <a:pt x="1146" y="5330"/>
                </a:lnTo>
                <a:lnTo>
                  <a:pt x="1147" y="5174"/>
                </a:lnTo>
                <a:lnTo>
                  <a:pt x="1145" y="5116"/>
                </a:lnTo>
                <a:lnTo>
                  <a:pt x="1140" y="5100"/>
                </a:lnTo>
                <a:lnTo>
                  <a:pt x="1140" y="5075"/>
                </a:lnTo>
                <a:lnTo>
                  <a:pt x="1121" y="4950"/>
                </a:lnTo>
                <a:lnTo>
                  <a:pt x="1111" y="4901"/>
                </a:lnTo>
                <a:lnTo>
                  <a:pt x="1106" y="4893"/>
                </a:lnTo>
                <a:lnTo>
                  <a:pt x="1050" y="4899"/>
                </a:lnTo>
                <a:lnTo>
                  <a:pt x="1013" y="4889"/>
                </a:lnTo>
                <a:lnTo>
                  <a:pt x="1002" y="4883"/>
                </a:lnTo>
                <a:lnTo>
                  <a:pt x="995" y="4883"/>
                </a:lnTo>
                <a:lnTo>
                  <a:pt x="987" y="4869"/>
                </a:lnTo>
                <a:lnTo>
                  <a:pt x="952" y="4563"/>
                </a:lnTo>
                <a:lnTo>
                  <a:pt x="930" y="4413"/>
                </a:lnTo>
                <a:lnTo>
                  <a:pt x="902" y="4221"/>
                </a:lnTo>
                <a:lnTo>
                  <a:pt x="894" y="4175"/>
                </a:lnTo>
                <a:lnTo>
                  <a:pt x="892" y="4165"/>
                </a:lnTo>
                <a:lnTo>
                  <a:pt x="885" y="4181"/>
                </a:lnTo>
                <a:lnTo>
                  <a:pt x="839" y="4466"/>
                </a:lnTo>
                <a:lnTo>
                  <a:pt x="818" y="4612"/>
                </a:lnTo>
                <a:lnTo>
                  <a:pt x="796" y="4772"/>
                </a:lnTo>
                <a:lnTo>
                  <a:pt x="781" y="4881"/>
                </a:lnTo>
                <a:lnTo>
                  <a:pt x="772" y="4875"/>
                </a:lnTo>
                <a:lnTo>
                  <a:pt x="766" y="4883"/>
                </a:lnTo>
                <a:lnTo>
                  <a:pt x="739" y="4889"/>
                </a:lnTo>
                <a:lnTo>
                  <a:pt x="714" y="4901"/>
                </a:lnTo>
                <a:lnTo>
                  <a:pt x="693" y="4903"/>
                </a:lnTo>
                <a:lnTo>
                  <a:pt x="670" y="4915"/>
                </a:lnTo>
                <a:lnTo>
                  <a:pt x="635" y="4921"/>
                </a:lnTo>
                <a:lnTo>
                  <a:pt x="605" y="4915"/>
                </a:lnTo>
                <a:lnTo>
                  <a:pt x="601" y="4927"/>
                </a:lnTo>
                <a:lnTo>
                  <a:pt x="595" y="4972"/>
                </a:lnTo>
                <a:lnTo>
                  <a:pt x="585" y="5012"/>
                </a:lnTo>
                <a:lnTo>
                  <a:pt x="576" y="5051"/>
                </a:lnTo>
                <a:lnTo>
                  <a:pt x="533" y="5176"/>
                </a:lnTo>
                <a:lnTo>
                  <a:pt x="521" y="5227"/>
                </a:lnTo>
                <a:lnTo>
                  <a:pt x="516" y="5263"/>
                </a:lnTo>
                <a:lnTo>
                  <a:pt x="514" y="5340"/>
                </a:lnTo>
                <a:lnTo>
                  <a:pt x="501" y="5500"/>
                </a:lnTo>
                <a:lnTo>
                  <a:pt x="481" y="5601"/>
                </a:lnTo>
                <a:lnTo>
                  <a:pt x="470" y="5632"/>
                </a:lnTo>
                <a:lnTo>
                  <a:pt x="453" y="5725"/>
                </a:lnTo>
                <a:lnTo>
                  <a:pt x="424" y="5870"/>
                </a:lnTo>
                <a:lnTo>
                  <a:pt x="408" y="5958"/>
                </a:lnTo>
                <a:lnTo>
                  <a:pt x="404" y="5964"/>
                </a:lnTo>
                <a:lnTo>
                  <a:pt x="399" y="6030"/>
                </a:lnTo>
                <a:lnTo>
                  <a:pt x="394" y="6063"/>
                </a:lnTo>
                <a:lnTo>
                  <a:pt x="393" y="6079"/>
                </a:lnTo>
                <a:lnTo>
                  <a:pt x="380" y="6176"/>
                </a:lnTo>
                <a:lnTo>
                  <a:pt x="377" y="6279"/>
                </a:lnTo>
                <a:lnTo>
                  <a:pt x="372" y="6306"/>
                </a:lnTo>
                <a:lnTo>
                  <a:pt x="372" y="6326"/>
                </a:lnTo>
                <a:lnTo>
                  <a:pt x="371" y="6332"/>
                </a:lnTo>
                <a:lnTo>
                  <a:pt x="371" y="6338"/>
                </a:lnTo>
                <a:lnTo>
                  <a:pt x="387" y="6352"/>
                </a:lnTo>
                <a:lnTo>
                  <a:pt x="397" y="6372"/>
                </a:lnTo>
                <a:lnTo>
                  <a:pt x="403" y="6409"/>
                </a:lnTo>
                <a:lnTo>
                  <a:pt x="403" y="6455"/>
                </a:lnTo>
                <a:lnTo>
                  <a:pt x="387" y="6482"/>
                </a:lnTo>
                <a:lnTo>
                  <a:pt x="387" y="6498"/>
                </a:lnTo>
                <a:lnTo>
                  <a:pt x="390" y="6508"/>
                </a:lnTo>
                <a:lnTo>
                  <a:pt x="388" y="6542"/>
                </a:lnTo>
                <a:lnTo>
                  <a:pt x="379" y="6577"/>
                </a:lnTo>
                <a:lnTo>
                  <a:pt x="375" y="6581"/>
                </a:lnTo>
                <a:lnTo>
                  <a:pt x="377" y="6579"/>
                </a:lnTo>
                <a:lnTo>
                  <a:pt x="375" y="6577"/>
                </a:lnTo>
                <a:lnTo>
                  <a:pt x="371" y="6585"/>
                </a:lnTo>
                <a:lnTo>
                  <a:pt x="379" y="6603"/>
                </a:lnTo>
                <a:lnTo>
                  <a:pt x="380" y="6611"/>
                </a:lnTo>
                <a:lnTo>
                  <a:pt x="378" y="6621"/>
                </a:lnTo>
                <a:lnTo>
                  <a:pt x="378" y="6660"/>
                </a:lnTo>
                <a:lnTo>
                  <a:pt x="375" y="6712"/>
                </a:lnTo>
                <a:lnTo>
                  <a:pt x="379" y="6785"/>
                </a:lnTo>
                <a:lnTo>
                  <a:pt x="378" y="6801"/>
                </a:lnTo>
                <a:lnTo>
                  <a:pt x="362" y="6856"/>
                </a:lnTo>
                <a:lnTo>
                  <a:pt x="349" y="6882"/>
                </a:lnTo>
                <a:lnTo>
                  <a:pt x="351" y="6886"/>
                </a:lnTo>
                <a:lnTo>
                  <a:pt x="329" y="6961"/>
                </a:lnTo>
                <a:lnTo>
                  <a:pt x="303" y="7052"/>
                </a:lnTo>
                <a:lnTo>
                  <a:pt x="286" y="7119"/>
                </a:lnTo>
                <a:lnTo>
                  <a:pt x="278" y="7131"/>
                </a:lnTo>
                <a:lnTo>
                  <a:pt x="271" y="7141"/>
                </a:lnTo>
                <a:lnTo>
                  <a:pt x="255" y="7166"/>
                </a:lnTo>
                <a:lnTo>
                  <a:pt x="218" y="7194"/>
                </a:lnTo>
                <a:lnTo>
                  <a:pt x="151" y="7198"/>
                </a:lnTo>
                <a:lnTo>
                  <a:pt x="75" y="7180"/>
                </a:lnTo>
                <a:lnTo>
                  <a:pt x="51" y="7166"/>
                </a:lnTo>
                <a:lnTo>
                  <a:pt x="39" y="7139"/>
                </a:lnTo>
                <a:lnTo>
                  <a:pt x="31" y="7073"/>
                </a:lnTo>
                <a:lnTo>
                  <a:pt x="34" y="7052"/>
                </a:lnTo>
                <a:lnTo>
                  <a:pt x="38" y="7044"/>
                </a:lnTo>
                <a:lnTo>
                  <a:pt x="39" y="6967"/>
                </a:lnTo>
                <a:lnTo>
                  <a:pt x="59" y="6898"/>
                </a:lnTo>
                <a:lnTo>
                  <a:pt x="105" y="6801"/>
                </a:lnTo>
                <a:lnTo>
                  <a:pt x="116" y="6765"/>
                </a:lnTo>
                <a:lnTo>
                  <a:pt x="146" y="6688"/>
                </a:lnTo>
                <a:lnTo>
                  <a:pt x="151" y="6682"/>
                </a:lnTo>
                <a:lnTo>
                  <a:pt x="163" y="6643"/>
                </a:lnTo>
                <a:lnTo>
                  <a:pt x="148" y="6589"/>
                </a:lnTo>
                <a:lnTo>
                  <a:pt x="144" y="6569"/>
                </a:lnTo>
                <a:lnTo>
                  <a:pt x="144" y="6559"/>
                </a:lnTo>
                <a:lnTo>
                  <a:pt x="159" y="6536"/>
                </a:lnTo>
                <a:lnTo>
                  <a:pt x="166" y="6534"/>
                </a:lnTo>
                <a:lnTo>
                  <a:pt x="171" y="6524"/>
                </a:lnTo>
                <a:lnTo>
                  <a:pt x="172" y="6496"/>
                </a:lnTo>
                <a:lnTo>
                  <a:pt x="184" y="6461"/>
                </a:lnTo>
                <a:lnTo>
                  <a:pt x="191" y="6451"/>
                </a:lnTo>
                <a:lnTo>
                  <a:pt x="200" y="6403"/>
                </a:lnTo>
                <a:lnTo>
                  <a:pt x="194" y="6386"/>
                </a:lnTo>
                <a:lnTo>
                  <a:pt x="185" y="6368"/>
                </a:lnTo>
                <a:lnTo>
                  <a:pt x="184" y="6354"/>
                </a:lnTo>
                <a:lnTo>
                  <a:pt x="181" y="6352"/>
                </a:lnTo>
                <a:lnTo>
                  <a:pt x="179" y="6352"/>
                </a:lnTo>
                <a:lnTo>
                  <a:pt x="187" y="6332"/>
                </a:lnTo>
                <a:lnTo>
                  <a:pt x="223" y="6291"/>
                </a:lnTo>
                <a:lnTo>
                  <a:pt x="228" y="6283"/>
                </a:lnTo>
                <a:lnTo>
                  <a:pt x="223" y="6121"/>
                </a:lnTo>
                <a:lnTo>
                  <a:pt x="228" y="5978"/>
                </a:lnTo>
                <a:lnTo>
                  <a:pt x="229" y="5871"/>
                </a:lnTo>
                <a:lnTo>
                  <a:pt x="233" y="5802"/>
                </a:lnTo>
                <a:lnTo>
                  <a:pt x="235" y="5682"/>
                </a:lnTo>
                <a:lnTo>
                  <a:pt x="236" y="5660"/>
                </a:lnTo>
                <a:lnTo>
                  <a:pt x="236" y="5654"/>
                </a:lnTo>
                <a:lnTo>
                  <a:pt x="240" y="5646"/>
                </a:lnTo>
                <a:lnTo>
                  <a:pt x="240" y="5611"/>
                </a:lnTo>
                <a:lnTo>
                  <a:pt x="244" y="5587"/>
                </a:lnTo>
                <a:lnTo>
                  <a:pt x="244" y="5549"/>
                </a:lnTo>
                <a:lnTo>
                  <a:pt x="247" y="5537"/>
                </a:lnTo>
                <a:lnTo>
                  <a:pt x="255" y="5441"/>
                </a:lnTo>
                <a:lnTo>
                  <a:pt x="277" y="5255"/>
                </a:lnTo>
                <a:lnTo>
                  <a:pt x="297" y="5144"/>
                </a:lnTo>
                <a:lnTo>
                  <a:pt x="348" y="4907"/>
                </a:lnTo>
                <a:lnTo>
                  <a:pt x="359" y="4830"/>
                </a:lnTo>
                <a:lnTo>
                  <a:pt x="356" y="4814"/>
                </a:lnTo>
                <a:lnTo>
                  <a:pt x="366" y="4747"/>
                </a:lnTo>
                <a:lnTo>
                  <a:pt x="375" y="4646"/>
                </a:lnTo>
                <a:lnTo>
                  <a:pt x="378" y="4604"/>
                </a:lnTo>
                <a:lnTo>
                  <a:pt x="390" y="4399"/>
                </a:lnTo>
                <a:lnTo>
                  <a:pt x="397" y="4250"/>
                </a:lnTo>
                <a:lnTo>
                  <a:pt x="405" y="4104"/>
                </a:lnTo>
                <a:lnTo>
                  <a:pt x="408" y="4033"/>
                </a:lnTo>
                <a:lnTo>
                  <a:pt x="414" y="3962"/>
                </a:lnTo>
                <a:lnTo>
                  <a:pt x="414" y="3956"/>
                </a:lnTo>
                <a:lnTo>
                  <a:pt x="402" y="3956"/>
                </a:lnTo>
                <a:lnTo>
                  <a:pt x="379" y="3948"/>
                </a:lnTo>
                <a:lnTo>
                  <a:pt x="379" y="3887"/>
                </a:lnTo>
                <a:lnTo>
                  <a:pt x="386" y="3792"/>
                </a:lnTo>
                <a:lnTo>
                  <a:pt x="388" y="3744"/>
                </a:lnTo>
                <a:lnTo>
                  <a:pt x="388" y="3732"/>
                </a:lnTo>
                <a:lnTo>
                  <a:pt x="389" y="3732"/>
                </a:lnTo>
                <a:lnTo>
                  <a:pt x="389" y="3691"/>
                </a:lnTo>
                <a:lnTo>
                  <a:pt x="390" y="3675"/>
                </a:lnTo>
                <a:lnTo>
                  <a:pt x="394" y="3653"/>
                </a:lnTo>
                <a:lnTo>
                  <a:pt x="394" y="3618"/>
                </a:lnTo>
                <a:lnTo>
                  <a:pt x="399" y="3566"/>
                </a:lnTo>
                <a:lnTo>
                  <a:pt x="401" y="3493"/>
                </a:lnTo>
                <a:lnTo>
                  <a:pt x="410" y="3394"/>
                </a:lnTo>
                <a:lnTo>
                  <a:pt x="414" y="3390"/>
                </a:lnTo>
                <a:lnTo>
                  <a:pt x="412" y="3383"/>
                </a:lnTo>
                <a:lnTo>
                  <a:pt x="415" y="3377"/>
                </a:lnTo>
                <a:lnTo>
                  <a:pt x="412" y="3363"/>
                </a:lnTo>
                <a:lnTo>
                  <a:pt x="414" y="3349"/>
                </a:lnTo>
                <a:lnTo>
                  <a:pt x="418" y="3339"/>
                </a:lnTo>
                <a:lnTo>
                  <a:pt x="424" y="3256"/>
                </a:lnTo>
                <a:lnTo>
                  <a:pt x="430" y="3201"/>
                </a:lnTo>
                <a:lnTo>
                  <a:pt x="436" y="3185"/>
                </a:lnTo>
                <a:lnTo>
                  <a:pt x="436" y="3133"/>
                </a:lnTo>
                <a:lnTo>
                  <a:pt x="431" y="3128"/>
                </a:lnTo>
                <a:lnTo>
                  <a:pt x="410" y="3157"/>
                </a:lnTo>
                <a:lnTo>
                  <a:pt x="352" y="3218"/>
                </a:lnTo>
                <a:lnTo>
                  <a:pt x="329" y="3236"/>
                </a:lnTo>
                <a:lnTo>
                  <a:pt x="280" y="3286"/>
                </a:lnTo>
                <a:lnTo>
                  <a:pt x="268" y="3294"/>
                </a:lnTo>
                <a:lnTo>
                  <a:pt x="241" y="3331"/>
                </a:lnTo>
                <a:lnTo>
                  <a:pt x="235" y="3331"/>
                </a:lnTo>
                <a:lnTo>
                  <a:pt x="235" y="3319"/>
                </a:lnTo>
                <a:lnTo>
                  <a:pt x="209" y="3258"/>
                </a:lnTo>
                <a:lnTo>
                  <a:pt x="162" y="3133"/>
                </a:lnTo>
                <a:lnTo>
                  <a:pt x="127" y="3058"/>
                </a:lnTo>
                <a:lnTo>
                  <a:pt x="75" y="2874"/>
                </a:lnTo>
                <a:lnTo>
                  <a:pt x="60" y="2819"/>
                </a:lnTo>
                <a:lnTo>
                  <a:pt x="39" y="2710"/>
                </a:lnTo>
                <a:lnTo>
                  <a:pt x="38" y="2708"/>
                </a:lnTo>
                <a:lnTo>
                  <a:pt x="35" y="2708"/>
                </a:lnTo>
                <a:lnTo>
                  <a:pt x="9" y="2590"/>
                </a:lnTo>
                <a:lnTo>
                  <a:pt x="0" y="2513"/>
                </a:lnTo>
                <a:lnTo>
                  <a:pt x="1" y="2477"/>
                </a:lnTo>
                <a:lnTo>
                  <a:pt x="7" y="2445"/>
                </a:lnTo>
                <a:lnTo>
                  <a:pt x="12" y="2432"/>
                </a:lnTo>
                <a:lnTo>
                  <a:pt x="22" y="2357"/>
                </a:lnTo>
                <a:lnTo>
                  <a:pt x="44" y="2240"/>
                </a:lnTo>
                <a:lnTo>
                  <a:pt x="85" y="2101"/>
                </a:lnTo>
                <a:lnTo>
                  <a:pt x="103" y="2030"/>
                </a:lnTo>
                <a:lnTo>
                  <a:pt x="116" y="1929"/>
                </a:lnTo>
                <a:lnTo>
                  <a:pt x="189" y="1657"/>
                </a:lnTo>
                <a:lnTo>
                  <a:pt x="274" y="1386"/>
                </a:lnTo>
                <a:lnTo>
                  <a:pt x="298" y="1334"/>
                </a:lnTo>
                <a:lnTo>
                  <a:pt x="335" y="1285"/>
                </a:lnTo>
                <a:lnTo>
                  <a:pt x="356" y="1255"/>
                </a:lnTo>
                <a:lnTo>
                  <a:pt x="388" y="1218"/>
                </a:lnTo>
                <a:lnTo>
                  <a:pt x="399" y="1208"/>
                </a:lnTo>
                <a:lnTo>
                  <a:pt x="447" y="1168"/>
                </a:lnTo>
                <a:lnTo>
                  <a:pt x="466" y="1160"/>
                </a:lnTo>
                <a:lnTo>
                  <a:pt x="581" y="1103"/>
                </a:lnTo>
                <a:lnTo>
                  <a:pt x="589" y="1093"/>
                </a:lnTo>
                <a:lnTo>
                  <a:pt x="602" y="1087"/>
                </a:lnTo>
                <a:lnTo>
                  <a:pt x="653" y="1052"/>
                </a:lnTo>
                <a:lnTo>
                  <a:pt x="656" y="1046"/>
                </a:lnTo>
                <a:lnTo>
                  <a:pt x="656" y="1032"/>
                </a:lnTo>
                <a:lnTo>
                  <a:pt x="677" y="1004"/>
                </a:lnTo>
                <a:lnTo>
                  <a:pt x="688" y="973"/>
                </a:lnTo>
                <a:lnTo>
                  <a:pt x="688" y="941"/>
                </a:lnTo>
                <a:lnTo>
                  <a:pt x="702" y="913"/>
                </a:lnTo>
                <a:lnTo>
                  <a:pt x="708" y="907"/>
                </a:lnTo>
                <a:lnTo>
                  <a:pt x="712" y="900"/>
                </a:lnTo>
                <a:lnTo>
                  <a:pt x="709" y="886"/>
                </a:lnTo>
                <a:lnTo>
                  <a:pt x="713" y="880"/>
                </a:lnTo>
                <a:lnTo>
                  <a:pt x="709" y="866"/>
                </a:lnTo>
                <a:lnTo>
                  <a:pt x="709" y="836"/>
                </a:lnTo>
                <a:lnTo>
                  <a:pt x="706" y="751"/>
                </a:lnTo>
                <a:lnTo>
                  <a:pt x="698" y="737"/>
                </a:lnTo>
                <a:lnTo>
                  <a:pt x="693" y="680"/>
                </a:lnTo>
                <a:lnTo>
                  <a:pt x="693" y="668"/>
                </a:lnTo>
                <a:lnTo>
                  <a:pt x="679" y="654"/>
                </a:lnTo>
                <a:lnTo>
                  <a:pt x="667" y="650"/>
                </a:lnTo>
                <a:lnTo>
                  <a:pt x="658" y="627"/>
                </a:lnTo>
                <a:lnTo>
                  <a:pt x="650" y="573"/>
                </a:lnTo>
                <a:lnTo>
                  <a:pt x="649" y="538"/>
                </a:lnTo>
                <a:lnTo>
                  <a:pt x="647" y="524"/>
                </a:lnTo>
                <a:lnTo>
                  <a:pt x="635" y="498"/>
                </a:lnTo>
                <a:lnTo>
                  <a:pt x="627" y="457"/>
                </a:lnTo>
                <a:lnTo>
                  <a:pt x="617" y="425"/>
                </a:lnTo>
                <a:lnTo>
                  <a:pt x="580" y="344"/>
                </a:lnTo>
                <a:lnTo>
                  <a:pt x="576" y="312"/>
                </a:lnTo>
                <a:lnTo>
                  <a:pt x="581" y="263"/>
                </a:lnTo>
                <a:lnTo>
                  <a:pt x="589" y="253"/>
                </a:lnTo>
                <a:lnTo>
                  <a:pt x="590" y="227"/>
                </a:lnTo>
                <a:lnTo>
                  <a:pt x="606" y="180"/>
                </a:lnTo>
                <a:lnTo>
                  <a:pt x="648" y="117"/>
                </a:lnTo>
                <a:lnTo>
                  <a:pt x="686" y="77"/>
                </a:lnTo>
                <a:lnTo>
                  <a:pt x="750" y="38"/>
                </a:lnTo>
                <a:lnTo>
                  <a:pt x="809" y="22"/>
                </a:lnTo>
                <a:lnTo>
                  <a:pt x="855" y="10"/>
                </a:lnTo>
                <a:lnTo>
                  <a:pt x="878" y="0"/>
                </a:lnTo>
                <a:lnTo>
                  <a:pt x="892" y="2"/>
                </a:lnTo>
                <a:lnTo>
                  <a:pt x="896" y="2"/>
                </a:lnTo>
                <a:close/>
                <a:moveTo>
                  <a:pt x="432" y="2629"/>
                </a:moveTo>
                <a:lnTo>
                  <a:pt x="409" y="2420"/>
                </a:lnTo>
                <a:lnTo>
                  <a:pt x="403" y="2378"/>
                </a:lnTo>
                <a:lnTo>
                  <a:pt x="394" y="2394"/>
                </a:lnTo>
                <a:lnTo>
                  <a:pt x="384" y="2459"/>
                </a:lnTo>
                <a:lnTo>
                  <a:pt x="375" y="2481"/>
                </a:lnTo>
                <a:lnTo>
                  <a:pt x="356" y="2481"/>
                </a:lnTo>
                <a:lnTo>
                  <a:pt x="356" y="2485"/>
                </a:lnTo>
                <a:lnTo>
                  <a:pt x="348" y="2521"/>
                </a:lnTo>
                <a:lnTo>
                  <a:pt x="348" y="2536"/>
                </a:lnTo>
                <a:lnTo>
                  <a:pt x="351" y="2542"/>
                </a:lnTo>
                <a:lnTo>
                  <a:pt x="357" y="2576"/>
                </a:lnTo>
                <a:lnTo>
                  <a:pt x="369" y="2606"/>
                </a:lnTo>
                <a:lnTo>
                  <a:pt x="371" y="2617"/>
                </a:lnTo>
                <a:lnTo>
                  <a:pt x="373" y="2627"/>
                </a:lnTo>
                <a:lnTo>
                  <a:pt x="374" y="2635"/>
                </a:lnTo>
                <a:lnTo>
                  <a:pt x="377" y="2641"/>
                </a:lnTo>
                <a:lnTo>
                  <a:pt x="379" y="2653"/>
                </a:lnTo>
                <a:lnTo>
                  <a:pt x="381" y="2663"/>
                </a:lnTo>
                <a:lnTo>
                  <a:pt x="382" y="2671"/>
                </a:lnTo>
                <a:lnTo>
                  <a:pt x="386" y="2683"/>
                </a:lnTo>
                <a:lnTo>
                  <a:pt x="387" y="2691"/>
                </a:lnTo>
                <a:lnTo>
                  <a:pt x="388" y="2699"/>
                </a:lnTo>
                <a:lnTo>
                  <a:pt x="390" y="2708"/>
                </a:lnTo>
                <a:lnTo>
                  <a:pt x="393" y="2720"/>
                </a:lnTo>
                <a:lnTo>
                  <a:pt x="397" y="2724"/>
                </a:lnTo>
                <a:lnTo>
                  <a:pt x="399" y="2736"/>
                </a:lnTo>
                <a:lnTo>
                  <a:pt x="440" y="2813"/>
                </a:lnTo>
                <a:lnTo>
                  <a:pt x="446" y="2819"/>
                </a:lnTo>
                <a:lnTo>
                  <a:pt x="442" y="2756"/>
                </a:lnTo>
                <a:lnTo>
                  <a:pt x="432" y="26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19" name=""/>
          <p:cNvSpPr/>
          <p:nvPr/>
        </p:nvSpPr>
        <p:spPr>
          <a:xfrm>
            <a:off x="5083200" y="2459160"/>
            <a:ext cx="101520" cy="428400"/>
          </a:xfrm>
          <a:custGeom>
            <a:avLst/>
            <a:gdLst/>
            <a:ahLst/>
            <a:rect l="l" t="t" r="r" b="b"/>
            <a:pathLst>
              <a:path w="64" h="540">
                <a:moveTo>
                  <a:pt x="64" y="328"/>
                </a:moveTo>
                <a:lnTo>
                  <a:pt x="64" y="328"/>
                </a:lnTo>
                <a:lnTo>
                  <a:pt x="63" y="312"/>
                </a:lnTo>
                <a:lnTo>
                  <a:pt x="63" y="312"/>
                </a:lnTo>
                <a:lnTo>
                  <a:pt x="63" y="300"/>
                </a:lnTo>
                <a:lnTo>
                  <a:pt x="63" y="288"/>
                </a:lnTo>
                <a:lnTo>
                  <a:pt x="63" y="288"/>
                </a:lnTo>
                <a:lnTo>
                  <a:pt x="62" y="279"/>
                </a:lnTo>
                <a:lnTo>
                  <a:pt x="62" y="269"/>
                </a:lnTo>
                <a:lnTo>
                  <a:pt x="61" y="263"/>
                </a:lnTo>
                <a:lnTo>
                  <a:pt x="61" y="263"/>
                </a:lnTo>
                <a:lnTo>
                  <a:pt x="61" y="257"/>
                </a:lnTo>
                <a:lnTo>
                  <a:pt x="61" y="253"/>
                </a:lnTo>
                <a:lnTo>
                  <a:pt x="60" y="245"/>
                </a:lnTo>
                <a:lnTo>
                  <a:pt x="60" y="241"/>
                </a:lnTo>
                <a:lnTo>
                  <a:pt x="59" y="237"/>
                </a:lnTo>
                <a:lnTo>
                  <a:pt x="59" y="233"/>
                </a:lnTo>
                <a:lnTo>
                  <a:pt x="59" y="233"/>
                </a:lnTo>
                <a:lnTo>
                  <a:pt x="57" y="227"/>
                </a:lnTo>
                <a:lnTo>
                  <a:pt x="57" y="227"/>
                </a:lnTo>
                <a:lnTo>
                  <a:pt x="57" y="219"/>
                </a:lnTo>
                <a:lnTo>
                  <a:pt x="56" y="213"/>
                </a:lnTo>
                <a:lnTo>
                  <a:pt x="56" y="205"/>
                </a:lnTo>
                <a:lnTo>
                  <a:pt x="56" y="198"/>
                </a:lnTo>
                <a:lnTo>
                  <a:pt x="56" y="198"/>
                </a:lnTo>
                <a:lnTo>
                  <a:pt x="55" y="188"/>
                </a:lnTo>
                <a:lnTo>
                  <a:pt x="55" y="186"/>
                </a:lnTo>
                <a:lnTo>
                  <a:pt x="54" y="174"/>
                </a:lnTo>
                <a:lnTo>
                  <a:pt x="54" y="160"/>
                </a:lnTo>
                <a:lnTo>
                  <a:pt x="54" y="162"/>
                </a:lnTo>
                <a:lnTo>
                  <a:pt x="53" y="146"/>
                </a:lnTo>
                <a:lnTo>
                  <a:pt x="53" y="144"/>
                </a:lnTo>
                <a:lnTo>
                  <a:pt x="52" y="126"/>
                </a:lnTo>
                <a:lnTo>
                  <a:pt x="52" y="126"/>
                </a:lnTo>
                <a:lnTo>
                  <a:pt x="52" y="107"/>
                </a:lnTo>
                <a:lnTo>
                  <a:pt x="51" y="83"/>
                </a:lnTo>
                <a:lnTo>
                  <a:pt x="51" y="83"/>
                </a:lnTo>
                <a:lnTo>
                  <a:pt x="49" y="55"/>
                </a:lnTo>
                <a:lnTo>
                  <a:pt x="47" y="0"/>
                </a:lnTo>
                <a:lnTo>
                  <a:pt x="38" y="51"/>
                </a:lnTo>
                <a:lnTo>
                  <a:pt x="38" y="53"/>
                </a:lnTo>
                <a:lnTo>
                  <a:pt x="31" y="132"/>
                </a:lnTo>
                <a:lnTo>
                  <a:pt x="25" y="209"/>
                </a:lnTo>
                <a:lnTo>
                  <a:pt x="18" y="286"/>
                </a:lnTo>
                <a:lnTo>
                  <a:pt x="11" y="366"/>
                </a:lnTo>
                <a:lnTo>
                  <a:pt x="11" y="366"/>
                </a:lnTo>
                <a:lnTo>
                  <a:pt x="7" y="395"/>
                </a:lnTo>
                <a:lnTo>
                  <a:pt x="7" y="395"/>
                </a:lnTo>
                <a:lnTo>
                  <a:pt x="3" y="474"/>
                </a:lnTo>
                <a:lnTo>
                  <a:pt x="4" y="472"/>
                </a:lnTo>
                <a:lnTo>
                  <a:pt x="1" y="480"/>
                </a:lnTo>
                <a:lnTo>
                  <a:pt x="0" y="540"/>
                </a:lnTo>
                <a:lnTo>
                  <a:pt x="22" y="516"/>
                </a:lnTo>
                <a:lnTo>
                  <a:pt x="41" y="488"/>
                </a:lnTo>
                <a:lnTo>
                  <a:pt x="38" y="480"/>
                </a:lnTo>
                <a:lnTo>
                  <a:pt x="38" y="482"/>
                </a:lnTo>
                <a:lnTo>
                  <a:pt x="38" y="460"/>
                </a:lnTo>
                <a:lnTo>
                  <a:pt x="38" y="462"/>
                </a:lnTo>
                <a:lnTo>
                  <a:pt x="49" y="435"/>
                </a:lnTo>
                <a:lnTo>
                  <a:pt x="49" y="437"/>
                </a:lnTo>
                <a:lnTo>
                  <a:pt x="62" y="413"/>
                </a:lnTo>
                <a:lnTo>
                  <a:pt x="64" y="389"/>
                </a:lnTo>
                <a:lnTo>
                  <a:pt x="64" y="389"/>
                </a:lnTo>
                <a:lnTo>
                  <a:pt x="64" y="328"/>
                </a:lnTo>
                <a:lnTo>
                  <a:pt x="59" y="328"/>
                </a:lnTo>
                <a:lnTo>
                  <a:pt x="59" y="389"/>
                </a:lnTo>
                <a:lnTo>
                  <a:pt x="59" y="389"/>
                </a:lnTo>
                <a:lnTo>
                  <a:pt x="57" y="411"/>
                </a:lnTo>
                <a:lnTo>
                  <a:pt x="57" y="407"/>
                </a:lnTo>
                <a:lnTo>
                  <a:pt x="45" y="429"/>
                </a:lnTo>
                <a:lnTo>
                  <a:pt x="45" y="431"/>
                </a:lnTo>
                <a:lnTo>
                  <a:pt x="32" y="458"/>
                </a:lnTo>
                <a:lnTo>
                  <a:pt x="32" y="484"/>
                </a:lnTo>
                <a:lnTo>
                  <a:pt x="36" y="490"/>
                </a:lnTo>
                <a:lnTo>
                  <a:pt x="36" y="484"/>
                </a:lnTo>
                <a:lnTo>
                  <a:pt x="18" y="506"/>
                </a:lnTo>
                <a:lnTo>
                  <a:pt x="1" y="528"/>
                </a:lnTo>
                <a:lnTo>
                  <a:pt x="6" y="532"/>
                </a:lnTo>
                <a:lnTo>
                  <a:pt x="7" y="482"/>
                </a:lnTo>
                <a:lnTo>
                  <a:pt x="7" y="484"/>
                </a:lnTo>
                <a:lnTo>
                  <a:pt x="9" y="476"/>
                </a:lnTo>
                <a:lnTo>
                  <a:pt x="12" y="397"/>
                </a:lnTo>
                <a:lnTo>
                  <a:pt x="12" y="397"/>
                </a:lnTo>
                <a:lnTo>
                  <a:pt x="17" y="368"/>
                </a:lnTo>
                <a:lnTo>
                  <a:pt x="17" y="368"/>
                </a:lnTo>
                <a:lnTo>
                  <a:pt x="24" y="288"/>
                </a:lnTo>
                <a:lnTo>
                  <a:pt x="31" y="211"/>
                </a:lnTo>
                <a:lnTo>
                  <a:pt x="37" y="134"/>
                </a:lnTo>
                <a:lnTo>
                  <a:pt x="44" y="53"/>
                </a:lnTo>
                <a:lnTo>
                  <a:pt x="44" y="55"/>
                </a:lnTo>
                <a:lnTo>
                  <a:pt x="48" y="29"/>
                </a:lnTo>
                <a:lnTo>
                  <a:pt x="42" y="29"/>
                </a:lnTo>
                <a:lnTo>
                  <a:pt x="44" y="57"/>
                </a:lnTo>
                <a:lnTo>
                  <a:pt x="45" y="83"/>
                </a:lnTo>
                <a:lnTo>
                  <a:pt x="45" y="83"/>
                </a:lnTo>
                <a:lnTo>
                  <a:pt x="46" y="107"/>
                </a:lnTo>
                <a:lnTo>
                  <a:pt x="46" y="126"/>
                </a:lnTo>
                <a:lnTo>
                  <a:pt x="46" y="128"/>
                </a:lnTo>
                <a:lnTo>
                  <a:pt x="47" y="146"/>
                </a:lnTo>
                <a:lnTo>
                  <a:pt x="47" y="146"/>
                </a:lnTo>
                <a:lnTo>
                  <a:pt x="48" y="162"/>
                </a:lnTo>
                <a:lnTo>
                  <a:pt x="48" y="162"/>
                </a:lnTo>
                <a:lnTo>
                  <a:pt x="48" y="176"/>
                </a:lnTo>
                <a:lnTo>
                  <a:pt x="49" y="188"/>
                </a:lnTo>
                <a:lnTo>
                  <a:pt x="49" y="188"/>
                </a:lnTo>
                <a:lnTo>
                  <a:pt x="49" y="198"/>
                </a:lnTo>
                <a:lnTo>
                  <a:pt x="49" y="198"/>
                </a:lnTo>
                <a:lnTo>
                  <a:pt x="51" y="207"/>
                </a:lnTo>
                <a:lnTo>
                  <a:pt x="51" y="213"/>
                </a:lnTo>
                <a:lnTo>
                  <a:pt x="52" y="221"/>
                </a:lnTo>
                <a:lnTo>
                  <a:pt x="52" y="229"/>
                </a:lnTo>
                <a:lnTo>
                  <a:pt x="52" y="229"/>
                </a:lnTo>
                <a:lnTo>
                  <a:pt x="53" y="235"/>
                </a:lnTo>
                <a:lnTo>
                  <a:pt x="53" y="235"/>
                </a:lnTo>
                <a:lnTo>
                  <a:pt x="53" y="239"/>
                </a:lnTo>
                <a:lnTo>
                  <a:pt x="54" y="243"/>
                </a:lnTo>
                <a:lnTo>
                  <a:pt x="54" y="247"/>
                </a:lnTo>
                <a:lnTo>
                  <a:pt x="55" y="253"/>
                </a:lnTo>
                <a:lnTo>
                  <a:pt x="55" y="259"/>
                </a:lnTo>
                <a:lnTo>
                  <a:pt x="55" y="257"/>
                </a:lnTo>
                <a:lnTo>
                  <a:pt x="55" y="263"/>
                </a:lnTo>
                <a:lnTo>
                  <a:pt x="55" y="263"/>
                </a:lnTo>
                <a:lnTo>
                  <a:pt x="56" y="271"/>
                </a:lnTo>
                <a:lnTo>
                  <a:pt x="56" y="279"/>
                </a:lnTo>
                <a:lnTo>
                  <a:pt x="57" y="288"/>
                </a:lnTo>
                <a:lnTo>
                  <a:pt x="57" y="288"/>
                </a:lnTo>
                <a:lnTo>
                  <a:pt x="57" y="300"/>
                </a:lnTo>
                <a:lnTo>
                  <a:pt x="57" y="312"/>
                </a:lnTo>
                <a:lnTo>
                  <a:pt x="57" y="314"/>
                </a:lnTo>
                <a:lnTo>
                  <a:pt x="59" y="330"/>
                </a:lnTo>
                <a:lnTo>
                  <a:pt x="59" y="328"/>
                </a:lnTo>
                <a:lnTo>
                  <a:pt x="64" y="3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20" name=""/>
          <p:cNvSpPr/>
          <p:nvPr/>
        </p:nvSpPr>
        <p:spPr>
          <a:xfrm>
            <a:off x="4543560" y="608040"/>
            <a:ext cx="1114200" cy="5052960"/>
          </a:xfrm>
          <a:custGeom>
            <a:avLst/>
            <a:gdLst/>
            <a:ahLst/>
            <a:rect l="l" t="t" r="r" b="b"/>
            <a:pathLst>
              <a:path w="702" h="6366">
                <a:moveTo>
                  <a:pt x="2" y="10"/>
                </a:moveTo>
                <a:lnTo>
                  <a:pt x="0" y="6"/>
                </a:lnTo>
                <a:lnTo>
                  <a:pt x="8" y="34"/>
                </a:lnTo>
                <a:lnTo>
                  <a:pt x="43" y="59"/>
                </a:lnTo>
                <a:lnTo>
                  <a:pt x="43" y="59"/>
                </a:lnTo>
                <a:lnTo>
                  <a:pt x="76" y="97"/>
                </a:lnTo>
                <a:lnTo>
                  <a:pt x="76" y="97"/>
                </a:lnTo>
                <a:lnTo>
                  <a:pt x="98" y="129"/>
                </a:lnTo>
                <a:lnTo>
                  <a:pt x="97" y="127"/>
                </a:lnTo>
                <a:lnTo>
                  <a:pt x="99" y="134"/>
                </a:lnTo>
                <a:lnTo>
                  <a:pt x="106" y="164"/>
                </a:lnTo>
                <a:lnTo>
                  <a:pt x="106" y="162"/>
                </a:lnTo>
                <a:lnTo>
                  <a:pt x="106" y="176"/>
                </a:lnTo>
                <a:lnTo>
                  <a:pt x="113" y="192"/>
                </a:lnTo>
                <a:lnTo>
                  <a:pt x="120" y="196"/>
                </a:lnTo>
                <a:lnTo>
                  <a:pt x="119" y="194"/>
                </a:lnTo>
                <a:lnTo>
                  <a:pt x="121" y="208"/>
                </a:lnTo>
                <a:lnTo>
                  <a:pt x="134" y="233"/>
                </a:lnTo>
                <a:lnTo>
                  <a:pt x="134" y="233"/>
                </a:lnTo>
                <a:lnTo>
                  <a:pt x="135" y="235"/>
                </a:lnTo>
                <a:lnTo>
                  <a:pt x="134" y="231"/>
                </a:lnTo>
                <a:lnTo>
                  <a:pt x="134" y="237"/>
                </a:lnTo>
                <a:lnTo>
                  <a:pt x="135" y="233"/>
                </a:lnTo>
                <a:lnTo>
                  <a:pt x="131" y="241"/>
                </a:lnTo>
                <a:lnTo>
                  <a:pt x="134" y="241"/>
                </a:lnTo>
                <a:lnTo>
                  <a:pt x="119" y="227"/>
                </a:lnTo>
                <a:lnTo>
                  <a:pt x="119" y="227"/>
                </a:lnTo>
                <a:lnTo>
                  <a:pt x="108" y="219"/>
                </a:lnTo>
                <a:lnTo>
                  <a:pt x="97" y="214"/>
                </a:lnTo>
                <a:lnTo>
                  <a:pt x="90" y="229"/>
                </a:lnTo>
                <a:lnTo>
                  <a:pt x="90" y="314"/>
                </a:lnTo>
                <a:lnTo>
                  <a:pt x="90" y="312"/>
                </a:lnTo>
                <a:lnTo>
                  <a:pt x="84" y="338"/>
                </a:lnTo>
                <a:lnTo>
                  <a:pt x="84" y="362"/>
                </a:lnTo>
                <a:lnTo>
                  <a:pt x="86" y="358"/>
                </a:lnTo>
                <a:lnTo>
                  <a:pt x="80" y="366"/>
                </a:lnTo>
                <a:lnTo>
                  <a:pt x="80" y="397"/>
                </a:lnTo>
                <a:lnTo>
                  <a:pt x="81" y="393"/>
                </a:lnTo>
                <a:lnTo>
                  <a:pt x="74" y="405"/>
                </a:lnTo>
                <a:lnTo>
                  <a:pt x="75" y="494"/>
                </a:lnTo>
                <a:lnTo>
                  <a:pt x="75" y="494"/>
                </a:lnTo>
                <a:lnTo>
                  <a:pt x="84" y="581"/>
                </a:lnTo>
                <a:lnTo>
                  <a:pt x="84" y="581"/>
                </a:lnTo>
                <a:lnTo>
                  <a:pt x="82" y="625"/>
                </a:lnTo>
                <a:lnTo>
                  <a:pt x="82" y="625"/>
                </a:lnTo>
                <a:lnTo>
                  <a:pt x="59" y="803"/>
                </a:lnTo>
                <a:lnTo>
                  <a:pt x="59" y="803"/>
                </a:lnTo>
                <a:lnTo>
                  <a:pt x="54" y="864"/>
                </a:lnTo>
                <a:lnTo>
                  <a:pt x="54" y="862"/>
                </a:lnTo>
                <a:lnTo>
                  <a:pt x="50" y="884"/>
                </a:lnTo>
                <a:lnTo>
                  <a:pt x="58" y="915"/>
                </a:lnTo>
                <a:lnTo>
                  <a:pt x="74" y="955"/>
                </a:lnTo>
                <a:lnTo>
                  <a:pt x="74" y="955"/>
                </a:lnTo>
                <a:lnTo>
                  <a:pt x="80" y="975"/>
                </a:lnTo>
                <a:lnTo>
                  <a:pt x="96" y="1000"/>
                </a:lnTo>
                <a:lnTo>
                  <a:pt x="102" y="994"/>
                </a:lnTo>
                <a:lnTo>
                  <a:pt x="101" y="994"/>
                </a:lnTo>
                <a:lnTo>
                  <a:pt x="105" y="994"/>
                </a:lnTo>
                <a:lnTo>
                  <a:pt x="103" y="994"/>
                </a:lnTo>
                <a:lnTo>
                  <a:pt x="126" y="1030"/>
                </a:lnTo>
                <a:lnTo>
                  <a:pt x="169" y="1073"/>
                </a:lnTo>
                <a:lnTo>
                  <a:pt x="187" y="1081"/>
                </a:lnTo>
                <a:lnTo>
                  <a:pt x="232" y="1109"/>
                </a:lnTo>
                <a:lnTo>
                  <a:pt x="232" y="1109"/>
                </a:lnTo>
                <a:lnTo>
                  <a:pt x="267" y="1139"/>
                </a:lnTo>
                <a:lnTo>
                  <a:pt x="332" y="1198"/>
                </a:lnTo>
                <a:lnTo>
                  <a:pt x="347" y="1200"/>
                </a:lnTo>
                <a:lnTo>
                  <a:pt x="344" y="1200"/>
                </a:lnTo>
                <a:lnTo>
                  <a:pt x="354" y="1214"/>
                </a:lnTo>
                <a:lnTo>
                  <a:pt x="355" y="1206"/>
                </a:lnTo>
                <a:lnTo>
                  <a:pt x="349" y="1214"/>
                </a:lnTo>
                <a:lnTo>
                  <a:pt x="381" y="1253"/>
                </a:lnTo>
                <a:lnTo>
                  <a:pt x="385" y="1251"/>
                </a:lnTo>
                <a:lnTo>
                  <a:pt x="387" y="1247"/>
                </a:lnTo>
                <a:lnTo>
                  <a:pt x="388" y="1242"/>
                </a:lnTo>
                <a:lnTo>
                  <a:pt x="382" y="1244"/>
                </a:lnTo>
                <a:lnTo>
                  <a:pt x="389" y="1257"/>
                </a:lnTo>
                <a:lnTo>
                  <a:pt x="395" y="1259"/>
                </a:lnTo>
                <a:lnTo>
                  <a:pt x="393" y="1257"/>
                </a:lnTo>
                <a:lnTo>
                  <a:pt x="428" y="1311"/>
                </a:lnTo>
                <a:lnTo>
                  <a:pt x="426" y="1309"/>
                </a:lnTo>
                <a:lnTo>
                  <a:pt x="463" y="1398"/>
                </a:lnTo>
                <a:lnTo>
                  <a:pt x="463" y="1398"/>
                </a:lnTo>
                <a:lnTo>
                  <a:pt x="496" y="1499"/>
                </a:lnTo>
                <a:lnTo>
                  <a:pt x="496" y="1499"/>
                </a:lnTo>
                <a:lnTo>
                  <a:pt x="504" y="1536"/>
                </a:lnTo>
                <a:lnTo>
                  <a:pt x="504" y="1536"/>
                </a:lnTo>
                <a:lnTo>
                  <a:pt x="514" y="1568"/>
                </a:lnTo>
                <a:lnTo>
                  <a:pt x="513" y="1568"/>
                </a:lnTo>
                <a:lnTo>
                  <a:pt x="522" y="1629"/>
                </a:lnTo>
                <a:lnTo>
                  <a:pt x="542" y="1746"/>
                </a:lnTo>
                <a:lnTo>
                  <a:pt x="557" y="1819"/>
                </a:lnTo>
                <a:lnTo>
                  <a:pt x="583" y="1973"/>
                </a:lnTo>
                <a:lnTo>
                  <a:pt x="616" y="2149"/>
                </a:lnTo>
                <a:lnTo>
                  <a:pt x="616" y="2151"/>
                </a:lnTo>
                <a:lnTo>
                  <a:pt x="632" y="2214"/>
                </a:lnTo>
                <a:lnTo>
                  <a:pt x="632" y="2214"/>
                </a:lnTo>
                <a:lnTo>
                  <a:pt x="654" y="2309"/>
                </a:lnTo>
                <a:lnTo>
                  <a:pt x="654" y="2309"/>
                </a:lnTo>
                <a:lnTo>
                  <a:pt x="668" y="2353"/>
                </a:lnTo>
                <a:lnTo>
                  <a:pt x="667" y="2353"/>
                </a:lnTo>
                <a:lnTo>
                  <a:pt x="669" y="2364"/>
                </a:lnTo>
                <a:lnTo>
                  <a:pt x="681" y="2380"/>
                </a:lnTo>
                <a:lnTo>
                  <a:pt x="684" y="2374"/>
                </a:lnTo>
                <a:lnTo>
                  <a:pt x="682" y="2376"/>
                </a:lnTo>
                <a:lnTo>
                  <a:pt x="686" y="2376"/>
                </a:lnTo>
                <a:lnTo>
                  <a:pt x="684" y="2372"/>
                </a:lnTo>
                <a:lnTo>
                  <a:pt x="685" y="2455"/>
                </a:lnTo>
                <a:lnTo>
                  <a:pt x="690" y="2465"/>
                </a:lnTo>
                <a:lnTo>
                  <a:pt x="700" y="2455"/>
                </a:lnTo>
                <a:lnTo>
                  <a:pt x="696" y="2451"/>
                </a:lnTo>
                <a:lnTo>
                  <a:pt x="696" y="2471"/>
                </a:lnTo>
                <a:lnTo>
                  <a:pt x="698" y="2467"/>
                </a:lnTo>
                <a:lnTo>
                  <a:pt x="691" y="2467"/>
                </a:lnTo>
                <a:lnTo>
                  <a:pt x="691" y="2517"/>
                </a:lnTo>
                <a:lnTo>
                  <a:pt x="699" y="2521"/>
                </a:lnTo>
                <a:lnTo>
                  <a:pt x="697" y="2515"/>
                </a:lnTo>
                <a:lnTo>
                  <a:pt x="697" y="2521"/>
                </a:lnTo>
                <a:lnTo>
                  <a:pt x="700" y="2515"/>
                </a:lnTo>
                <a:lnTo>
                  <a:pt x="692" y="2511"/>
                </a:lnTo>
                <a:lnTo>
                  <a:pt x="691" y="2655"/>
                </a:lnTo>
                <a:lnTo>
                  <a:pt x="691" y="2653"/>
                </a:lnTo>
                <a:lnTo>
                  <a:pt x="689" y="2659"/>
                </a:lnTo>
                <a:lnTo>
                  <a:pt x="692" y="2677"/>
                </a:lnTo>
                <a:lnTo>
                  <a:pt x="692" y="2673"/>
                </a:lnTo>
                <a:lnTo>
                  <a:pt x="687" y="2708"/>
                </a:lnTo>
                <a:lnTo>
                  <a:pt x="687" y="2708"/>
                </a:lnTo>
                <a:lnTo>
                  <a:pt x="682" y="2827"/>
                </a:lnTo>
                <a:lnTo>
                  <a:pt x="674" y="2938"/>
                </a:lnTo>
                <a:lnTo>
                  <a:pt x="670" y="2981"/>
                </a:lnTo>
                <a:lnTo>
                  <a:pt x="671" y="2977"/>
                </a:lnTo>
                <a:lnTo>
                  <a:pt x="660" y="2989"/>
                </a:lnTo>
                <a:lnTo>
                  <a:pt x="654" y="3003"/>
                </a:lnTo>
                <a:lnTo>
                  <a:pt x="655" y="3001"/>
                </a:lnTo>
                <a:lnTo>
                  <a:pt x="642" y="3013"/>
                </a:lnTo>
                <a:lnTo>
                  <a:pt x="644" y="3013"/>
                </a:lnTo>
                <a:lnTo>
                  <a:pt x="580" y="3023"/>
                </a:lnTo>
                <a:lnTo>
                  <a:pt x="580" y="3023"/>
                </a:lnTo>
                <a:lnTo>
                  <a:pt x="529" y="3025"/>
                </a:lnTo>
                <a:lnTo>
                  <a:pt x="530" y="3025"/>
                </a:lnTo>
                <a:lnTo>
                  <a:pt x="520" y="3021"/>
                </a:lnTo>
                <a:lnTo>
                  <a:pt x="511" y="3021"/>
                </a:lnTo>
                <a:lnTo>
                  <a:pt x="511" y="3046"/>
                </a:lnTo>
                <a:lnTo>
                  <a:pt x="518" y="3088"/>
                </a:lnTo>
                <a:lnTo>
                  <a:pt x="518" y="3088"/>
                </a:lnTo>
                <a:lnTo>
                  <a:pt x="521" y="3143"/>
                </a:lnTo>
                <a:lnTo>
                  <a:pt x="526" y="3157"/>
                </a:lnTo>
                <a:lnTo>
                  <a:pt x="526" y="3155"/>
                </a:lnTo>
                <a:lnTo>
                  <a:pt x="526" y="3173"/>
                </a:lnTo>
                <a:lnTo>
                  <a:pt x="531" y="3177"/>
                </a:lnTo>
                <a:lnTo>
                  <a:pt x="529" y="3173"/>
                </a:lnTo>
                <a:lnTo>
                  <a:pt x="533" y="3232"/>
                </a:lnTo>
                <a:lnTo>
                  <a:pt x="533" y="3232"/>
                </a:lnTo>
                <a:lnTo>
                  <a:pt x="533" y="3288"/>
                </a:lnTo>
                <a:lnTo>
                  <a:pt x="534" y="3286"/>
                </a:lnTo>
                <a:lnTo>
                  <a:pt x="523" y="3323"/>
                </a:lnTo>
                <a:lnTo>
                  <a:pt x="523" y="3323"/>
                </a:lnTo>
                <a:lnTo>
                  <a:pt x="514" y="3345"/>
                </a:lnTo>
                <a:lnTo>
                  <a:pt x="518" y="3349"/>
                </a:lnTo>
                <a:lnTo>
                  <a:pt x="516" y="3345"/>
                </a:lnTo>
                <a:lnTo>
                  <a:pt x="508" y="3375"/>
                </a:lnTo>
                <a:lnTo>
                  <a:pt x="508" y="3373"/>
                </a:lnTo>
                <a:lnTo>
                  <a:pt x="503" y="3385"/>
                </a:lnTo>
                <a:lnTo>
                  <a:pt x="498" y="3412"/>
                </a:lnTo>
                <a:lnTo>
                  <a:pt x="498" y="3460"/>
                </a:lnTo>
                <a:lnTo>
                  <a:pt x="498" y="3458"/>
                </a:lnTo>
                <a:lnTo>
                  <a:pt x="493" y="3475"/>
                </a:lnTo>
                <a:lnTo>
                  <a:pt x="495" y="3487"/>
                </a:lnTo>
                <a:lnTo>
                  <a:pt x="495" y="3485"/>
                </a:lnTo>
                <a:lnTo>
                  <a:pt x="495" y="3493"/>
                </a:lnTo>
                <a:lnTo>
                  <a:pt x="495" y="3489"/>
                </a:lnTo>
                <a:lnTo>
                  <a:pt x="485" y="3505"/>
                </a:lnTo>
                <a:lnTo>
                  <a:pt x="488" y="3503"/>
                </a:lnTo>
                <a:lnTo>
                  <a:pt x="482" y="3503"/>
                </a:lnTo>
                <a:lnTo>
                  <a:pt x="478" y="3523"/>
                </a:lnTo>
                <a:lnTo>
                  <a:pt x="482" y="3519"/>
                </a:lnTo>
                <a:lnTo>
                  <a:pt x="475" y="3519"/>
                </a:lnTo>
                <a:lnTo>
                  <a:pt x="478" y="3555"/>
                </a:lnTo>
                <a:lnTo>
                  <a:pt x="478" y="3555"/>
                </a:lnTo>
                <a:lnTo>
                  <a:pt x="481" y="3626"/>
                </a:lnTo>
                <a:lnTo>
                  <a:pt x="481" y="3628"/>
                </a:lnTo>
                <a:lnTo>
                  <a:pt x="484" y="3691"/>
                </a:lnTo>
                <a:lnTo>
                  <a:pt x="484" y="3689"/>
                </a:lnTo>
                <a:lnTo>
                  <a:pt x="485" y="3812"/>
                </a:lnTo>
                <a:lnTo>
                  <a:pt x="485" y="3812"/>
                </a:lnTo>
                <a:lnTo>
                  <a:pt x="495" y="4011"/>
                </a:lnTo>
                <a:lnTo>
                  <a:pt x="499" y="4039"/>
                </a:lnTo>
                <a:lnTo>
                  <a:pt x="499" y="4039"/>
                </a:lnTo>
                <a:lnTo>
                  <a:pt x="504" y="4138"/>
                </a:lnTo>
                <a:lnTo>
                  <a:pt x="510" y="4144"/>
                </a:lnTo>
                <a:lnTo>
                  <a:pt x="508" y="4140"/>
                </a:lnTo>
                <a:lnTo>
                  <a:pt x="508" y="4144"/>
                </a:lnTo>
                <a:lnTo>
                  <a:pt x="511" y="4165"/>
                </a:lnTo>
                <a:lnTo>
                  <a:pt x="514" y="4159"/>
                </a:lnTo>
                <a:lnTo>
                  <a:pt x="489" y="4152"/>
                </a:lnTo>
                <a:lnTo>
                  <a:pt x="491" y="4227"/>
                </a:lnTo>
                <a:lnTo>
                  <a:pt x="496" y="4239"/>
                </a:lnTo>
                <a:lnTo>
                  <a:pt x="496" y="4235"/>
                </a:lnTo>
                <a:lnTo>
                  <a:pt x="498" y="4308"/>
                </a:lnTo>
                <a:lnTo>
                  <a:pt x="498" y="4310"/>
                </a:lnTo>
                <a:lnTo>
                  <a:pt x="505" y="4371"/>
                </a:lnTo>
                <a:lnTo>
                  <a:pt x="510" y="4438"/>
                </a:lnTo>
                <a:lnTo>
                  <a:pt x="513" y="4476"/>
                </a:lnTo>
                <a:lnTo>
                  <a:pt x="513" y="4476"/>
                </a:lnTo>
                <a:lnTo>
                  <a:pt x="513" y="4500"/>
                </a:lnTo>
                <a:lnTo>
                  <a:pt x="521" y="4545"/>
                </a:lnTo>
                <a:lnTo>
                  <a:pt x="521" y="4541"/>
                </a:lnTo>
                <a:lnTo>
                  <a:pt x="518" y="4557"/>
                </a:lnTo>
                <a:lnTo>
                  <a:pt x="526" y="4596"/>
                </a:lnTo>
                <a:lnTo>
                  <a:pt x="526" y="4594"/>
                </a:lnTo>
                <a:lnTo>
                  <a:pt x="526" y="4608"/>
                </a:lnTo>
                <a:lnTo>
                  <a:pt x="529" y="4636"/>
                </a:lnTo>
                <a:lnTo>
                  <a:pt x="529" y="4634"/>
                </a:lnTo>
                <a:lnTo>
                  <a:pt x="529" y="4654"/>
                </a:lnTo>
                <a:lnTo>
                  <a:pt x="537" y="4721"/>
                </a:lnTo>
                <a:lnTo>
                  <a:pt x="537" y="4721"/>
                </a:lnTo>
                <a:lnTo>
                  <a:pt x="536" y="4749"/>
                </a:lnTo>
                <a:lnTo>
                  <a:pt x="536" y="4755"/>
                </a:lnTo>
                <a:lnTo>
                  <a:pt x="538" y="4749"/>
                </a:lnTo>
                <a:lnTo>
                  <a:pt x="470" y="4790"/>
                </a:lnTo>
                <a:lnTo>
                  <a:pt x="466" y="4800"/>
                </a:lnTo>
                <a:lnTo>
                  <a:pt x="473" y="4911"/>
                </a:lnTo>
                <a:lnTo>
                  <a:pt x="473" y="4911"/>
                </a:lnTo>
                <a:lnTo>
                  <a:pt x="469" y="5035"/>
                </a:lnTo>
                <a:lnTo>
                  <a:pt x="471" y="5184"/>
                </a:lnTo>
                <a:lnTo>
                  <a:pt x="495" y="5361"/>
                </a:lnTo>
                <a:lnTo>
                  <a:pt x="501" y="5407"/>
                </a:lnTo>
                <a:lnTo>
                  <a:pt x="501" y="5407"/>
                </a:lnTo>
                <a:lnTo>
                  <a:pt x="513" y="5591"/>
                </a:lnTo>
                <a:lnTo>
                  <a:pt x="513" y="5591"/>
                </a:lnTo>
                <a:lnTo>
                  <a:pt x="516" y="5747"/>
                </a:lnTo>
                <a:lnTo>
                  <a:pt x="521" y="5901"/>
                </a:lnTo>
                <a:lnTo>
                  <a:pt x="521" y="5901"/>
                </a:lnTo>
                <a:lnTo>
                  <a:pt x="527" y="6036"/>
                </a:lnTo>
                <a:lnTo>
                  <a:pt x="540" y="6219"/>
                </a:lnTo>
                <a:lnTo>
                  <a:pt x="547" y="6285"/>
                </a:lnTo>
                <a:lnTo>
                  <a:pt x="563" y="6293"/>
                </a:lnTo>
                <a:lnTo>
                  <a:pt x="562" y="6291"/>
                </a:lnTo>
                <a:lnTo>
                  <a:pt x="568" y="6306"/>
                </a:lnTo>
                <a:lnTo>
                  <a:pt x="568" y="6304"/>
                </a:lnTo>
                <a:lnTo>
                  <a:pt x="571" y="6324"/>
                </a:lnTo>
                <a:lnTo>
                  <a:pt x="571" y="6324"/>
                </a:lnTo>
                <a:lnTo>
                  <a:pt x="571" y="6332"/>
                </a:lnTo>
                <a:lnTo>
                  <a:pt x="574" y="6342"/>
                </a:lnTo>
                <a:lnTo>
                  <a:pt x="593" y="6302"/>
                </a:lnTo>
                <a:lnTo>
                  <a:pt x="592" y="6304"/>
                </a:lnTo>
                <a:lnTo>
                  <a:pt x="601" y="6295"/>
                </a:lnTo>
                <a:lnTo>
                  <a:pt x="600" y="6297"/>
                </a:lnTo>
                <a:lnTo>
                  <a:pt x="605" y="6297"/>
                </a:lnTo>
                <a:lnTo>
                  <a:pt x="604" y="6295"/>
                </a:lnTo>
                <a:lnTo>
                  <a:pt x="623" y="6312"/>
                </a:lnTo>
                <a:lnTo>
                  <a:pt x="624" y="6312"/>
                </a:lnTo>
                <a:lnTo>
                  <a:pt x="669" y="6338"/>
                </a:lnTo>
                <a:lnTo>
                  <a:pt x="668" y="6338"/>
                </a:lnTo>
                <a:lnTo>
                  <a:pt x="671" y="6342"/>
                </a:lnTo>
                <a:lnTo>
                  <a:pt x="670" y="6336"/>
                </a:lnTo>
                <a:lnTo>
                  <a:pt x="665" y="6356"/>
                </a:lnTo>
                <a:lnTo>
                  <a:pt x="665" y="6366"/>
                </a:lnTo>
                <a:lnTo>
                  <a:pt x="667" y="6364"/>
                </a:lnTo>
                <a:lnTo>
                  <a:pt x="671" y="6356"/>
                </a:lnTo>
                <a:lnTo>
                  <a:pt x="671" y="6358"/>
                </a:lnTo>
                <a:lnTo>
                  <a:pt x="676" y="6338"/>
                </a:lnTo>
                <a:lnTo>
                  <a:pt x="671" y="6330"/>
                </a:lnTo>
                <a:lnTo>
                  <a:pt x="625" y="6302"/>
                </a:lnTo>
                <a:lnTo>
                  <a:pt x="626" y="6302"/>
                </a:lnTo>
                <a:lnTo>
                  <a:pt x="605" y="6287"/>
                </a:lnTo>
                <a:lnTo>
                  <a:pt x="598" y="6287"/>
                </a:lnTo>
                <a:lnTo>
                  <a:pt x="588" y="6297"/>
                </a:lnTo>
                <a:lnTo>
                  <a:pt x="572" y="6330"/>
                </a:lnTo>
                <a:lnTo>
                  <a:pt x="577" y="6330"/>
                </a:lnTo>
                <a:lnTo>
                  <a:pt x="575" y="6328"/>
                </a:lnTo>
                <a:lnTo>
                  <a:pt x="577" y="6330"/>
                </a:lnTo>
                <a:lnTo>
                  <a:pt x="577" y="6324"/>
                </a:lnTo>
                <a:lnTo>
                  <a:pt x="577" y="6322"/>
                </a:lnTo>
                <a:lnTo>
                  <a:pt x="573" y="6301"/>
                </a:lnTo>
                <a:lnTo>
                  <a:pt x="565" y="6283"/>
                </a:lnTo>
                <a:lnTo>
                  <a:pt x="550" y="6275"/>
                </a:lnTo>
                <a:lnTo>
                  <a:pt x="552" y="6281"/>
                </a:lnTo>
                <a:lnTo>
                  <a:pt x="545" y="6219"/>
                </a:lnTo>
                <a:lnTo>
                  <a:pt x="533" y="6034"/>
                </a:lnTo>
                <a:lnTo>
                  <a:pt x="527" y="5901"/>
                </a:lnTo>
                <a:lnTo>
                  <a:pt x="527" y="5901"/>
                </a:lnTo>
                <a:lnTo>
                  <a:pt x="522" y="5747"/>
                </a:lnTo>
                <a:lnTo>
                  <a:pt x="519" y="5591"/>
                </a:lnTo>
                <a:lnTo>
                  <a:pt x="519" y="5589"/>
                </a:lnTo>
                <a:lnTo>
                  <a:pt x="507" y="5405"/>
                </a:lnTo>
                <a:lnTo>
                  <a:pt x="507" y="5405"/>
                </a:lnTo>
                <a:lnTo>
                  <a:pt x="500" y="5359"/>
                </a:lnTo>
                <a:lnTo>
                  <a:pt x="477" y="5182"/>
                </a:lnTo>
                <a:lnTo>
                  <a:pt x="477" y="5184"/>
                </a:lnTo>
                <a:lnTo>
                  <a:pt x="475" y="5035"/>
                </a:lnTo>
                <a:lnTo>
                  <a:pt x="478" y="4911"/>
                </a:lnTo>
                <a:lnTo>
                  <a:pt x="478" y="4909"/>
                </a:lnTo>
                <a:lnTo>
                  <a:pt x="471" y="4802"/>
                </a:lnTo>
                <a:lnTo>
                  <a:pt x="470" y="4806"/>
                </a:lnTo>
                <a:lnTo>
                  <a:pt x="475" y="4798"/>
                </a:lnTo>
                <a:lnTo>
                  <a:pt x="473" y="4800"/>
                </a:lnTo>
                <a:lnTo>
                  <a:pt x="542" y="4757"/>
                </a:lnTo>
                <a:lnTo>
                  <a:pt x="542" y="4749"/>
                </a:lnTo>
                <a:lnTo>
                  <a:pt x="542" y="4749"/>
                </a:lnTo>
                <a:lnTo>
                  <a:pt x="543" y="4721"/>
                </a:lnTo>
                <a:lnTo>
                  <a:pt x="536" y="4652"/>
                </a:lnTo>
                <a:lnTo>
                  <a:pt x="536" y="4652"/>
                </a:lnTo>
                <a:lnTo>
                  <a:pt x="536" y="4634"/>
                </a:lnTo>
                <a:lnTo>
                  <a:pt x="531" y="4606"/>
                </a:lnTo>
                <a:lnTo>
                  <a:pt x="531" y="4606"/>
                </a:lnTo>
                <a:lnTo>
                  <a:pt x="531" y="4594"/>
                </a:lnTo>
                <a:lnTo>
                  <a:pt x="523" y="4555"/>
                </a:lnTo>
                <a:lnTo>
                  <a:pt x="523" y="4559"/>
                </a:lnTo>
                <a:lnTo>
                  <a:pt x="527" y="4545"/>
                </a:lnTo>
                <a:lnTo>
                  <a:pt x="519" y="4498"/>
                </a:lnTo>
                <a:lnTo>
                  <a:pt x="519" y="4498"/>
                </a:lnTo>
                <a:lnTo>
                  <a:pt x="519" y="4476"/>
                </a:lnTo>
                <a:lnTo>
                  <a:pt x="515" y="4436"/>
                </a:lnTo>
                <a:lnTo>
                  <a:pt x="511" y="4369"/>
                </a:lnTo>
                <a:lnTo>
                  <a:pt x="504" y="4308"/>
                </a:lnTo>
                <a:lnTo>
                  <a:pt x="504" y="4308"/>
                </a:lnTo>
                <a:lnTo>
                  <a:pt x="501" y="4235"/>
                </a:lnTo>
                <a:lnTo>
                  <a:pt x="497" y="4223"/>
                </a:lnTo>
                <a:lnTo>
                  <a:pt x="497" y="4225"/>
                </a:lnTo>
                <a:lnTo>
                  <a:pt x="495" y="4158"/>
                </a:lnTo>
                <a:lnTo>
                  <a:pt x="491" y="4163"/>
                </a:lnTo>
                <a:lnTo>
                  <a:pt x="516" y="4169"/>
                </a:lnTo>
                <a:lnTo>
                  <a:pt x="514" y="4142"/>
                </a:lnTo>
                <a:lnTo>
                  <a:pt x="514" y="4142"/>
                </a:lnTo>
                <a:lnTo>
                  <a:pt x="513" y="4138"/>
                </a:lnTo>
                <a:lnTo>
                  <a:pt x="508" y="4130"/>
                </a:lnTo>
                <a:lnTo>
                  <a:pt x="510" y="4134"/>
                </a:lnTo>
                <a:lnTo>
                  <a:pt x="505" y="4037"/>
                </a:lnTo>
                <a:lnTo>
                  <a:pt x="500" y="4009"/>
                </a:lnTo>
                <a:lnTo>
                  <a:pt x="500" y="4009"/>
                </a:lnTo>
                <a:lnTo>
                  <a:pt x="491" y="3812"/>
                </a:lnTo>
                <a:lnTo>
                  <a:pt x="491" y="3812"/>
                </a:lnTo>
                <a:lnTo>
                  <a:pt x="490" y="3689"/>
                </a:lnTo>
                <a:lnTo>
                  <a:pt x="490" y="3689"/>
                </a:lnTo>
                <a:lnTo>
                  <a:pt x="486" y="3626"/>
                </a:lnTo>
                <a:lnTo>
                  <a:pt x="486" y="3626"/>
                </a:lnTo>
                <a:lnTo>
                  <a:pt x="484" y="3555"/>
                </a:lnTo>
                <a:lnTo>
                  <a:pt x="484" y="3553"/>
                </a:lnTo>
                <a:lnTo>
                  <a:pt x="481" y="3523"/>
                </a:lnTo>
                <a:lnTo>
                  <a:pt x="478" y="3529"/>
                </a:lnTo>
                <a:lnTo>
                  <a:pt x="483" y="3529"/>
                </a:lnTo>
                <a:lnTo>
                  <a:pt x="486" y="3509"/>
                </a:lnTo>
                <a:lnTo>
                  <a:pt x="484" y="3513"/>
                </a:lnTo>
                <a:lnTo>
                  <a:pt x="488" y="3513"/>
                </a:lnTo>
                <a:lnTo>
                  <a:pt x="499" y="3495"/>
                </a:lnTo>
                <a:lnTo>
                  <a:pt x="500" y="3485"/>
                </a:lnTo>
                <a:lnTo>
                  <a:pt x="499" y="3475"/>
                </a:lnTo>
                <a:lnTo>
                  <a:pt x="498" y="3477"/>
                </a:lnTo>
                <a:lnTo>
                  <a:pt x="504" y="3462"/>
                </a:lnTo>
                <a:lnTo>
                  <a:pt x="504" y="3412"/>
                </a:lnTo>
                <a:lnTo>
                  <a:pt x="504" y="3414"/>
                </a:lnTo>
                <a:lnTo>
                  <a:pt x="507" y="3388"/>
                </a:lnTo>
                <a:lnTo>
                  <a:pt x="506" y="3390"/>
                </a:lnTo>
                <a:lnTo>
                  <a:pt x="513" y="3379"/>
                </a:lnTo>
                <a:lnTo>
                  <a:pt x="522" y="3345"/>
                </a:lnTo>
                <a:lnTo>
                  <a:pt x="520" y="3341"/>
                </a:lnTo>
                <a:lnTo>
                  <a:pt x="521" y="3347"/>
                </a:lnTo>
                <a:lnTo>
                  <a:pt x="528" y="3329"/>
                </a:lnTo>
                <a:lnTo>
                  <a:pt x="528" y="3327"/>
                </a:lnTo>
                <a:lnTo>
                  <a:pt x="538" y="3290"/>
                </a:lnTo>
                <a:lnTo>
                  <a:pt x="538" y="3232"/>
                </a:lnTo>
                <a:lnTo>
                  <a:pt x="538" y="3232"/>
                </a:lnTo>
                <a:lnTo>
                  <a:pt x="535" y="3169"/>
                </a:lnTo>
                <a:lnTo>
                  <a:pt x="529" y="3165"/>
                </a:lnTo>
                <a:lnTo>
                  <a:pt x="531" y="3169"/>
                </a:lnTo>
                <a:lnTo>
                  <a:pt x="531" y="3153"/>
                </a:lnTo>
                <a:lnTo>
                  <a:pt x="527" y="3139"/>
                </a:lnTo>
                <a:lnTo>
                  <a:pt x="527" y="3141"/>
                </a:lnTo>
                <a:lnTo>
                  <a:pt x="523" y="3086"/>
                </a:lnTo>
                <a:lnTo>
                  <a:pt x="516" y="3045"/>
                </a:lnTo>
                <a:lnTo>
                  <a:pt x="516" y="3045"/>
                </a:lnTo>
                <a:lnTo>
                  <a:pt x="516" y="3025"/>
                </a:lnTo>
                <a:lnTo>
                  <a:pt x="513" y="3031"/>
                </a:lnTo>
                <a:lnTo>
                  <a:pt x="520" y="3031"/>
                </a:lnTo>
                <a:lnTo>
                  <a:pt x="519" y="3031"/>
                </a:lnTo>
                <a:lnTo>
                  <a:pt x="529" y="3035"/>
                </a:lnTo>
                <a:lnTo>
                  <a:pt x="580" y="3033"/>
                </a:lnTo>
                <a:lnTo>
                  <a:pt x="581" y="3033"/>
                </a:lnTo>
                <a:lnTo>
                  <a:pt x="645" y="3023"/>
                </a:lnTo>
                <a:lnTo>
                  <a:pt x="659" y="3009"/>
                </a:lnTo>
                <a:lnTo>
                  <a:pt x="663" y="2995"/>
                </a:lnTo>
                <a:lnTo>
                  <a:pt x="662" y="2997"/>
                </a:lnTo>
                <a:lnTo>
                  <a:pt x="675" y="2985"/>
                </a:lnTo>
                <a:lnTo>
                  <a:pt x="679" y="2940"/>
                </a:lnTo>
                <a:lnTo>
                  <a:pt x="687" y="2829"/>
                </a:lnTo>
                <a:lnTo>
                  <a:pt x="693" y="2710"/>
                </a:lnTo>
                <a:lnTo>
                  <a:pt x="693" y="2710"/>
                </a:lnTo>
                <a:lnTo>
                  <a:pt x="698" y="2673"/>
                </a:lnTo>
                <a:lnTo>
                  <a:pt x="694" y="2659"/>
                </a:lnTo>
                <a:lnTo>
                  <a:pt x="694" y="2663"/>
                </a:lnTo>
                <a:lnTo>
                  <a:pt x="697" y="2657"/>
                </a:lnTo>
                <a:lnTo>
                  <a:pt x="698" y="2517"/>
                </a:lnTo>
                <a:lnTo>
                  <a:pt x="694" y="2523"/>
                </a:lnTo>
                <a:lnTo>
                  <a:pt x="702" y="2527"/>
                </a:lnTo>
                <a:lnTo>
                  <a:pt x="702" y="2511"/>
                </a:lnTo>
                <a:lnTo>
                  <a:pt x="694" y="2507"/>
                </a:lnTo>
                <a:lnTo>
                  <a:pt x="697" y="2513"/>
                </a:lnTo>
                <a:lnTo>
                  <a:pt x="697" y="2471"/>
                </a:lnTo>
                <a:lnTo>
                  <a:pt x="693" y="2477"/>
                </a:lnTo>
                <a:lnTo>
                  <a:pt x="700" y="2477"/>
                </a:lnTo>
                <a:lnTo>
                  <a:pt x="701" y="2444"/>
                </a:lnTo>
                <a:lnTo>
                  <a:pt x="689" y="2455"/>
                </a:lnTo>
                <a:lnTo>
                  <a:pt x="693" y="2455"/>
                </a:lnTo>
                <a:lnTo>
                  <a:pt x="690" y="2451"/>
                </a:lnTo>
                <a:lnTo>
                  <a:pt x="691" y="2453"/>
                </a:lnTo>
                <a:lnTo>
                  <a:pt x="689" y="2366"/>
                </a:lnTo>
                <a:lnTo>
                  <a:pt x="681" y="2366"/>
                </a:lnTo>
                <a:lnTo>
                  <a:pt x="678" y="2370"/>
                </a:lnTo>
                <a:lnTo>
                  <a:pt x="683" y="2370"/>
                </a:lnTo>
                <a:lnTo>
                  <a:pt x="674" y="2357"/>
                </a:lnTo>
                <a:lnTo>
                  <a:pt x="675" y="2359"/>
                </a:lnTo>
                <a:lnTo>
                  <a:pt x="672" y="2349"/>
                </a:lnTo>
                <a:lnTo>
                  <a:pt x="660" y="2305"/>
                </a:lnTo>
                <a:lnTo>
                  <a:pt x="660" y="2305"/>
                </a:lnTo>
                <a:lnTo>
                  <a:pt x="638" y="2210"/>
                </a:lnTo>
                <a:lnTo>
                  <a:pt x="638" y="2210"/>
                </a:lnTo>
                <a:lnTo>
                  <a:pt x="622" y="2147"/>
                </a:lnTo>
                <a:lnTo>
                  <a:pt x="622" y="2147"/>
                </a:lnTo>
                <a:lnTo>
                  <a:pt x="589" y="1971"/>
                </a:lnTo>
                <a:lnTo>
                  <a:pt x="563" y="1815"/>
                </a:lnTo>
                <a:lnTo>
                  <a:pt x="548" y="1744"/>
                </a:lnTo>
                <a:lnTo>
                  <a:pt x="528" y="1627"/>
                </a:lnTo>
                <a:lnTo>
                  <a:pt x="519" y="1564"/>
                </a:lnTo>
                <a:lnTo>
                  <a:pt x="508" y="1532"/>
                </a:lnTo>
                <a:lnTo>
                  <a:pt x="510" y="1532"/>
                </a:lnTo>
                <a:lnTo>
                  <a:pt x="501" y="1495"/>
                </a:lnTo>
                <a:lnTo>
                  <a:pt x="469" y="1394"/>
                </a:lnTo>
                <a:lnTo>
                  <a:pt x="469" y="1392"/>
                </a:lnTo>
                <a:lnTo>
                  <a:pt x="431" y="1303"/>
                </a:lnTo>
                <a:lnTo>
                  <a:pt x="396" y="1249"/>
                </a:lnTo>
                <a:lnTo>
                  <a:pt x="392" y="1249"/>
                </a:lnTo>
                <a:lnTo>
                  <a:pt x="393" y="1251"/>
                </a:lnTo>
                <a:lnTo>
                  <a:pt x="382" y="1228"/>
                </a:lnTo>
                <a:lnTo>
                  <a:pt x="382" y="1245"/>
                </a:lnTo>
                <a:lnTo>
                  <a:pt x="382" y="1242"/>
                </a:lnTo>
                <a:lnTo>
                  <a:pt x="381" y="1244"/>
                </a:lnTo>
                <a:lnTo>
                  <a:pt x="384" y="1244"/>
                </a:lnTo>
                <a:lnTo>
                  <a:pt x="382" y="1244"/>
                </a:lnTo>
                <a:lnTo>
                  <a:pt x="384" y="1244"/>
                </a:lnTo>
                <a:lnTo>
                  <a:pt x="356" y="1210"/>
                </a:lnTo>
                <a:lnTo>
                  <a:pt x="356" y="1216"/>
                </a:lnTo>
                <a:lnTo>
                  <a:pt x="361" y="1210"/>
                </a:lnTo>
                <a:lnTo>
                  <a:pt x="348" y="1192"/>
                </a:lnTo>
                <a:lnTo>
                  <a:pt x="333" y="1188"/>
                </a:lnTo>
                <a:lnTo>
                  <a:pt x="333" y="1188"/>
                </a:lnTo>
                <a:lnTo>
                  <a:pt x="269" y="1131"/>
                </a:lnTo>
                <a:lnTo>
                  <a:pt x="235" y="1099"/>
                </a:lnTo>
                <a:lnTo>
                  <a:pt x="235" y="1099"/>
                </a:lnTo>
                <a:lnTo>
                  <a:pt x="188" y="1072"/>
                </a:lnTo>
                <a:lnTo>
                  <a:pt x="171" y="1064"/>
                </a:lnTo>
                <a:lnTo>
                  <a:pt x="171" y="1066"/>
                </a:lnTo>
                <a:lnTo>
                  <a:pt x="129" y="1022"/>
                </a:lnTo>
                <a:lnTo>
                  <a:pt x="131" y="1022"/>
                </a:lnTo>
                <a:lnTo>
                  <a:pt x="106" y="985"/>
                </a:lnTo>
                <a:lnTo>
                  <a:pt x="99" y="985"/>
                </a:lnTo>
                <a:lnTo>
                  <a:pt x="95" y="990"/>
                </a:lnTo>
                <a:lnTo>
                  <a:pt x="98" y="990"/>
                </a:lnTo>
                <a:lnTo>
                  <a:pt x="84" y="969"/>
                </a:lnTo>
                <a:lnTo>
                  <a:pt x="86" y="971"/>
                </a:lnTo>
                <a:lnTo>
                  <a:pt x="80" y="951"/>
                </a:lnTo>
                <a:lnTo>
                  <a:pt x="80" y="949"/>
                </a:lnTo>
                <a:lnTo>
                  <a:pt x="62" y="909"/>
                </a:lnTo>
                <a:lnTo>
                  <a:pt x="62" y="909"/>
                </a:lnTo>
                <a:lnTo>
                  <a:pt x="56" y="882"/>
                </a:lnTo>
                <a:lnTo>
                  <a:pt x="56" y="886"/>
                </a:lnTo>
                <a:lnTo>
                  <a:pt x="60" y="866"/>
                </a:lnTo>
                <a:lnTo>
                  <a:pt x="65" y="805"/>
                </a:lnTo>
                <a:lnTo>
                  <a:pt x="65" y="805"/>
                </a:lnTo>
                <a:lnTo>
                  <a:pt x="88" y="629"/>
                </a:lnTo>
                <a:lnTo>
                  <a:pt x="88" y="627"/>
                </a:lnTo>
                <a:lnTo>
                  <a:pt x="90" y="581"/>
                </a:lnTo>
                <a:lnTo>
                  <a:pt x="81" y="492"/>
                </a:lnTo>
                <a:lnTo>
                  <a:pt x="81" y="494"/>
                </a:lnTo>
                <a:lnTo>
                  <a:pt x="80" y="407"/>
                </a:lnTo>
                <a:lnTo>
                  <a:pt x="79" y="411"/>
                </a:lnTo>
                <a:lnTo>
                  <a:pt x="86" y="399"/>
                </a:lnTo>
                <a:lnTo>
                  <a:pt x="86" y="368"/>
                </a:lnTo>
                <a:lnTo>
                  <a:pt x="84" y="372"/>
                </a:lnTo>
                <a:lnTo>
                  <a:pt x="90" y="364"/>
                </a:lnTo>
                <a:lnTo>
                  <a:pt x="90" y="338"/>
                </a:lnTo>
                <a:lnTo>
                  <a:pt x="90" y="340"/>
                </a:lnTo>
                <a:lnTo>
                  <a:pt x="96" y="314"/>
                </a:lnTo>
                <a:lnTo>
                  <a:pt x="96" y="229"/>
                </a:lnTo>
                <a:lnTo>
                  <a:pt x="95" y="233"/>
                </a:lnTo>
                <a:lnTo>
                  <a:pt x="99" y="223"/>
                </a:lnTo>
                <a:lnTo>
                  <a:pt x="97" y="225"/>
                </a:lnTo>
                <a:lnTo>
                  <a:pt x="105" y="229"/>
                </a:lnTo>
                <a:lnTo>
                  <a:pt x="117" y="237"/>
                </a:lnTo>
                <a:lnTo>
                  <a:pt x="117" y="237"/>
                </a:lnTo>
                <a:lnTo>
                  <a:pt x="133" y="251"/>
                </a:lnTo>
                <a:lnTo>
                  <a:pt x="140" y="239"/>
                </a:lnTo>
                <a:lnTo>
                  <a:pt x="140" y="229"/>
                </a:lnTo>
                <a:lnTo>
                  <a:pt x="138" y="227"/>
                </a:lnTo>
                <a:lnTo>
                  <a:pt x="138" y="227"/>
                </a:lnTo>
                <a:lnTo>
                  <a:pt x="126" y="202"/>
                </a:lnTo>
                <a:lnTo>
                  <a:pt x="127" y="204"/>
                </a:lnTo>
                <a:lnTo>
                  <a:pt x="124" y="190"/>
                </a:lnTo>
                <a:lnTo>
                  <a:pt x="117" y="184"/>
                </a:lnTo>
                <a:lnTo>
                  <a:pt x="118" y="184"/>
                </a:lnTo>
                <a:lnTo>
                  <a:pt x="112" y="172"/>
                </a:lnTo>
                <a:lnTo>
                  <a:pt x="112" y="174"/>
                </a:lnTo>
                <a:lnTo>
                  <a:pt x="112" y="162"/>
                </a:lnTo>
                <a:lnTo>
                  <a:pt x="104" y="129"/>
                </a:lnTo>
                <a:lnTo>
                  <a:pt x="103" y="123"/>
                </a:lnTo>
                <a:lnTo>
                  <a:pt x="80" y="89"/>
                </a:lnTo>
                <a:lnTo>
                  <a:pt x="80" y="89"/>
                </a:lnTo>
                <a:lnTo>
                  <a:pt x="46" y="51"/>
                </a:lnTo>
                <a:lnTo>
                  <a:pt x="45" y="51"/>
                </a:lnTo>
                <a:lnTo>
                  <a:pt x="12" y="26"/>
                </a:lnTo>
                <a:lnTo>
                  <a:pt x="13" y="28"/>
                </a:lnTo>
                <a:lnTo>
                  <a:pt x="5" y="0"/>
                </a:lnTo>
                <a:lnTo>
                  <a:pt x="2"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21" name=""/>
          <p:cNvSpPr/>
          <p:nvPr/>
        </p:nvSpPr>
        <p:spPr>
          <a:xfrm>
            <a:off x="3168720" y="3908520"/>
            <a:ext cx="2806560" cy="2419200"/>
          </a:xfrm>
          <a:custGeom>
            <a:avLst/>
            <a:gdLst/>
            <a:ahLst/>
            <a:rect l="l" t="t" r="r" b="b"/>
            <a:pathLst>
              <a:path w="1768" h="3048">
                <a:moveTo>
                  <a:pt x="1533" y="2206"/>
                </a:moveTo>
                <a:lnTo>
                  <a:pt x="1527" y="2220"/>
                </a:lnTo>
                <a:lnTo>
                  <a:pt x="1526" y="2267"/>
                </a:lnTo>
                <a:lnTo>
                  <a:pt x="1526" y="2265"/>
                </a:lnTo>
                <a:lnTo>
                  <a:pt x="1518" y="2299"/>
                </a:lnTo>
                <a:lnTo>
                  <a:pt x="1516" y="2301"/>
                </a:lnTo>
                <a:lnTo>
                  <a:pt x="1514" y="2318"/>
                </a:lnTo>
                <a:lnTo>
                  <a:pt x="1499" y="2400"/>
                </a:lnTo>
                <a:lnTo>
                  <a:pt x="1515" y="2437"/>
                </a:lnTo>
                <a:lnTo>
                  <a:pt x="1515" y="2433"/>
                </a:lnTo>
                <a:lnTo>
                  <a:pt x="1515" y="2435"/>
                </a:lnTo>
                <a:lnTo>
                  <a:pt x="1516" y="2431"/>
                </a:lnTo>
                <a:lnTo>
                  <a:pt x="1508" y="2447"/>
                </a:lnTo>
                <a:lnTo>
                  <a:pt x="1522" y="2451"/>
                </a:lnTo>
                <a:lnTo>
                  <a:pt x="1521" y="2449"/>
                </a:lnTo>
                <a:lnTo>
                  <a:pt x="1564" y="2508"/>
                </a:lnTo>
                <a:lnTo>
                  <a:pt x="1564" y="2508"/>
                </a:lnTo>
                <a:lnTo>
                  <a:pt x="1588" y="2548"/>
                </a:lnTo>
                <a:lnTo>
                  <a:pt x="1594" y="2548"/>
                </a:lnTo>
                <a:lnTo>
                  <a:pt x="1593" y="2548"/>
                </a:lnTo>
                <a:lnTo>
                  <a:pt x="1615" y="2579"/>
                </a:lnTo>
                <a:lnTo>
                  <a:pt x="1685" y="2625"/>
                </a:lnTo>
                <a:lnTo>
                  <a:pt x="1708" y="2637"/>
                </a:lnTo>
                <a:lnTo>
                  <a:pt x="1707" y="2637"/>
                </a:lnTo>
                <a:lnTo>
                  <a:pt x="1732" y="2666"/>
                </a:lnTo>
                <a:lnTo>
                  <a:pt x="1731" y="2666"/>
                </a:lnTo>
                <a:lnTo>
                  <a:pt x="1748" y="2706"/>
                </a:lnTo>
                <a:lnTo>
                  <a:pt x="1748" y="2704"/>
                </a:lnTo>
                <a:lnTo>
                  <a:pt x="1748" y="2712"/>
                </a:lnTo>
                <a:lnTo>
                  <a:pt x="1757" y="2726"/>
                </a:lnTo>
                <a:lnTo>
                  <a:pt x="1760" y="2720"/>
                </a:lnTo>
                <a:lnTo>
                  <a:pt x="1758" y="2722"/>
                </a:lnTo>
                <a:lnTo>
                  <a:pt x="1759" y="2722"/>
                </a:lnTo>
                <a:lnTo>
                  <a:pt x="1757" y="2720"/>
                </a:lnTo>
                <a:lnTo>
                  <a:pt x="1760" y="2728"/>
                </a:lnTo>
                <a:lnTo>
                  <a:pt x="1759" y="2724"/>
                </a:lnTo>
                <a:lnTo>
                  <a:pt x="1759" y="2744"/>
                </a:lnTo>
                <a:lnTo>
                  <a:pt x="1763" y="2751"/>
                </a:lnTo>
                <a:lnTo>
                  <a:pt x="1763" y="2749"/>
                </a:lnTo>
                <a:lnTo>
                  <a:pt x="1759" y="2829"/>
                </a:lnTo>
                <a:lnTo>
                  <a:pt x="1760" y="2825"/>
                </a:lnTo>
                <a:lnTo>
                  <a:pt x="1739" y="2868"/>
                </a:lnTo>
                <a:lnTo>
                  <a:pt x="1742" y="2866"/>
                </a:lnTo>
                <a:lnTo>
                  <a:pt x="1691" y="2862"/>
                </a:lnTo>
                <a:lnTo>
                  <a:pt x="1691" y="2862"/>
                </a:lnTo>
                <a:lnTo>
                  <a:pt x="1623" y="2852"/>
                </a:lnTo>
                <a:lnTo>
                  <a:pt x="1594" y="2842"/>
                </a:lnTo>
                <a:lnTo>
                  <a:pt x="1571" y="2838"/>
                </a:lnTo>
                <a:lnTo>
                  <a:pt x="1511" y="2838"/>
                </a:lnTo>
                <a:lnTo>
                  <a:pt x="1428" y="2856"/>
                </a:lnTo>
                <a:lnTo>
                  <a:pt x="1429" y="2856"/>
                </a:lnTo>
                <a:lnTo>
                  <a:pt x="1401" y="2858"/>
                </a:lnTo>
                <a:lnTo>
                  <a:pt x="1400" y="2858"/>
                </a:lnTo>
                <a:lnTo>
                  <a:pt x="1364" y="2866"/>
                </a:lnTo>
                <a:lnTo>
                  <a:pt x="1365" y="2866"/>
                </a:lnTo>
                <a:lnTo>
                  <a:pt x="1300" y="2862"/>
                </a:lnTo>
                <a:lnTo>
                  <a:pt x="1300" y="2862"/>
                </a:lnTo>
                <a:lnTo>
                  <a:pt x="1266" y="2850"/>
                </a:lnTo>
                <a:lnTo>
                  <a:pt x="1267" y="2850"/>
                </a:lnTo>
                <a:lnTo>
                  <a:pt x="1255" y="2840"/>
                </a:lnTo>
                <a:lnTo>
                  <a:pt x="1258" y="2842"/>
                </a:lnTo>
                <a:lnTo>
                  <a:pt x="1239" y="2755"/>
                </a:lnTo>
                <a:lnTo>
                  <a:pt x="1239" y="2757"/>
                </a:lnTo>
                <a:lnTo>
                  <a:pt x="1239" y="2666"/>
                </a:lnTo>
                <a:lnTo>
                  <a:pt x="1239" y="2666"/>
                </a:lnTo>
                <a:lnTo>
                  <a:pt x="1258" y="2461"/>
                </a:lnTo>
                <a:lnTo>
                  <a:pt x="1257" y="2465"/>
                </a:lnTo>
                <a:lnTo>
                  <a:pt x="1260" y="2455"/>
                </a:lnTo>
                <a:lnTo>
                  <a:pt x="1257" y="2356"/>
                </a:lnTo>
                <a:lnTo>
                  <a:pt x="1243" y="2350"/>
                </a:lnTo>
                <a:lnTo>
                  <a:pt x="1244" y="2350"/>
                </a:lnTo>
                <a:lnTo>
                  <a:pt x="1237" y="2344"/>
                </a:lnTo>
                <a:lnTo>
                  <a:pt x="1238" y="2346"/>
                </a:lnTo>
                <a:lnTo>
                  <a:pt x="1235" y="2332"/>
                </a:lnTo>
                <a:lnTo>
                  <a:pt x="1227" y="2318"/>
                </a:lnTo>
                <a:lnTo>
                  <a:pt x="1228" y="2322"/>
                </a:lnTo>
                <a:lnTo>
                  <a:pt x="1229" y="2303"/>
                </a:lnTo>
                <a:lnTo>
                  <a:pt x="1229" y="2305"/>
                </a:lnTo>
                <a:lnTo>
                  <a:pt x="1243" y="2275"/>
                </a:lnTo>
                <a:lnTo>
                  <a:pt x="1227" y="2257"/>
                </a:lnTo>
                <a:lnTo>
                  <a:pt x="1227" y="2259"/>
                </a:lnTo>
                <a:lnTo>
                  <a:pt x="1218" y="2228"/>
                </a:lnTo>
                <a:lnTo>
                  <a:pt x="1218" y="2231"/>
                </a:lnTo>
                <a:lnTo>
                  <a:pt x="1222" y="2204"/>
                </a:lnTo>
                <a:lnTo>
                  <a:pt x="1221" y="2206"/>
                </a:lnTo>
                <a:lnTo>
                  <a:pt x="1243" y="2158"/>
                </a:lnTo>
                <a:lnTo>
                  <a:pt x="1243" y="2160"/>
                </a:lnTo>
                <a:lnTo>
                  <a:pt x="1250" y="2150"/>
                </a:lnTo>
                <a:lnTo>
                  <a:pt x="1254" y="2144"/>
                </a:lnTo>
                <a:lnTo>
                  <a:pt x="1217" y="1939"/>
                </a:lnTo>
                <a:lnTo>
                  <a:pt x="1217" y="1937"/>
                </a:lnTo>
                <a:lnTo>
                  <a:pt x="1181" y="1795"/>
                </a:lnTo>
                <a:lnTo>
                  <a:pt x="1181" y="1795"/>
                </a:lnTo>
                <a:lnTo>
                  <a:pt x="1176" y="1755"/>
                </a:lnTo>
                <a:lnTo>
                  <a:pt x="1158" y="1670"/>
                </a:lnTo>
                <a:lnTo>
                  <a:pt x="1132" y="1520"/>
                </a:lnTo>
                <a:lnTo>
                  <a:pt x="1127" y="1486"/>
                </a:lnTo>
                <a:lnTo>
                  <a:pt x="1127" y="1488"/>
                </a:lnTo>
                <a:lnTo>
                  <a:pt x="1114" y="1302"/>
                </a:lnTo>
                <a:lnTo>
                  <a:pt x="1114" y="1304"/>
                </a:lnTo>
                <a:lnTo>
                  <a:pt x="1116" y="1235"/>
                </a:lnTo>
                <a:lnTo>
                  <a:pt x="1116" y="1235"/>
                </a:lnTo>
                <a:lnTo>
                  <a:pt x="1121" y="1176"/>
                </a:lnTo>
                <a:lnTo>
                  <a:pt x="1121" y="1174"/>
                </a:lnTo>
                <a:lnTo>
                  <a:pt x="1123" y="1018"/>
                </a:lnTo>
                <a:lnTo>
                  <a:pt x="1123" y="1018"/>
                </a:lnTo>
                <a:lnTo>
                  <a:pt x="1120" y="958"/>
                </a:lnTo>
                <a:lnTo>
                  <a:pt x="1114" y="943"/>
                </a:lnTo>
                <a:lnTo>
                  <a:pt x="1116" y="944"/>
                </a:lnTo>
                <a:lnTo>
                  <a:pt x="1116" y="919"/>
                </a:lnTo>
                <a:lnTo>
                  <a:pt x="1096" y="792"/>
                </a:lnTo>
                <a:lnTo>
                  <a:pt x="1086" y="741"/>
                </a:lnTo>
                <a:lnTo>
                  <a:pt x="1079" y="733"/>
                </a:lnTo>
                <a:lnTo>
                  <a:pt x="1022" y="737"/>
                </a:lnTo>
                <a:lnTo>
                  <a:pt x="1023" y="737"/>
                </a:lnTo>
                <a:lnTo>
                  <a:pt x="986" y="729"/>
                </a:lnTo>
                <a:lnTo>
                  <a:pt x="986" y="729"/>
                </a:lnTo>
                <a:lnTo>
                  <a:pt x="974" y="721"/>
                </a:lnTo>
                <a:lnTo>
                  <a:pt x="967" y="721"/>
                </a:lnTo>
                <a:lnTo>
                  <a:pt x="968" y="723"/>
                </a:lnTo>
                <a:lnTo>
                  <a:pt x="961" y="711"/>
                </a:lnTo>
                <a:lnTo>
                  <a:pt x="962" y="713"/>
                </a:lnTo>
                <a:lnTo>
                  <a:pt x="926" y="405"/>
                </a:lnTo>
                <a:lnTo>
                  <a:pt x="926" y="405"/>
                </a:lnTo>
                <a:lnTo>
                  <a:pt x="904" y="257"/>
                </a:lnTo>
                <a:lnTo>
                  <a:pt x="878" y="63"/>
                </a:lnTo>
                <a:lnTo>
                  <a:pt x="868" y="17"/>
                </a:lnTo>
                <a:lnTo>
                  <a:pt x="864" y="0"/>
                </a:lnTo>
                <a:lnTo>
                  <a:pt x="855" y="21"/>
                </a:lnTo>
                <a:lnTo>
                  <a:pt x="807" y="308"/>
                </a:lnTo>
                <a:lnTo>
                  <a:pt x="786" y="454"/>
                </a:lnTo>
                <a:lnTo>
                  <a:pt x="764" y="614"/>
                </a:lnTo>
                <a:lnTo>
                  <a:pt x="749" y="723"/>
                </a:lnTo>
                <a:lnTo>
                  <a:pt x="754" y="719"/>
                </a:lnTo>
                <a:lnTo>
                  <a:pt x="744" y="715"/>
                </a:lnTo>
                <a:lnTo>
                  <a:pt x="737" y="723"/>
                </a:lnTo>
                <a:lnTo>
                  <a:pt x="738" y="721"/>
                </a:lnTo>
                <a:lnTo>
                  <a:pt x="711" y="729"/>
                </a:lnTo>
                <a:lnTo>
                  <a:pt x="711" y="729"/>
                </a:lnTo>
                <a:lnTo>
                  <a:pt x="685" y="739"/>
                </a:lnTo>
                <a:lnTo>
                  <a:pt x="686" y="739"/>
                </a:lnTo>
                <a:lnTo>
                  <a:pt x="665" y="741"/>
                </a:lnTo>
                <a:lnTo>
                  <a:pt x="641" y="755"/>
                </a:lnTo>
                <a:lnTo>
                  <a:pt x="642" y="755"/>
                </a:lnTo>
                <a:lnTo>
                  <a:pt x="607" y="759"/>
                </a:lnTo>
                <a:lnTo>
                  <a:pt x="609" y="759"/>
                </a:lnTo>
                <a:lnTo>
                  <a:pt x="576" y="755"/>
                </a:lnTo>
                <a:lnTo>
                  <a:pt x="570" y="769"/>
                </a:lnTo>
                <a:lnTo>
                  <a:pt x="563" y="814"/>
                </a:lnTo>
                <a:lnTo>
                  <a:pt x="565" y="814"/>
                </a:lnTo>
                <a:lnTo>
                  <a:pt x="554" y="854"/>
                </a:lnTo>
                <a:lnTo>
                  <a:pt x="553" y="856"/>
                </a:lnTo>
                <a:lnTo>
                  <a:pt x="546" y="893"/>
                </a:lnTo>
                <a:lnTo>
                  <a:pt x="546" y="891"/>
                </a:lnTo>
                <a:lnTo>
                  <a:pt x="502" y="1018"/>
                </a:lnTo>
                <a:lnTo>
                  <a:pt x="502" y="1018"/>
                </a:lnTo>
                <a:lnTo>
                  <a:pt x="491" y="1069"/>
                </a:lnTo>
                <a:lnTo>
                  <a:pt x="491" y="1069"/>
                </a:lnTo>
                <a:lnTo>
                  <a:pt x="486" y="1105"/>
                </a:lnTo>
                <a:lnTo>
                  <a:pt x="486" y="1107"/>
                </a:lnTo>
                <a:lnTo>
                  <a:pt x="483" y="1184"/>
                </a:lnTo>
                <a:lnTo>
                  <a:pt x="483" y="1184"/>
                </a:lnTo>
                <a:lnTo>
                  <a:pt x="471" y="1344"/>
                </a:lnTo>
                <a:lnTo>
                  <a:pt x="471" y="1342"/>
                </a:lnTo>
                <a:lnTo>
                  <a:pt x="450" y="1445"/>
                </a:lnTo>
                <a:lnTo>
                  <a:pt x="450" y="1443"/>
                </a:lnTo>
                <a:lnTo>
                  <a:pt x="440" y="1474"/>
                </a:lnTo>
                <a:lnTo>
                  <a:pt x="421" y="1567"/>
                </a:lnTo>
                <a:lnTo>
                  <a:pt x="392" y="1712"/>
                </a:lnTo>
                <a:lnTo>
                  <a:pt x="376" y="1801"/>
                </a:lnTo>
                <a:lnTo>
                  <a:pt x="376" y="1799"/>
                </a:lnTo>
                <a:lnTo>
                  <a:pt x="374" y="1806"/>
                </a:lnTo>
                <a:lnTo>
                  <a:pt x="367" y="1874"/>
                </a:lnTo>
                <a:lnTo>
                  <a:pt x="364" y="1907"/>
                </a:lnTo>
                <a:lnTo>
                  <a:pt x="362" y="1921"/>
                </a:lnTo>
                <a:lnTo>
                  <a:pt x="350" y="2020"/>
                </a:lnTo>
                <a:lnTo>
                  <a:pt x="350" y="2020"/>
                </a:lnTo>
                <a:lnTo>
                  <a:pt x="345" y="2123"/>
                </a:lnTo>
                <a:lnTo>
                  <a:pt x="345" y="2121"/>
                </a:lnTo>
                <a:lnTo>
                  <a:pt x="341" y="2148"/>
                </a:lnTo>
                <a:lnTo>
                  <a:pt x="341" y="2170"/>
                </a:lnTo>
                <a:lnTo>
                  <a:pt x="342" y="2168"/>
                </a:lnTo>
                <a:lnTo>
                  <a:pt x="339" y="2174"/>
                </a:lnTo>
                <a:lnTo>
                  <a:pt x="339" y="2186"/>
                </a:lnTo>
                <a:lnTo>
                  <a:pt x="358" y="2200"/>
                </a:lnTo>
                <a:lnTo>
                  <a:pt x="357" y="2200"/>
                </a:lnTo>
                <a:lnTo>
                  <a:pt x="367" y="2220"/>
                </a:lnTo>
                <a:lnTo>
                  <a:pt x="366" y="2218"/>
                </a:lnTo>
                <a:lnTo>
                  <a:pt x="373" y="2255"/>
                </a:lnTo>
                <a:lnTo>
                  <a:pt x="373" y="2253"/>
                </a:lnTo>
                <a:lnTo>
                  <a:pt x="373" y="2299"/>
                </a:lnTo>
                <a:lnTo>
                  <a:pt x="373" y="2295"/>
                </a:lnTo>
                <a:lnTo>
                  <a:pt x="357" y="2324"/>
                </a:lnTo>
                <a:lnTo>
                  <a:pt x="356" y="2344"/>
                </a:lnTo>
                <a:lnTo>
                  <a:pt x="360" y="2356"/>
                </a:lnTo>
                <a:lnTo>
                  <a:pt x="360" y="2352"/>
                </a:lnTo>
                <a:lnTo>
                  <a:pt x="357" y="2384"/>
                </a:lnTo>
                <a:lnTo>
                  <a:pt x="358" y="2384"/>
                </a:lnTo>
                <a:lnTo>
                  <a:pt x="349" y="2419"/>
                </a:lnTo>
                <a:lnTo>
                  <a:pt x="350" y="2417"/>
                </a:lnTo>
                <a:lnTo>
                  <a:pt x="345" y="2421"/>
                </a:lnTo>
                <a:lnTo>
                  <a:pt x="349" y="2429"/>
                </a:lnTo>
                <a:lnTo>
                  <a:pt x="352" y="2423"/>
                </a:lnTo>
                <a:lnTo>
                  <a:pt x="347" y="2415"/>
                </a:lnTo>
                <a:lnTo>
                  <a:pt x="339" y="2427"/>
                </a:lnTo>
                <a:lnTo>
                  <a:pt x="349" y="2449"/>
                </a:lnTo>
                <a:lnTo>
                  <a:pt x="349" y="2447"/>
                </a:lnTo>
                <a:lnTo>
                  <a:pt x="350" y="2455"/>
                </a:lnTo>
                <a:lnTo>
                  <a:pt x="350" y="2451"/>
                </a:lnTo>
                <a:lnTo>
                  <a:pt x="347" y="2463"/>
                </a:lnTo>
                <a:lnTo>
                  <a:pt x="347" y="2504"/>
                </a:lnTo>
                <a:lnTo>
                  <a:pt x="347" y="2502"/>
                </a:lnTo>
                <a:lnTo>
                  <a:pt x="344" y="2556"/>
                </a:lnTo>
                <a:lnTo>
                  <a:pt x="349" y="2629"/>
                </a:lnTo>
                <a:lnTo>
                  <a:pt x="349" y="2627"/>
                </a:lnTo>
                <a:lnTo>
                  <a:pt x="347" y="2645"/>
                </a:lnTo>
                <a:lnTo>
                  <a:pt x="347" y="2643"/>
                </a:lnTo>
                <a:lnTo>
                  <a:pt x="331" y="2698"/>
                </a:lnTo>
                <a:lnTo>
                  <a:pt x="331" y="2698"/>
                </a:lnTo>
                <a:lnTo>
                  <a:pt x="317" y="2728"/>
                </a:lnTo>
                <a:lnTo>
                  <a:pt x="322" y="2734"/>
                </a:lnTo>
                <a:lnTo>
                  <a:pt x="321" y="2728"/>
                </a:lnTo>
                <a:lnTo>
                  <a:pt x="298" y="2803"/>
                </a:lnTo>
                <a:lnTo>
                  <a:pt x="272" y="2894"/>
                </a:lnTo>
                <a:lnTo>
                  <a:pt x="256" y="2961"/>
                </a:lnTo>
                <a:lnTo>
                  <a:pt x="256" y="2961"/>
                </a:lnTo>
                <a:lnTo>
                  <a:pt x="249" y="2971"/>
                </a:lnTo>
                <a:lnTo>
                  <a:pt x="248" y="2971"/>
                </a:lnTo>
                <a:lnTo>
                  <a:pt x="241" y="2981"/>
                </a:lnTo>
                <a:lnTo>
                  <a:pt x="225" y="3006"/>
                </a:lnTo>
                <a:lnTo>
                  <a:pt x="226" y="3006"/>
                </a:lnTo>
                <a:lnTo>
                  <a:pt x="189" y="3032"/>
                </a:lnTo>
                <a:lnTo>
                  <a:pt x="190" y="3032"/>
                </a:lnTo>
                <a:lnTo>
                  <a:pt x="123" y="3038"/>
                </a:lnTo>
                <a:lnTo>
                  <a:pt x="124" y="3038"/>
                </a:lnTo>
                <a:lnTo>
                  <a:pt x="48" y="3020"/>
                </a:lnTo>
                <a:lnTo>
                  <a:pt x="48" y="3020"/>
                </a:lnTo>
                <a:lnTo>
                  <a:pt x="24" y="3004"/>
                </a:lnTo>
                <a:lnTo>
                  <a:pt x="26" y="3008"/>
                </a:lnTo>
                <a:lnTo>
                  <a:pt x="15" y="2979"/>
                </a:lnTo>
                <a:lnTo>
                  <a:pt x="15" y="2981"/>
                </a:lnTo>
                <a:lnTo>
                  <a:pt x="6" y="2917"/>
                </a:lnTo>
                <a:lnTo>
                  <a:pt x="6" y="2919"/>
                </a:lnTo>
                <a:lnTo>
                  <a:pt x="9" y="2896"/>
                </a:lnTo>
                <a:lnTo>
                  <a:pt x="8" y="2900"/>
                </a:lnTo>
                <a:lnTo>
                  <a:pt x="12" y="2890"/>
                </a:lnTo>
                <a:lnTo>
                  <a:pt x="15" y="2811"/>
                </a:lnTo>
                <a:lnTo>
                  <a:pt x="15" y="2813"/>
                </a:lnTo>
                <a:lnTo>
                  <a:pt x="33" y="2744"/>
                </a:lnTo>
                <a:lnTo>
                  <a:pt x="33" y="2745"/>
                </a:lnTo>
                <a:lnTo>
                  <a:pt x="79" y="2649"/>
                </a:lnTo>
                <a:lnTo>
                  <a:pt x="90" y="2611"/>
                </a:lnTo>
                <a:lnTo>
                  <a:pt x="90" y="2613"/>
                </a:lnTo>
                <a:lnTo>
                  <a:pt x="120" y="2534"/>
                </a:lnTo>
                <a:lnTo>
                  <a:pt x="119" y="2536"/>
                </a:lnTo>
                <a:lnTo>
                  <a:pt x="126" y="2530"/>
                </a:lnTo>
                <a:lnTo>
                  <a:pt x="138" y="2487"/>
                </a:lnTo>
                <a:lnTo>
                  <a:pt x="122" y="2431"/>
                </a:lnTo>
                <a:lnTo>
                  <a:pt x="122" y="2431"/>
                </a:lnTo>
                <a:lnTo>
                  <a:pt x="119" y="2411"/>
                </a:lnTo>
                <a:lnTo>
                  <a:pt x="119" y="2413"/>
                </a:lnTo>
                <a:lnTo>
                  <a:pt x="119" y="2403"/>
                </a:lnTo>
                <a:lnTo>
                  <a:pt x="119" y="2407"/>
                </a:lnTo>
                <a:lnTo>
                  <a:pt x="134" y="2384"/>
                </a:lnTo>
                <a:lnTo>
                  <a:pt x="131" y="2386"/>
                </a:lnTo>
                <a:lnTo>
                  <a:pt x="141" y="2382"/>
                </a:lnTo>
                <a:lnTo>
                  <a:pt x="145" y="2370"/>
                </a:lnTo>
                <a:lnTo>
                  <a:pt x="148" y="2340"/>
                </a:lnTo>
                <a:lnTo>
                  <a:pt x="146" y="2342"/>
                </a:lnTo>
                <a:lnTo>
                  <a:pt x="158" y="2307"/>
                </a:lnTo>
                <a:lnTo>
                  <a:pt x="142" y="2338"/>
                </a:lnTo>
                <a:lnTo>
                  <a:pt x="140" y="2366"/>
                </a:lnTo>
                <a:lnTo>
                  <a:pt x="141" y="2364"/>
                </a:lnTo>
                <a:lnTo>
                  <a:pt x="136" y="2376"/>
                </a:lnTo>
                <a:lnTo>
                  <a:pt x="138" y="2374"/>
                </a:lnTo>
                <a:lnTo>
                  <a:pt x="130" y="2376"/>
                </a:lnTo>
                <a:lnTo>
                  <a:pt x="114" y="2401"/>
                </a:lnTo>
                <a:lnTo>
                  <a:pt x="113" y="2413"/>
                </a:lnTo>
                <a:lnTo>
                  <a:pt x="116" y="2435"/>
                </a:lnTo>
                <a:lnTo>
                  <a:pt x="133" y="2488"/>
                </a:lnTo>
                <a:lnTo>
                  <a:pt x="133" y="2485"/>
                </a:lnTo>
                <a:lnTo>
                  <a:pt x="121" y="2524"/>
                </a:lnTo>
                <a:lnTo>
                  <a:pt x="122" y="2522"/>
                </a:lnTo>
                <a:lnTo>
                  <a:pt x="115" y="2528"/>
                </a:lnTo>
                <a:lnTo>
                  <a:pt x="84" y="2607"/>
                </a:lnTo>
                <a:lnTo>
                  <a:pt x="84" y="2607"/>
                </a:lnTo>
                <a:lnTo>
                  <a:pt x="74" y="2643"/>
                </a:lnTo>
                <a:lnTo>
                  <a:pt x="75" y="2643"/>
                </a:lnTo>
                <a:lnTo>
                  <a:pt x="29" y="2740"/>
                </a:lnTo>
                <a:lnTo>
                  <a:pt x="9" y="2809"/>
                </a:lnTo>
                <a:lnTo>
                  <a:pt x="8" y="2888"/>
                </a:lnTo>
                <a:lnTo>
                  <a:pt x="8" y="2884"/>
                </a:lnTo>
                <a:lnTo>
                  <a:pt x="3" y="2894"/>
                </a:lnTo>
                <a:lnTo>
                  <a:pt x="0" y="2917"/>
                </a:lnTo>
                <a:lnTo>
                  <a:pt x="9" y="2985"/>
                </a:lnTo>
                <a:lnTo>
                  <a:pt x="22" y="3014"/>
                </a:lnTo>
                <a:lnTo>
                  <a:pt x="46" y="3030"/>
                </a:lnTo>
                <a:lnTo>
                  <a:pt x="123" y="3048"/>
                </a:lnTo>
                <a:lnTo>
                  <a:pt x="191" y="3042"/>
                </a:lnTo>
                <a:lnTo>
                  <a:pt x="228" y="3014"/>
                </a:lnTo>
                <a:lnTo>
                  <a:pt x="246" y="2989"/>
                </a:lnTo>
                <a:lnTo>
                  <a:pt x="253" y="2977"/>
                </a:lnTo>
                <a:lnTo>
                  <a:pt x="253" y="2977"/>
                </a:lnTo>
                <a:lnTo>
                  <a:pt x="261" y="2967"/>
                </a:lnTo>
                <a:lnTo>
                  <a:pt x="277" y="2898"/>
                </a:lnTo>
                <a:lnTo>
                  <a:pt x="304" y="2807"/>
                </a:lnTo>
                <a:lnTo>
                  <a:pt x="327" y="2728"/>
                </a:lnTo>
                <a:lnTo>
                  <a:pt x="323" y="2724"/>
                </a:lnTo>
                <a:lnTo>
                  <a:pt x="323" y="2730"/>
                </a:lnTo>
                <a:lnTo>
                  <a:pt x="336" y="2704"/>
                </a:lnTo>
                <a:lnTo>
                  <a:pt x="353" y="2647"/>
                </a:lnTo>
                <a:lnTo>
                  <a:pt x="354" y="2629"/>
                </a:lnTo>
                <a:lnTo>
                  <a:pt x="350" y="2556"/>
                </a:lnTo>
                <a:lnTo>
                  <a:pt x="350" y="2558"/>
                </a:lnTo>
                <a:lnTo>
                  <a:pt x="353" y="2504"/>
                </a:lnTo>
                <a:lnTo>
                  <a:pt x="353" y="2504"/>
                </a:lnTo>
                <a:lnTo>
                  <a:pt x="353" y="2465"/>
                </a:lnTo>
                <a:lnTo>
                  <a:pt x="352" y="2467"/>
                </a:lnTo>
                <a:lnTo>
                  <a:pt x="356" y="2455"/>
                </a:lnTo>
                <a:lnTo>
                  <a:pt x="353" y="2443"/>
                </a:lnTo>
                <a:lnTo>
                  <a:pt x="345" y="2425"/>
                </a:lnTo>
                <a:lnTo>
                  <a:pt x="345" y="2431"/>
                </a:lnTo>
                <a:lnTo>
                  <a:pt x="349" y="2425"/>
                </a:lnTo>
                <a:lnTo>
                  <a:pt x="345" y="2425"/>
                </a:lnTo>
                <a:lnTo>
                  <a:pt x="346" y="2427"/>
                </a:lnTo>
                <a:lnTo>
                  <a:pt x="346" y="2419"/>
                </a:lnTo>
                <a:lnTo>
                  <a:pt x="329" y="2451"/>
                </a:lnTo>
                <a:lnTo>
                  <a:pt x="353" y="2425"/>
                </a:lnTo>
                <a:lnTo>
                  <a:pt x="362" y="2386"/>
                </a:lnTo>
                <a:lnTo>
                  <a:pt x="366" y="2352"/>
                </a:lnTo>
                <a:lnTo>
                  <a:pt x="361" y="2338"/>
                </a:lnTo>
                <a:lnTo>
                  <a:pt x="361" y="2342"/>
                </a:lnTo>
                <a:lnTo>
                  <a:pt x="361" y="2326"/>
                </a:lnTo>
                <a:lnTo>
                  <a:pt x="360" y="2330"/>
                </a:lnTo>
                <a:lnTo>
                  <a:pt x="377" y="2301"/>
                </a:lnTo>
                <a:lnTo>
                  <a:pt x="379" y="2253"/>
                </a:lnTo>
                <a:lnTo>
                  <a:pt x="372" y="2214"/>
                </a:lnTo>
                <a:lnTo>
                  <a:pt x="360" y="2192"/>
                </a:lnTo>
                <a:lnTo>
                  <a:pt x="344" y="2178"/>
                </a:lnTo>
                <a:lnTo>
                  <a:pt x="345" y="2182"/>
                </a:lnTo>
                <a:lnTo>
                  <a:pt x="345" y="2176"/>
                </a:lnTo>
                <a:lnTo>
                  <a:pt x="345" y="2178"/>
                </a:lnTo>
                <a:lnTo>
                  <a:pt x="346" y="2172"/>
                </a:lnTo>
                <a:lnTo>
                  <a:pt x="346" y="2150"/>
                </a:lnTo>
                <a:lnTo>
                  <a:pt x="346" y="2150"/>
                </a:lnTo>
                <a:lnTo>
                  <a:pt x="351" y="2123"/>
                </a:lnTo>
                <a:lnTo>
                  <a:pt x="356" y="2020"/>
                </a:lnTo>
                <a:lnTo>
                  <a:pt x="356" y="2022"/>
                </a:lnTo>
                <a:lnTo>
                  <a:pt x="368" y="1923"/>
                </a:lnTo>
                <a:lnTo>
                  <a:pt x="369" y="1907"/>
                </a:lnTo>
                <a:lnTo>
                  <a:pt x="373" y="1876"/>
                </a:lnTo>
                <a:lnTo>
                  <a:pt x="380" y="1810"/>
                </a:lnTo>
                <a:lnTo>
                  <a:pt x="379" y="1812"/>
                </a:lnTo>
                <a:lnTo>
                  <a:pt x="382" y="1804"/>
                </a:lnTo>
                <a:lnTo>
                  <a:pt x="398" y="1714"/>
                </a:lnTo>
                <a:lnTo>
                  <a:pt x="427" y="1571"/>
                </a:lnTo>
                <a:lnTo>
                  <a:pt x="446" y="1476"/>
                </a:lnTo>
                <a:lnTo>
                  <a:pt x="446" y="1478"/>
                </a:lnTo>
                <a:lnTo>
                  <a:pt x="455" y="1447"/>
                </a:lnTo>
                <a:lnTo>
                  <a:pt x="477" y="1346"/>
                </a:lnTo>
                <a:lnTo>
                  <a:pt x="488" y="1186"/>
                </a:lnTo>
                <a:lnTo>
                  <a:pt x="488" y="1184"/>
                </a:lnTo>
                <a:lnTo>
                  <a:pt x="492" y="1107"/>
                </a:lnTo>
                <a:lnTo>
                  <a:pt x="492" y="1107"/>
                </a:lnTo>
                <a:lnTo>
                  <a:pt x="496" y="1073"/>
                </a:lnTo>
                <a:lnTo>
                  <a:pt x="496" y="1073"/>
                </a:lnTo>
                <a:lnTo>
                  <a:pt x="508" y="1022"/>
                </a:lnTo>
                <a:lnTo>
                  <a:pt x="507" y="1022"/>
                </a:lnTo>
                <a:lnTo>
                  <a:pt x="552" y="897"/>
                </a:lnTo>
                <a:lnTo>
                  <a:pt x="559" y="858"/>
                </a:lnTo>
                <a:lnTo>
                  <a:pt x="559" y="858"/>
                </a:lnTo>
                <a:lnTo>
                  <a:pt x="569" y="818"/>
                </a:lnTo>
                <a:lnTo>
                  <a:pt x="576" y="771"/>
                </a:lnTo>
                <a:lnTo>
                  <a:pt x="575" y="773"/>
                </a:lnTo>
                <a:lnTo>
                  <a:pt x="580" y="763"/>
                </a:lnTo>
                <a:lnTo>
                  <a:pt x="577" y="765"/>
                </a:lnTo>
                <a:lnTo>
                  <a:pt x="607" y="769"/>
                </a:lnTo>
                <a:lnTo>
                  <a:pt x="642" y="765"/>
                </a:lnTo>
                <a:lnTo>
                  <a:pt x="666" y="751"/>
                </a:lnTo>
                <a:lnTo>
                  <a:pt x="665" y="751"/>
                </a:lnTo>
                <a:lnTo>
                  <a:pt x="687" y="749"/>
                </a:lnTo>
                <a:lnTo>
                  <a:pt x="712" y="739"/>
                </a:lnTo>
                <a:lnTo>
                  <a:pt x="712" y="739"/>
                </a:lnTo>
                <a:lnTo>
                  <a:pt x="739" y="731"/>
                </a:lnTo>
                <a:lnTo>
                  <a:pt x="745" y="723"/>
                </a:lnTo>
                <a:lnTo>
                  <a:pt x="743" y="725"/>
                </a:lnTo>
                <a:lnTo>
                  <a:pt x="755" y="731"/>
                </a:lnTo>
                <a:lnTo>
                  <a:pt x="770" y="616"/>
                </a:lnTo>
                <a:lnTo>
                  <a:pt x="792" y="458"/>
                </a:lnTo>
                <a:lnTo>
                  <a:pt x="813" y="312"/>
                </a:lnTo>
                <a:lnTo>
                  <a:pt x="860" y="25"/>
                </a:lnTo>
                <a:lnTo>
                  <a:pt x="860" y="27"/>
                </a:lnTo>
                <a:lnTo>
                  <a:pt x="866" y="11"/>
                </a:lnTo>
                <a:lnTo>
                  <a:pt x="860" y="11"/>
                </a:lnTo>
                <a:lnTo>
                  <a:pt x="863" y="21"/>
                </a:lnTo>
                <a:lnTo>
                  <a:pt x="872" y="67"/>
                </a:lnTo>
                <a:lnTo>
                  <a:pt x="898" y="258"/>
                </a:lnTo>
                <a:lnTo>
                  <a:pt x="920" y="407"/>
                </a:lnTo>
                <a:lnTo>
                  <a:pt x="920" y="407"/>
                </a:lnTo>
                <a:lnTo>
                  <a:pt x="956" y="715"/>
                </a:lnTo>
                <a:lnTo>
                  <a:pt x="964" y="731"/>
                </a:lnTo>
                <a:lnTo>
                  <a:pt x="974" y="731"/>
                </a:lnTo>
                <a:lnTo>
                  <a:pt x="972" y="731"/>
                </a:lnTo>
                <a:lnTo>
                  <a:pt x="985" y="739"/>
                </a:lnTo>
                <a:lnTo>
                  <a:pt x="1022" y="747"/>
                </a:lnTo>
                <a:lnTo>
                  <a:pt x="1078" y="743"/>
                </a:lnTo>
                <a:lnTo>
                  <a:pt x="1075" y="741"/>
                </a:lnTo>
                <a:lnTo>
                  <a:pt x="1081" y="749"/>
                </a:lnTo>
                <a:lnTo>
                  <a:pt x="1080" y="745"/>
                </a:lnTo>
                <a:lnTo>
                  <a:pt x="1090" y="796"/>
                </a:lnTo>
                <a:lnTo>
                  <a:pt x="1110" y="921"/>
                </a:lnTo>
                <a:lnTo>
                  <a:pt x="1110" y="919"/>
                </a:lnTo>
                <a:lnTo>
                  <a:pt x="1110" y="946"/>
                </a:lnTo>
                <a:lnTo>
                  <a:pt x="1114" y="962"/>
                </a:lnTo>
                <a:lnTo>
                  <a:pt x="1114" y="960"/>
                </a:lnTo>
                <a:lnTo>
                  <a:pt x="1117" y="1018"/>
                </a:lnTo>
                <a:lnTo>
                  <a:pt x="1117" y="1018"/>
                </a:lnTo>
                <a:lnTo>
                  <a:pt x="1116" y="1174"/>
                </a:lnTo>
                <a:lnTo>
                  <a:pt x="1116" y="1174"/>
                </a:lnTo>
                <a:lnTo>
                  <a:pt x="1110" y="1235"/>
                </a:lnTo>
                <a:lnTo>
                  <a:pt x="1110" y="1235"/>
                </a:lnTo>
                <a:lnTo>
                  <a:pt x="1109" y="1304"/>
                </a:lnTo>
                <a:lnTo>
                  <a:pt x="1109" y="1304"/>
                </a:lnTo>
                <a:lnTo>
                  <a:pt x="1121" y="1488"/>
                </a:lnTo>
                <a:lnTo>
                  <a:pt x="1121" y="1490"/>
                </a:lnTo>
                <a:lnTo>
                  <a:pt x="1126" y="1522"/>
                </a:lnTo>
                <a:lnTo>
                  <a:pt x="1153" y="1674"/>
                </a:lnTo>
                <a:lnTo>
                  <a:pt x="1170" y="1757"/>
                </a:lnTo>
                <a:lnTo>
                  <a:pt x="1176" y="1799"/>
                </a:lnTo>
                <a:lnTo>
                  <a:pt x="1177" y="1799"/>
                </a:lnTo>
                <a:lnTo>
                  <a:pt x="1213" y="1943"/>
                </a:lnTo>
                <a:lnTo>
                  <a:pt x="1212" y="1941"/>
                </a:lnTo>
                <a:lnTo>
                  <a:pt x="1248" y="2144"/>
                </a:lnTo>
                <a:lnTo>
                  <a:pt x="1248" y="2139"/>
                </a:lnTo>
                <a:lnTo>
                  <a:pt x="1246" y="2144"/>
                </a:lnTo>
                <a:lnTo>
                  <a:pt x="1246" y="2143"/>
                </a:lnTo>
                <a:lnTo>
                  <a:pt x="1239" y="2152"/>
                </a:lnTo>
                <a:lnTo>
                  <a:pt x="1216" y="2202"/>
                </a:lnTo>
                <a:lnTo>
                  <a:pt x="1213" y="2231"/>
                </a:lnTo>
                <a:lnTo>
                  <a:pt x="1222" y="2265"/>
                </a:lnTo>
                <a:lnTo>
                  <a:pt x="1237" y="2281"/>
                </a:lnTo>
                <a:lnTo>
                  <a:pt x="1236" y="2273"/>
                </a:lnTo>
                <a:lnTo>
                  <a:pt x="1224" y="2299"/>
                </a:lnTo>
                <a:lnTo>
                  <a:pt x="1222" y="2322"/>
                </a:lnTo>
                <a:lnTo>
                  <a:pt x="1230" y="2338"/>
                </a:lnTo>
                <a:lnTo>
                  <a:pt x="1230" y="2336"/>
                </a:lnTo>
                <a:lnTo>
                  <a:pt x="1233" y="2352"/>
                </a:lnTo>
                <a:lnTo>
                  <a:pt x="1242" y="2360"/>
                </a:lnTo>
                <a:lnTo>
                  <a:pt x="1253" y="2366"/>
                </a:lnTo>
                <a:lnTo>
                  <a:pt x="1252" y="2360"/>
                </a:lnTo>
                <a:lnTo>
                  <a:pt x="1254" y="2455"/>
                </a:lnTo>
                <a:lnTo>
                  <a:pt x="1254" y="2451"/>
                </a:lnTo>
                <a:lnTo>
                  <a:pt x="1252" y="2459"/>
                </a:lnTo>
                <a:lnTo>
                  <a:pt x="1233" y="2666"/>
                </a:lnTo>
                <a:lnTo>
                  <a:pt x="1233" y="2666"/>
                </a:lnTo>
                <a:lnTo>
                  <a:pt x="1233" y="2757"/>
                </a:lnTo>
                <a:lnTo>
                  <a:pt x="1252" y="2848"/>
                </a:lnTo>
                <a:lnTo>
                  <a:pt x="1265" y="2860"/>
                </a:lnTo>
                <a:lnTo>
                  <a:pt x="1299" y="2872"/>
                </a:lnTo>
                <a:lnTo>
                  <a:pt x="1300" y="2872"/>
                </a:lnTo>
                <a:lnTo>
                  <a:pt x="1365" y="2876"/>
                </a:lnTo>
                <a:lnTo>
                  <a:pt x="1365" y="2876"/>
                </a:lnTo>
                <a:lnTo>
                  <a:pt x="1401" y="2868"/>
                </a:lnTo>
                <a:lnTo>
                  <a:pt x="1401" y="2868"/>
                </a:lnTo>
                <a:lnTo>
                  <a:pt x="1429" y="2866"/>
                </a:lnTo>
                <a:lnTo>
                  <a:pt x="1429" y="2866"/>
                </a:lnTo>
                <a:lnTo>
                  <a:pt x="1511" y="2848"/>
                </a:lnTo>
                <a:lnTo>
                  <a:pt x="1511" y="2848"/>
                </a:lnTo>
                <a:lnTo>
                  <a:pt x="1571" y="2848"/>
                </a:lnTo>
                <a:lnTo>
                  <a:pt x="1570" y="2848"/>
                </a:lnTo>
                <a:lnTo>
                  <a:pt x="1594" y="2852"/>
                </a:lnTo>
                <a:lnTo>
                  <a:pt x="1622" y="2862"/>
                </a:lnTo>
                <a:lnTo>
                  <a:pt x="1691" y="2872"/>
                </a:lnTo>
                <a:lnTo>
                  <a:pt x="1691" y="2872"/>
                </a:lnTo>
                <a:lnTo>
                  <a:pt x="1743" y="2876"/>
                </a:lnTo>
                <a:lnTo>
                  <a:pt x="1765" y="2830"/>
                </a:lnTo>
                <a:lnTo>
                  <a:pt x="1768" y="2747"/>
                </a:lnTo>
                <a:lnTo>
                  <a:pt x="1765" y="2740"/>
                </a:lnTo>
                <a:lnTo>
                  <a:pt x="1765" y="2742"/>
                </a:lnTo>
                <a:lnTo>
                  <a:pt x="1765" y="2724"/>
                </a:lnTo>
                <a:lnTo>
                  <a:pt x="1760" y="2712"/>
                </a:lnTo>
                <a:lnTo>
                  <a:pt x="1757" y="2712"/>
                </a:lnTo>
                <a:lnTo>
                  <a:pt x="1754" y="2716"/>
                </a:lnTo>
                <a:lnTo>
                  <a:pt x="1758" y="2716"/>
                </a:lnTo>
                <a:lnTo>
                  <a:pt x="1752" y="2706"/>
                </a:lnTo>
                <a:lnTo>
                  <a:pt x="1753" y="2710"/>
                </a:lnTo>
                <a:lnTo>
                  <a:pt x="1753" y="2702"/>
                </a:lnTo>
                <a:lnTo>
                  <a:pt x="1736" y="2658"/>
                </a:lnTo>
                <a:lnTo>
                  <a:pt x="1711" y="2629"/>
                </a:lnTo>
                <a:lnTo>
                  <a:pt x="1687" y="2615"/>
                </a:lnTo>
                <a:lnTo>
                  <a:pt x="1617" y="2570"/>
                </a:lnTo>
                <a:lnTo>
                  <a:pt x="1617" y="2572"/>
                </a:lnTo>
                <a:lnTo>
                  <a:pt x="1595" y="2538"/>
                </a:lnTo>
                <a:lnTo>
                  <a:pt x="1589" y="2538"/>
                </a:lnTo>
                <a:lnTo>
                  <a:pt x="1592" y="2540"/>
                </a:lnTo>
                <a:lnTo>
                  <a:pt x="1567" y="2502"/>
                </a:lnTo>
                <a:lnTo>
                  <a:pt x="1567" y="2502"/>
                </a:lnTo>
                <a:lnTo>
                  <a:pt x="1523" y="2441"/>
                </a:lnTo>
                <a:lnTo>
                  <a:pt x="1514" y="2439"/>
                </a:lnTo>
                <a:lnTo>
                  <a:pt x="1516" y="2447"/>
                </a:lnTo>
                <a:lnTo>
                  <a:pt x="1521" y="2437"/>
                </a:lnTo>
                <a:lnTo>
                  <a:pt x="1521" y="2431"/>
                </a:lnTo>
                <a:lnTo>
                  <a:pt x="1505" y="2396"/>
                </a:lnTo>
                <a:lnTo>
                  <a:pt x="1505" y="2400"/>
                </a:lnTo>
                <a:lnTo>
                  <a:pt x="1520" y="2320"/>
                </a:lnTo>
                <a:lnTo>
                  <a:pt x="1522" y="2303"/>
                </a:lnTo>
                <a:lnTo>
                  <a:pt x="1522" y="2305"/>
                </a:lnTo>
                <a:lnTo>
                  <a:pt x="1531" y="2267"/>
                </a:lnTo>
                <a:lnTo>
                  <a:pt x="1533" y="2222"/>
                </a:lnTo>
                <a:lnTo>
                  <a:pt x="1533" y="2224"/>
                </a:lnTo>
                <a:lnTo>
                  <a:pt x="1537" y="2210"/>
                </a:lnTo>
                <a:lnTo>
                  <a:pt x="1537" y="2198"/>
                </a:lnTo>
                <a:lnTo>
                  <a:pt x="1533" y="22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22" name=""/>
          <p:cNvSpPr/>
          <p:nvPr/>
        </p:nvSpPr>
        <p:spPr>
          <a:xfrm>
            <a:off x="3119400" y="604800"/>
            <a:ext cx="1432080" cy="5159520"/>
          </a:xfrm>
          <a:custGeom>
            <a:avLst/>
            <a:gdLst/>
            <a:ahLst/>
            <a:rect l="l" t="t" r="r" b="b"/>
            <a:pathLst>
              <a:path w="902" h="6500">
                <a:moveTo>
                  <a:pt x="189" y="6469"/>
                </a:moveTo>
                <a:lnTo>
                  <a:pt x="188" y="6471"/>
                </a:lnTo>
                <a:lnTo>
                  <a:pt x="196" y="6459"/>
                </a:lnTo>
                <a:lnTo>
                  <a:pt x="205" y="6409"/>
                </a:lnTo>
                <a:lnTo>
                  <a:pt x="199" y="6390"/>
                </a:lnTo>
                <a:lnTo>
                  <a:pt x="189" y="6370"/>
                </a:lnTo>
                <a:lnTo>
                  <a:pt x="190" y="6372"/>
                </a:lnTo>
                <a:lnTo>
                  <a:pt x="189" y="6356"/>
                </a:lnTo>
                <a:lnTo>
                  <a:pt x="186" y="6352"/>
                </a:lnTo>
                <a:lnTo>
                  <a:pt x="182" y="6352"/>
                </a:lnTo>
                <a:lnTo>
                  <a:pt x="184" y="6360"/>
                </a:lnTo>
                <a:lnTo>
                  <a:pt x="192" y="6340"/>
                </a:lnTo>
                <a:lnTo>
                  <a:pt x="192" y="6342"/>
                </a:lnTo>
                <a:lnTo>
                  <a:pt x="227" y="6301"/>
                </a:lnTo>
                <a:lnTo>
                  <a:pt x="233" y="6291"/>
                </a:lnTo>
                <a:lnTo>
                  <a:pt x="228" y="6127"/>
                </a:lnTo>
                <a:lnTo>
                  <a:pt x="233" y="5984"/>
                </a:lnTo>
                <a:lnTo>
                  <a:pt x="234" y="5877"/>
                </a:lnTo>
                <a:lnTo>
                  <a:pt x="234" y="5877"/>
                </a:lnTo>
                <a:lnTo>
                  <a:pt x="239" y="5810"/>
                </a:lnTo>
                <a:lnTo>
                  <a:pt x="239" y="5808"/>
                </a:lnTo>
                <a:lnTo>
                  <a:pt x="241" y="5688"/>
                </a:lnTo>
                <a:lnTo>
                  <a:pt x="241" y="5690"/>
                </a:lnTo>
                <a:lnTo>
                  <a:pt x="242" y="5666"/>
                </a:lnTo>
                <a:lnTo>
                  <a:pt x="242" y="5660"/>
                </a:lnTo>
                <a:lnTo>
                  <a:pt x="241" y="5664"/>
                </a:lnTo>
                <a:lnTo>
                  <a:pt x="246" y="5654"/>
                </a:lnTo>
                <a:lnTo>
                  <a:pt x="247" y="5617"/>
                </a:lnTo>
                <a:lnTo>
                  <a:pt x="247" y="5619"/>
                </a:lnTo>
                <a:lnTo>
                  <a:pt x="249" y="5593"/>
                </a:lnTo>
                <a:lnTo>
                  <a:pt x="249" y="5555"/>
                </a:lnTo>
                <a:lnTo>
                  <a:pt x="249" y="5559"/>
                </a:lnTo>
                <a:lnTo>
                  <a:pt x="254" y="5545"/>
                </a:lnTo>
                <a:lnTo>
                  <a:pt x="261" y="5449"/>
                </a:lnTo>
                <a:lnTo>
                  <a:pt x="284" y="5261"/>
                </a:lnTo>
                <a:lnTo>
                  <a:pt x="284" y="5263"/>
                </a:lnTo>
                <a:lnTo>
                  <a:pt x="302" y="5150"/>
                </a:lnTo>
                <a:lnTo>
                  <a:pt x="354" y="4913"/>
                </a:lnTo>
                <a:lnTo>
                  <a:pt x="366" y="4836"/>
                </a:lnTo>
                <a:lnTo>
                  <a:pt x="361" y="4818"/>
                </a:lnTo>
                <a:lnTo>
                  <a:pt x="361" y="4822"/>
                </a:lnTo>
                <a:lnTo>
                  <a:pt x="372" y="4755"/>
                </a:lnTo>
                <a:lnTo>
                  <a:pt x="372" y="4753"/>
                </a:lnTo>
                <a:lnTo>
                  <a:pt x="381" y="4654"/>
                </a:lnTo>
                <a:lnTo>
                  <a:pt x="384" y="4612"/>
                </a:lnTo>
                <a:lnTo>
                  <a:pt x="397" y="4405"/>
                </a:lnTo>
                <a:lnTo>
                  <a:pt x="403" y="4258"/>
                </a:lnTo>
                <a:lnTo>
                  <a:pt x="412" y="4112"/>
                </a:lnTo>
                <a:lnTo>
                  <a:pt x="412" y="4110"/>
                </a:lnTo>
                <a:lnTo>
                  <a:pt x="413" y="4039"/>
                </a:lnTo>
                <a:lnTo>
                  <a:pt x="413" y="4041"/>
                </a:lnTo>
                <a:lnTo>
                  <a:pt x="419" y="3970"/>
                </a:lnTo>
                <a:lnTo>
                  <a:pt x="419" y="3968"/>
                </a:lnTo>
                <a:lnTo>
                  <a:pt x="419" y="3958"/>
                </a:lnTo>
                <a:lnTo>
                  <a:pt x="405" y="3956"/>
                </a:lnTo>
                <a:lnTo>
                  <a:pt x="405" y="3956"/>
                </a:lnTo>
                <a:lnTo>
                  <a:pt x="383" y="3948"/>
                </a:lnTo>
                <a:lnTo>
                  <a:pt x="385" y="3954"/>
                </a:lnTo>
                <a:lnTo>
                  <a:pt x="385" y="3893"/>
                </a:lnTo>
                <a:lnTo>
                  <a:pt x="385" y="3895"/>
                </a:lnTo>
                <a:lnTo>
                  <a:pt x="391" y="3798"/>
                </a:lnTo>
                <a:lnTo>
                  <a:pt x="393" y="3750"/>
                </a:lnTo>
                <a:lnTo>
                  <a:pt x="393" y="3738"/>
                </a:lnTo>
                <a:lnTo>
                  <a:pt x="391" y="3744"/>
                </a:lnTo>
                <a:lnTo>
                  <a:pt x="395" y="3742"/>
                </a:lnTo>
                <a:lnTo>
                  <a:pt x="396" y="3697"/>
                </a:lnTo>
                <a:lnTo>
                  <a:pt x="396" y="3699"/>
                </a:lnTo>
                <a:lnTo>
                  <a:pt x="397" y="3683"/>
                </a:lnTo>
                <a:lnTo>
                  <a:pt x="397" y="3683"/>
                </a:lnTo>
                <a:lnTo>
                  <a:pt x="400" y="3659"/>
                </a:lnTo>
                <a:lnTo>
                  <a:pt x="400" y="3624"/>
                </a:lnTo>
                <a:lnTo>
                  <a:pt x="400" y="3624"/>
                </a:lnTo>
                <a:lnTo>
                  <a:pt x="404" y="3574"/>
                </a:lnTo>
                <a:lnTo>
                  <a:pt x="404" y="3572"/>
                </a:lnTo>
                <a:lnTo>
                  <a:pt x="406" y="3499"/>
                </a:lnTo>
                <a:lnTo>
                  <a:pt x="406" y="3501"/>
                </a:lnTo>
                <a:lnTo>
                  <a:pt x="417" y="3400"/>
                </a:lnTo>
                <a:lnTo>
                  <a:pt x="415" y="3404"/>
                </a:lnTo>
                <a:lnTo>
                  <a:pt x="419" y="3396"/>
                </a:lnTo>
                <a:lnTo>
                  <a:pt x="418" y="3387"/>
                </a:lnTo>
                <a:lnTo>
                  <a:pt x="417" y="3391"/>
                </a:lnTo>
                <a:lnTo>
                  <a:pt x="421" y="3385"/>
                </a:lnTo>
                <a:lnTo>
                  <a:pt x="418" y="3367"/>
                </a:lnTo>
                <a:lnTo>
                  <a:pt x="418" y="3369"/>
                </a:lnTo>
                <a:lnTo>
                  <a:pt x="419" y="3355"/>
                </a:lnTo>
                <a:lnTo>
                  <a:pt x="418" y="3359"/>
                </a:lnTo>
                <a:lnTo>
                  <a:pt x="423" y="3349"/>
                </a:lnTo>
                <a:lnTo>
                  <a:pt x="429" y="3264"/>
                </a:lnTo>
                <a:lnTo>
                  <a:pt x="435" y="3207"/>
                </a:lnTo>
                <a:lnTo>
                  <a:pt x="435" y="3209"/>
                </a:lnTo>
                <a:lnTo>
                  <a:pt x="441" y="3193"/>
                </a:lnTo>
                <a:lnTo>
                  <a:pt x="441" y="3137"/>
                </a:lnTo>
                <a:lnTo>
                  <a:pt x="434" y="3126"/>
                </a:lnTo>
                <a:lnTo>
                  <a:pt x="412" y="3159"/>
                </a:lnTo>
                <a:lnTo>
                  <a:pt x="412" y="3159"/>
                </a:lnTo>
                <a:lnTo>
                  <a:pt x="354" y="3220"/>
                </a:lnTo>
                <a:lnTo>
                  <a:pt x="354" y="3220"/>
                </a:lnTo>
                <a:lnTo>
                  <a:pt x="331" y="3238"/>
                </a:lnTo>
                <a:lnTo>
                  <a:pt x="330" y="3238"/>
                </a:lnTo>
                <a:lnTo>
                  <a:pt x="281" y="3288"/>
                </a:lnTo>
                <a:lnTo>
                  <a:pt x="283" y="3288"/>
                </a:lnTo>
                <a:lnTo>
                  <a:pt x="270" y="3296"/>
                </a:lnTo>
                <a:lnTo>
                  <a:pt x="243" y="3333"/>
                </a:lnTo>
                <a:lnTo>
                  <a:pt x="244" y="3333"/>
                </a:lnTo>
                <a:lnTo>
                  <a:pt x="238" y="3333"/>
                </a:lnTo>
                <a:lnTo>
                  <a:pt x="241" y="3337"/>
                </a:lnTo>
                <a:lnTo>
                  <a:pt x="241" y="3323"/>
                </a:lnTo>
                <a:lnTo>
                  <a:pt x="216" y="3262"/>
                </a:lnTo>
                <a:lnTo>
                  <a:pt x="167" y="3137"/>
                </a:lnTo>
                <a:lnTo>
                  <a:pt x="167" y="3137"/>
                </a:lnTo>
                <a:lnTo>
                  <a:pt x="131" y="3062"/>
                </a:lnTo>
                <a:lnTo>
                  <a:pt x="132" y="3062"/>
                </a:lnTo>
                <a:lnTo>
                  <a:pt x="80" y="2878"/>
                </a:lnTo>
                <a:lnTo>
                  <a:pt x="65" y="2823"/>
                </a:lnTo>
                <a:lnTo>
                  <a:pt x="67" y="2823"/>
                </a:lnTo>
                <a:lnTo>
                  <a:pt x="46" y="2712"/>
                </a:lnTo>
                <a:lnTo>
                  <a:pt x="42" y="2710"/>
                </a:lnTo>
                <a:lnTo>
                  <a:pt x="38" y="2708"/>
                </a:lnTo>
                <a:lnTo>
                  <a:pt x="41" y="2712"/>
                </a:lnTo>
                <a:lnTo>
                  <a:pt x="15" y="2594"/>
                </a:lnTo>
                <a:lnTo>
                  <a:pt x="15" y="2594"/>
                </a:lnTo>
                <a:lnTo>
                  <a:pt x="5" y="2519"/>
                </a:lnTo>
                <a:lnTo>
                  <a:pt x="5" y="2521"/>
                </a:lnTo>
                <a:lnTo>
                  <a:pt x="8" y="2485"/>
                </a:lnTo>
                <a:lnTo>
                  <a:pt x="8" y="2485"/>
                </a:lnTo>
                <a:lnTo>
                  <a:pt x="13" y="2453"/>
                </a:lnTo>
                <a:lnTo>
                  <a:pt x="13" y="2453"/>
                </a:lnTo>
                <a:lnTo>
                  <a:pt x="18" y="2440"/>
                </a:lnTo>
                <a:lnTo>
                  <a:pt x="27" y="2364"/>
                </a:lnTo>
                <a:lnTo>
                  <a:pt x="49" y="2248"/>
                </a:lnTo>
                <a:lnTo>
                  <a:pt x="49" y="2248"/>
                </a:lnTo>
                <a:lnTo>
                  <a:pt x="91" y="2109"/>
                </a:lnTo>
                <a:lnTo>
                  <a:pt x="109" y="2038"/>
                </a:lnTo>
                <a:lnTo>
                  <a:pt x="121" y="1935"/>
                </a:lnTo>
                <a:lnTo>
                  <a:pt x="121" y="1937"/>
                </a:lnTo>
                <a:lnTo>
                  <a:pt x="195" y="1665"/>
                </a:lnTo>
                <a:lnTo>
                  <a:pt x="279" y="1394"/>
                </a:lnTo>
                <a:lnTo>
                  <a:pt x="279" y="1396"/>
                </a:lnTo>
                <a:lnTo>
                  <a:pt x="303" y="1344"/>
                </a:lnTo>
                <a:lnTo>
                  <a:pt x="302" y="1344"/>
                </a:lnTo>
                <a:lnTo>
                  <a:pt x="339" y="1293"/>
                </a:lnTo>
                <a:lnTo>
                  <a:pt x="360" y="1263"/>
                </a:lnTo>
                <a:lnTo>
                  <a:pt x="360" y="1265"/>
                </a:lnTo>
                <a:lnTo>
                  <a:pt x="392" y="1228"/>
                </a:lnTo>
                <a:lnTo>
                  <a:pt x="392" y="1228"/>
                </a:lnTo>
                <a:lnTo>
                  <a:pt x="403" y="1218"/>
                </a:lnTo>
                <a:lnTo>
                  <a:pt x="451" y="1178"/>
                </a:lnTo>
                <a:lnTo>
                  <a:pt x="450" y="1178"/>
                </a:lnTo>
                <a:lnTo>
                  <a:pt x="470" y="1172"/>
                </a:lnTo>
                <a:lnTo>
                  <a:pt x="470" y="1172"/>
                </a:lnTo>
                <a:lnTo>
                  <a:pt x="585" y="1113"/>
                </a:lnTo>
                <a:lnTo>
                  <a:pt x="593" y="1103"/>
                </a:lnTo>
                <a:lnTo>
                  <a:pt x="592" y="1103"/>
                </a:lnTo>
                <a:lnTo>
                  <a:pt x="606" y="1099"/>
                </a:lnTo>
                <a:lnTo>
                  <a:pt x="657" y="1062"/>
                </a:lnTo>
                <a:lnTo>
                  <a:pt x="663" y="1054"/>
                </a:lnTo>
                <a:lnTo>
                  <a:pt x="663" y="1038"/>
                </a:lnTo>
                <a:lnTo>
                  <a:pt x="661" y="1042"/>
                </a:lnTo>
                <a:lnTo>
                  <a:pt x="682" y="1014"/>
                </a:lnTo>
                <a:lnTo>
                  <a:pt x="695" y="981"/>
                </a:lnTo>
                <a:lnTo>
                  <a:pt x="695" y="947"/>
                </a:lnTo>
                <a:lnTo>
                  <a:pt x="694" y="949"/>
                </a:lnTo>
                <a:lnTo>
                  <a:pt x="708" y="921"/>
                </a:lnTo>
                <a:lnTo>
                  <a:pt x="707" y="923"/>
                </a:lnTo>
                <a:lnTo>
                  <a:pt x="713" y="917"/>
                </a:lnTo>
                <a:lnTo>
                  <a:pt x="717" y="907"/>
                </a:lnTo>
                <a:lnTo>
                  <a:pt x="716" y="892"/>
                </a:lnTo>
                <a:lnTo>
                  <a:pt x="715" y="896"/>
                </a:lnTo>
                <a:lnTo>
                  <a:pt x="719" y="888"/>
                </a:lnTo>
                <a:lnTo>
                  <a:pt x="716" y="870"/>
                </a:lnTo>
                <a:lnTo>
                  <a:pt x="716" y="872"/>
                </a:lnTo>
                <a:lnTo>
                  <a:pt x="716" y="842"/>
                </a:lnTo>
                <a:lnTo>
                  <a:pt x="711" y="755"/>
                </a:lnTo>
                <a:lnTo>
                  <a:pt x="703" y="741"/>
                </a:lnTo>
                <a:lnTo>
                  <a:pt x="703" y="743"/>
                </a:lnTo>
                <a:lnTo>
                  <a:pt x="700" y="686"/>
                </a:lnTo>
                <a:lnTo>
                  <a:pt x="700" y="686"/>
                </a:lnTo>
                <a:lnTo>
                  <a:pt x="700" y="670"/>
                </a:lnTo>
                <a:lnTo>
                  <a:pt x="683" y="656"/>
                </a:lnTo>
                <a:lnTo>
                  <a:pt x="671" y="650"/>
                </a:lnTo>
                <a:lnTo>
                  <a:pt x="673" y="652"/>
                </a:lnTo>
                <a:lnTo>
                  <a:pt x="664" y="629"/>
                </a:lnTo>
                <a:lnTo>
                  <a:pt x="664" y="631"/>
                </a:lnTo>
                <a:lnTo>
                  <a:pt x="657" y="579"/>
                </a:lnTo>
                <a:lnTo>
                  <a:pt x="657" y="579"/>
                </a:lnTo>
                <a:lnTo>
                  <a:pt x="656" y="544"/>
                </a:lnTo>
                <a:lnTo>
                  <a:pt x="652" y="528"/>
                </a:lnTo>
                <a:lnTo>
                  <a:pt x="641" y="502"/>
                </a:lnTo>
                <a:lnTo>
                  <a:pt x="642" y="504"/>
                </a:lnTo>
                <a:lnTo>
                  <a:pt x="633" y="461"/>
                </a:lnTo>
                <a:lnTo>
                  <a:pt x="622" y="429"/>
                </a:lnTo>
                <a:lnTo>
                  <a:pt x="585" y="348"/>
                </a:lnTo>
                <a:lnTo>
                  <a:pt x="586" y="350"/>
                </a:lnTo>
                <a:lnTo>
                  <a:pt x="583" y="316"/>
                </a:lnTo>
                <a:lnTo>
                  <a:pt x="583" y="318"/>
                </a:lnTo>
                <a:lnTo>
                  <a:pt x="588" y="269"/>
                </a:lnTo>
                <a:lnTo>
                  <a:pt x="586" y="273"/>
                </a:lnTo>
                <a:lnTo>
                  <a:pt x="594" y="263"/>
                </a:lnTo>
                <a:lnTo>
                  <a:pt x="597" y="235"/>
                </a:lnTo>
                <a:lnTo>
                  <a:pt x="596" y="237"/>
                </a:lnTo>
                <a:lnTo>
                  <a:pt x="612" y="190"/>
                </a:lnTo>
                <a:lnTo>
                  <a:pt x="612" y="190"/>
                </a:lnTo>
                <a:lnTo>
                  <a:pt x="653" y="127"/>
                </a:lnTo>
                <a:lnTo>
                  <a:pt x="652" y="129"/>
                </a:lnTo>
                <a:lnTo>
                  <a:pt x="690" y="87"/>
                </a:lnTo>
                <a:lnTo>
                  <a:pt x="690" y="87"/>
                </a:lnTo>
                <a:lnTo>
                  <a:pt x="754" y="48"/>
                </a:lnTo>
                <a:lnTo>
                  <a:pt x="753" y="48"/>
                </a:lnTo>
                <a:lnTo>
                  <a:pt x="813" y="32"/>
                </a:lnTo>
                <a:lnTo>
                  <a:pt x="858" y="22"/>
                </a:lnTo>
                <a:lnTo>
                  <a:pt x="858" y="22"/>
                </a:lnTo>
                <a:lnTo>
                  <a:pt x="882" y="10"/>
                </a:lnTo>
                <a:lnTo>
                  <a:pt x="881" y="10"/>
                </a:lnTo>
                <a:lnTo>
                  <a:pt x="895" y="14"/>
                </a:lnTo>
                <a:lnTo>
                  <a:pt x="895" y="14"/>
                </a:lnTo>
                <a:lnTo>
                  <a:pt x="899" y="14"/>
                </a:lnTo>
                <a:lnTo>
                  <a:pt x="902" y="4"/>
                </a:lnTo>
                <a:lnTo>
                  <a:pt x="895" y="4"/>
                </a:lnTo>
                <a:lnTo>
                  <a:pt x="896" y="4"/>
                </a:lnTo>
                <a:lnTo>
                  <a:pt x="881" y="0"/>
                </a:lnTo>
                <a:lnTo>
                  <a:pt x="857" y="12"/>
                </a:lnTo>
                <a:lnTo>
                  <a:pt x="857" y="12"/>
                </a:lnTo>
                <a:lnTo>
                  <a:pt x="812" y="22"/>
                </a:lnTo>
                <a:lnTo>
                  <a:pt x="752" y="38"/>
                </a:lnTo>
                <a:lnTo>
                  <a:pt x="688" y="79"/>
                </a:lnTo>
                <a:lnTo>
                  <a:pt x="650" y="119"/>
                </a:lnTo>
                <a:lnTo>
                  <a:pt x="649" y="121"/>
                </a:lnTo>
                <a:lnTo>
                  <a:pt x="607" y="184"/>
                </a:lnTo>
                <a:lnTo>
                  <a:pt x="591" y="233"/>
                </a:lnTo>
                <a:lnTo>
                  <a:pt x="589" y="259"/>
                </a:lnTo>
                <a:lnTo>
                  <a:pt x="590" y="255"/>
                </a:lnTo>
                <a:lnTo>
                  <a:pt x="582" y="265"/>
                </a:lnTo>
                <a:lnTo>
                  <a:pt x="577" y="318"/>
                </a:lnTo>
                <a:lnTo>
                  <a:pt x="581" y="352"/>
                </a:lnTo>
                <a:lnTo>
                  <a:pt x="618" y="435"/>
                </a:lnTo>
                <a:lnTo>
                  <a:pt x="628" y="465"/>
                </a:lnTo>
                <a:lnTo>
                  <a:pt x="628" y="463"/>
                </a:lnTo>
                <a:lnTo>
                  <a:pt x="636" y="508"/>
                </a:lnTo>
                <a:lnTo>
                  <a:pt x="646" y="532"/>
                </a:lnTo>
                <a:lnTo>
                  <a:pt x="646" y="532"/>
                </a:lnTo>
                <a:lnTo>
                  <a:pt x="650" y="546"/>
                </a:lnTo>
                <a:lnTo>
                  <a:pt x="650" y="546"/>
                </a:lnTo>
                <a:lnTo>
                  <a:pt x="651" y="581"/>
                </a:lnTo>
                <a:lnTo>
                  <a:pt x="651" y="581"/>
                </a:lnTo>
                <a:lnTo>
                  <a:pt x="658" y="635"/>
                </a:lnTo>
                <a:lnTo>
                  <a:pt x="668" y="660"/>
                </a:lnTo>
                <a:lnTo>
                  <a:pt x="682" y="666"/>
                </a:lnTo>
                <a:lnTo>
                  <a:pt x="681" y="664"/>
                </a:lnTo>
                <a:lnTo>
                  <a:pt x="695" y="678"/>
                </a:lnTo>
                <a:lnTo>
                  <a:pt x="694" y="674"/>
                </a:lnTo>
                <a:lnTo>
                  <a:pt x="694" y="686"/>
                </a:lnTo>
                <a:lnTo>
                  <a:pt x="694" y="686"/>
                </a:lnTo>
                <a:lnTo>
                  <a:pt x="698" y="747"/>
                </a:lnTo>
                <a:lnTo>
                  <a:pt x="707" y="761"/>
                </a:lnTo>
                <a:lnTo>
                  <a:pt x="705" y="757"/>
                </a:lnTo>
                <a:lnTo>
                  <a:pt x="710" y="844"/>
                </a:lnTo>
                <a:lnTo>
                  <a:pt x="710" y="842"/>
                </a:lnTo>
                <a:lnTo>
                  <a:pt x="710" y="872"/>
                </a:lnTo>
                <a:lnTo>
                  <a:pt x="713" y="888"/>
                </a:lnTo>
                <a:lnTo>
                  <a:pt x="713" y="882"/>
                </a:lnTo>
                <a:lnTo>
                  <a:pt x="710" y="890"/>
                </a:lnTo>
                <a:lnTo>
                  <a:pt x="711" y="907"/>
                </a:lnTo>
                <a:lnTo>
                  <a:pt x="712" y="904"/>
                </a:lnTo>
                <a:lnTo>
                  <a:pt x="709" y="911"/>
                </a:lnTo>
                <a:lnTo>
                  <a:pt x="710" y="909"/>
                </a:lnTo>
                <a:lnTo>
                  <a:pt x="704" y="915"/>
                </a:lnTo>
                <a:lnTo>
                  <a:pt x="689" y="945"/>
                </a:lnTo>
                <a:lnTo>
                  <a:pt x="689" y="979"/>
                </a:lnTo>
                <a:lnTo>
                  <a:pt x="689" y="977"/>
                </a:lnTo>
                <a:lnTo>
                  <a:pt x="678" y="1006"/>
                </a:lnTo>
                <a:lnTo>
                  <a:pt x="679" y="1006"/>
                </a:lnTo>
                <a:lnTo>
                  <a:pt x="657" y="1036"/>
                </a:lnTo>
                <a:lnTo>
                  <a:pt x="657" y="1052"/>
                </a:lnTo>
                <a:lnTo>
                  <a:pt x="658" y="1048"/>
                </a:lnTo>
                <a:lnTo>
                  <a:pt x="653" y="1054"/>
                </a:lnTo>
                <a:lnTo>
                  <a:pt x="653" y="1054"/>
                </a:lnTo>
                <a:lnTo>
                  <a:pt x="604" y="1089"/>
                </a:lnTo>
                <a:lnTo>
                  <a:pt x="605" y="1089"/>
                </a:lnTo>
                <a:lnTo>
                  <a:pt x="591" y="1093"/>
                </a:lnTo>
                <a:lnTo>
                  <a:pt x="583" y="1103"/>
                </a:lnTo>
                <a:lnTo>
                  <a:pt x="584" y="1103"/>
                </a:lnTo>
                <a:lnTo>
                  <a:pt x="469" y="1163"/>
                </a:lnTo>
                <a:lnTo>
                  <a:pt x="469" y="1163"/>
                </a:lnTo>
                <a:lnTo>
                  <a:pt x="449" y="1168"/>
                </a:lnTo>
                <a:lnTo>
                  <a:pt x="400" y="1210"/>
                </a:lnTo>
                <a:lnTo>
                  <a:pt x="390" y="1218"/>
                </a:lnTo>
                <a:lnTo>
                  <a:pt x="389" y="1218"/>
                </a:lnTo>
                <a:lnTo>
                  <a:pt x="356" y="1255"/>
                </a:lnTo>
                <a:lnTo>
                  <a:pt x="356" y="1257"/>
                </a:lnTo>
                <a:lnTo>
                  <a:pt x="337" y="1287"/>
                </a:lnTo>
                <a:lnTo>
                  <a:pt x="299" y="1338"/>
                </a:lnTo>
                <a:lnTo>
                  <a:pt x="274" y="1390"/>
                </a:lnTo>
                <a:lnTo>
                  <a:pt x="189" y="1661"/>
                </a:lnTo>
                <a:lnTo>
                  <a:pt x="115" y="1934"/>
                </a:lnTo>
                <a:lnTo>
                  <a:pt x="104" y="2036"/>
                </a:lnTo>
                <a:lnTo>
                  <a:pt x="104" y="2034"/>
                </a:lnTo>
                <a:lnTo>
                  <a:pt x="86" y="2106"/>
                </a:lnTo>
                <a:lnTo>
                  <a:pt x="45" y="2244"/>
                </a:lnTo>
                <a:lnTo>
                  <a:pt x="43" y="2246"/>
                </a:lnTo>
                <a:lnTo>
                  <a:pt x="21" y="2361"/>
                </a:lnTo>
                <a:lnTo>
                  <a:pt x="12" y="2438"/>
                </a:lnTo>
                <a:lnTo>
                  <a:pt x="12" y="2436"/>
                </a:lnTo>
                <a:lnTo>
                  <a:pt x="8" y="2449"/>
                </a:lnTo>
                <a:lnTo>
                  <a:pt x="2" y="2483"/>
                </a:lnTo>
                <a:lnTo>
                  <a:pt x="0" y="2519"/>
                </a:lnTo>
                <a:lnTo>
                  <a:pt x="9" y="2596"/>
                </a:lnTo>
                <a:lnTo>
                  <a:pt x="9" y="2596"/>
                </a:lnTo>
                <a:lnTo>
                  <a:pt x="37" y="2718"/>
                </a:lnTo>
                <a:lnTo>
                  <a:pt x="41" y="2718"/>
                </a:lnTo>
                <a:lnTo>
                  <a:pt x="39" y="2716"/>
                </a:lnTo>
                <a:lnTo>
                  <a:pt x="41" y="2720"/>
                </a:lnTo>
                <a:lnTo>
                  <a:pt x="40" y="2716"/>
                </a:lnTo>
                <a:lnTo>
                  <a:pt x="61" y="2827"/>
                </a:lnTo>
                <a:lnTo>
                  <a:pt x="61" y="2827"/>
                </a:lnTo>
                <a:lnTo>
                  <a:pt x="76" y="2882"/>
                </a:lnTo>
                <a:lnTo>
                  <a:pt x="127" y="3068"/>
                </a:lnTo>
                <a:lnTo>
                  <a:pt x="164" y="3143"/>
                </a:lnTo>
                <a:lnTo>
                  <a:pt x="162" y="3143"/>
                </a:lnTo>
                <a:lnTo>
                  <a:pt x="210" y="3268"/>
                </a:lnTo>
                <a:lnTo>
                  <a:pt x="235" y="3327"/>
                </a:lnTo>
                <a:lnTo>
                  <a:pt x="235" y="3325"/>
                </a:lnTo>
                <a:lnTo>
                  <a:pt x="235" y="3341"/>
                </a:lnTo>
                <a:lnTo>
                  <a:pt x="246" y="3343"/>
                </a:lnTo>
                <a:lnTo>
                  <a:pt x="273" y="3304"/>
                </a:lnTo>
                <a:lnTo>
                  <a:pt x="272" y="3304"/>
                </a:lnTo>
                <a:lnTo>
                  <a:pt x="284" y="3296"/>
                </a:lnTo>
                <a:lnTo>
                  <a:pt x="333" y="3246"/>
                </a:lnTo>
                <a:lnTo>
                  <a:pt x="333" y="3246"/>
                </a:lnTo>
                <a:lnTo>
                  <a:pt x="356" y="3228"/>
                </a:lnTo>
                <a:lnTo>
                  <a:pt x="358" y="3228"/>
                </a:lnTo>
                <a:lnTo>
                  <a:pt x="415" y="3167"/>
                </a:lnTo>
                <a:lnTo>
                  <a:pt x="415" y="3167"/>
                </a:lnTo>
                <a:lnTo>
                  <a:pt x="436" y="3135"/>
                </a:lnTo>
                <a:lnTo>
                  <a:pt x="432" y="3135"/>
                </a:lnTo>
                <a:lnTo>
                  <a:pt x="436" y="3143"/>
                </a:lnTo>
                <a:lnTo>
                  <a:pt x="435" y="3139"/>
                </a:lnTo>
                <a:lnTo>
                  <a:pt x="435" y="3191"/>
                </a:lnTo>
                <a:lnTo>
                  <a:pt x="435" y="3189"/>
                </a:lnTo>
                <a:lnTo>
                  <a:pt x="429" y="3205"/>
                </a:lnTo>
                <a:lnTo>
                  <a:pt x="423" y="3262"/>
                </a:lnTo>
                <a:lnTo>
                  <a:pt x="418" y="3345"/>
                </a:lnTo>
                <a:lnTo>
                  <a:pt x="419" y="3343"/>
                </a:lnTo>
                <a:lnTo>
                  <a:pt x="413" y="3353"/>
                </a:lnTo>
                <a:lnTo>
                  <a:pt x="412" y="3369"/>
                </a:lnTo>
                <a:lnTo>
                  <a:pt x="415" y="3385"/>
                </a:lnTo>
                <a:lnTo>
                  <a:pt x="415" y="3381"/>
                </a:lnTo>
                <a:lnTo>
                  <a:pt x="412" y="3387"/>
                </a:lnTo>
                <a:lnTo>
                  <a:pt x="413" y="3396"/>
                </a:lnTo>
                <a:lnTo>
                  <a:pt x="414" y="3392"/>
                </a:lnTo>
                <a:lnTo>
                  <a:pt x="411" y="3398"/>
                </a:lnTo>
                <a:lnTo>
                  <a:pt x="400" y="3499"/>
                </a:lnTo>
                <a:lnTo>
                  <a:pt x="400" y="3499"/>
                </a:lnTo>
                <a:lnTo>
                  <a:pt x="398" y="3572"/>
                </a:lnTo>
                <a:lnTo>
                  <a:pt x="398" y="3572"/>
                </a:lnTo>
                <a:lnTo>
                  <a:pt x="395" y="3622"/>
                </a:lnTo>
                <a:lnTo>
                  <a:pt x="395" y="3624"/>
                </a:lnTo>
                <a:lnTo>
                  <a:pt x="395" y="3659"/>
                </a:lnTo>
                <a:lnTo>
                  <a:pt x="395" y="3657"/>
                </a:lnTo>
                <a:lnTo>
                  <a:pt x="391" y="3679"/>
                </a:lnTo>
                <a:lnTo>
                  <a:pt x="391" y="3681"/>
                </a:lnTo>
                <a:lnTo>
                  <a:pt x="390" y="3697"/>
                </a:lnTo>
                <a:lnTo>
                  <a:pt x="390" y="3697"/>
                </a:lnTo>
                <a:lnTo>
                  <a:pt x="390" y="3738"/>
                </a:lnTo>
                <a:lnTo>
                  <a:pt x="392" y="3735"/>
                </a:lnTo>
                <a:lnTo>
                  <a:pt x="389" y="3735"/>
                </a:lnTo>
                <a:lnTo>
                  <a:pt x="388" y="3750"/>
                </a:lnTo>
                <a:lnTo>
                  <a:pt x="388" y="3748"/>
                </a:lnTo>
                <a:lnTo>
                  <a:pt x="385" y="3798"/>
                </a:lnTo>
                <a:lnTo>
                  <a:pt x="380" y="3893"/>
                </a:lnTo>
                <a:lnTo>
                  <a:pt x="380" y="3893"/>
                </a:lnTo>
                <a:lnTo>
                  <a:pt x="380" y="3958"/>
                </a:lnTo>
                <a:lnTo>
                  <a:pt x="404" y="3966"/>
                </a:lnTo>
                <a:lnTo>
                  <a:pt x="417" y="3966"/>
                </a:lnTo>
                <a:lnTo>
                  <a:pt x="413" y="3962"/>
                </a:lnTo>
                <a:lnTo>
                  <a:pt x="413" y="3968"/>
                </a:lnTo>
                <a:lnTo>
                  <a:pt x="413" y="3968"/>
                </a:lnTo>
                <a:lnTo>
                  <a:pt x="407" y="4039"/>
                </a:lnTo>
                <a:lnTo>
                  <a:pt x="407" y="4039"/>
                </a:lnTo>
                <a:lnTo>
                  <a:pt x="406" y="4110"/>
                </a:lnTo>
                <a:lnTo>
                  <a:pt x="406" y="4110"/>
                </a:lnTo>
                <a:lnTo>
                  <a:pt x="397" y="4256"/>
                </a:lnTo>
                <a:lnTo>
                  <a:pt x="391" y="4403"/>
                </a:lnTo>
                <a:lnTo>
                  <a:pt x="378" y="4610"/>
                </a:lnTo>
                <a:lnTo>
                  <a:pt x="375" y="4652"/>
                </a:lnTo>
                <a:lnTo>
                  <a:pt x="366" y="4753"/>
                </a:lnTo>
                <a:lnTo>
                  <a:pt x="366" y="4751"/>
                </a:lnTo>
                <a:lnTo>
                  <a:pt x="355" y="4822"/>
                </a:lnTo>
                <a:lnTo>
                  <a:pt x="360" y="4838"/>
                </a:lnTo>
                <a:lnTo>
                  <a:pt x="360" y="4836"/>
                </a:lnTo>
                <a:lnTo>
                  <a:pt x="348" y="4911"/>
                </a:lnTo>
                <a:lnTo>
                  <a:pt x="296" y="5148"/>
                </a:lnTo>
                <a:lnTo>
                  <a:pt x="278" y="5259"/>
                </a:lnTo>
                <a:lnTo>
                  <a:pt x="278" y="5261"/>
                </a:lnTo>
                <a:lnTo>
                  <a:pt x="255" y="5447"/>
                </a:lnTo>
                <a:lnTo>
                  <a:pt x="248" y="5543"/>
                </a:lnTo>
                <a:lnTo>
                  <a:pt x="248" y="5541"/>
                </a:lnTo>
                <a:lnTo>
                  <a:pt x="243" y="5555"/>
                </a:lnTo>
                <a:lnTo>
                  <a:pt x="243" y="5593"/>
                </a:lnTo>
                <a:lnTo>
                  <a:pt x="243" y="5591"/>
                </a:lnTo>
                <a:lnTo>
                  <a:pt x="241" y="5617"/>
                </a:lnTo>
                <a:lnTo>
                  <a:pt x="241" y="5652"/>
                </a:lnTo>
                <a:lnTo>
                  <a:pt x="242" y="5648"/>
                </a:lnTo>
                <a:lnTo>
                  <a:pt x="236" y="5658"/>
                </a:lnTo>
                <a:lnTo>
                  <a:pt x="236" y="5666"/>
                </a:lnTo>
                <a:lnTo>
                  <a:pt x="236" y="5664"/>
                </a:lnTo>
                <a:lnTo>
                  <a:pt x="235" y="5688"/>
                </a:lnTo>
                <a:lnTo>
                  <a:pt x="235" y="5688"/>
                </a:lnTo>
                <a:lnTo>
                  <a:pt x="233" y="5808"/>
                </a:lnTo>
                <a:lnTo>
                  <a:pt x="233" y="5808"/>
                </a:lnTo>
                <a:lnTo>
                  <a:pt x="228" y="5877"/>
                </a:lnTo>
                <a:lnTo>
                  <a:pt x="228" y="5877"/>
                </a:lnTo>
                <a:lnTo>
                  <a:pt x="227" y="5984"/>
                </a:lnTo>
                <a:lnTo>
                  <a:pt x="222" y="6127"/>
                </a:lnTo>
                <a:lnTo>
                  <a:pt x="227" y="6289"/>
                </a:lnTo>
                <a:lnTo>
                  <a:pt x="228" y="6287"/>
                </a:lnTo>
                <a:lnTo>
                  <a:pt x="224" y="6295"/>
                </a:lnTo>
                <a:lnTo>
                  <a:pt x="224" y="6293"/>
                </a:lnTo>
                <a:lnTo>
                  <a:pt x="188" y="6334"/>
                </a:lnTo>
                <a:lnTo>
                  <a:pt x="176" y="6362"/>
                </a:lnTo>
                <a:lnTo>
                  <a:pt x="184" y="6362"/>
                </a:lnTo>
                <a:lnTo>
                  <a:pt x="182" y="6362"/>
                </a:lnTo>
                <a:lnTo>
                  <a:pt x="184" y="6364"/>
                </a:lnTo>
                <a:lnTo>
                  <a:pt x="183" y="6360"/>
                </a:lnTo>
                <a:lnTo>
                  <a:pt x="186" y="6376"/>
                </a:lnTo>
                <a:lnTo>
                  <a:pt x="195" y="6395"/>
                </a:lnTo>
                <a:lnTo>
                  <a:pt x="195" y="6393"/>
                </a:lnTo>
                <a:lnTo>
                  <a:pt x="199" y="6411"/>
                </a:lnTo>
                <a:lnTo>
                  <a:pt x="199" y="6409"/>
                </a:lnTo>
                <a:lnTo>
                  <a:pt x="190" y="6455"/>
                </a:lnTo>
                <a:lnTo>
                  <a:pt x="191" y="6453"/>
                </a:lnTo>
                <a:lnTo>
                  <a:pt x="184" y="6463"/>
                </a:lnTo>
                <a:lnTo>
                  <a:pt x="173" y="6500"/>
                </a:lnTo>
                <a:lnTo>
                  <a:pt x="189" y="64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23" name=""/>
          <p:cNvSpPr/>
          <p:nvPr/>
        </p:nvSpPr>
        <p:spPr>
          <a:xfrm>
            <a:off x="3672000" y="2490840"/>
            <a:ext cx="164880" cy="363600"/>
          </a:xfrm>
          <a:custGeom>
            <a:avLst/>
            <a:gdLst/>
            <a:ahLst/>
            <a:rect l="l" t="t" r="r" b="b"/>
            <a:pathLst>
              <a:path w="104" h="459">
                <a:moveTo>
                  <a:pt x="91" y="259"/>
                </a:moveTo>
                <a:lnTo>
                  <a:pt x="66" y="50"/>
                </a:lnTo>
                <a:lnTo>
                  <a:pt x="66" y="48"/>
                </a:lnTo>
                <a:lnTo>
                  <a:pt x="59" y="0"/>
                </a:lnTo>
                <a:lnTo>
                  <a:pt x="47" y="22"/>
                </a:lnTo>
                <a:lnTo>
                  <a:pt x="36" y="87"/>
                </a:lnTo>
                <a:lnTo>
                  <a:pt x="36" y="87"/>
                </a:lnTo>
                <a:lnTo>
                  <a:pt x="28" y="109"/>
                </a:lnTo>
                <a:lnTo>
                  <a:pt x="30" y="107"/>
                </a:lnTo>
                <a:lnTo>
                  <a:pt x="8" y="107"/>
                </a:lnTo>
                <a:lnTo>
                  <a:pt x="7" y="115"/>
                </a:lnTo>
                <a:lnTo>
                  <a:pt x="7" y="113"/>
                </a:lnTo>
                <a:lnTo>
                  <a:pt x="0" y="149"/>
                </a:lnTo>
                <a:lnTo>
                  <a:pt x="0" y="168"/>
                </a:lnTo>
                <a:lnTo>
                  <a:pt x="4" y="174"/>
                </a:lnTo>
                <a:lnTo>
                  <a:pt x="4" y="172"/>
                </a:lnTo>
                <a:lnTo>
                  <a:pt x="10" y="208"/>
                </a:lnTo>
                <a:lnTo>
                  <a:pt x="21" y="240"/>
                </a:lnTo>
                <a:lnTo>
                  <a:pt x="21" y="238"/>
                </a:lnTo>
                <a:lnTo>
                  <a:pt x="24" y="249"/>
                </a:lnTo>
                <a:lnTo>
                  <a:pt x="24" y="249"/>
                </a:lnTo>
                <a:lnTo>
                  <a:pt x="25" y="259"/>
                </a:lnTo>
                <a:lnTo>
                  <a:pt x="25" y="259"/>
                </a:lnTo>
                <a:lnTo>
                  <a:pt x="27" y="267"/>
                </a:lnTo>
                <a:lnTo>
                  <a:pt x="27" y="267"/>
                </a:lnTo>
                <a:lnTo>
                  <a:pt x="32" y="285"/>
                </a:lnTo>
                <a:lnTo>
                  <a:pt x="30" y="283"/>
                </a:lnTo>
                <a:lnTo>
                  <a:pt x="33" y="293"/>
                </a:lnTo>
                <a:lnTo>
                  <a:pt x="33" y="295"/>
                </a:lnTo>
                <a:lnTo>
                  <a:pt x="35" y="305"/>
                </a:lnTo>
                <a:lnTo>
                  <a:pt x="35" y="305"/>
                </a:lnTo>
                <a:lnTo>
                  <a:pt x="39" y="315"/>
                </a:lnTo>
                <a:lnTo>
                  <a:pt x="37" y="315"/>
                </a:lnTo>
                <a:lnTo>
                  <a:pt x="40" y="323"/>
                </a:lnTo>
                <a:lnTo>
                  <a:pt x="41" y="330"/>
                </a:lnTo>
                <a:lnTo>
                  <a:pt x="43" y="340"/>
                </a:lnTo>
                <a:lnTo>
                  <a:pt x="45" y="354"/>
                </a:lnTo>
                <a:lnTo>
                  <a:pt x="50" y="358"/>
                </a:lnTo>
                <a:lnTo>
                  <a:pt x="49" y="356"/>
                </a:lnTo>
                <a:lnTo>
                  <a:pt x="51" y="368"/>
                </a:lnTo>
                <a:lnTo>
                  <a:pt x="93" y="447"/>
                </a:lnTo>
                <a:lnTo>
                  <a:pt x="104" y="459"/>
                </a:lnTo>
                <a:lnTo>
                  <a:pt x="101" y="384"/>
                </a:lnTo>
                <a:lnTo>
                  <a:pt x="91" y="259"/>
                </a:lnTo>
                <a:lnTo>
                  <a:pt x="85" y="259"/>
                </a:lnTo>
                <a:lnTo>
                  <a:pt x="95" y="386"/>
                </a:lnTo>
                <a:lnTo>
                  <a:pt x="97" y="449"/>
                </a:lnTo>
                <a:lnTo>
                  <a:pt x="102" y="445"/>
                </a:lnTo>
                <a:lnTo>
                  <a:pt x="96" y="439"/>
                </a:lnTo>
                <a:lnTo>
                  <a:pt x="97" y="439"/>
                </a:lnTo>
                <a:lnTo>
                  <a:pt x="56" y="362"/>
                </a:lnTo>
                <a:lnTo>
                  <a:pt x="56" y="364"/>
                </a:lnTo>
                <a:lnTo>
                  <a:pt x="55" y="352"/>
                </a:lnTo>
                <a:lnTo>
                  <a:pt x="49" y="346"/>
                </a:lnTo>
                <a:lnTo>
                  <a:pt x="51" y="348"/>
                </a:lnTo>
                <a:lnTo>
                  <a:pt x="49" y="338"/>
                </a:lnTo>
                <a:lnTo>
                  <a:pt x="47" y="327"/>
                </a:lnTo>
                <a:lnTo>
                  <a:pt x="45" y="319"/>
                </a:lnTo>
                <a:lnTo>
                  <a:pt x="43" y="311"/>
                </a:lnTo>
                <a:lnTo>
                  <a:pt x="43" y="311"/>
                </a:lnTo>
                <a:lnTo>
                  <a:pt x="41" y="299"/>
                </a:lnTo>
                <a:lnTo>
                  <a:pt x="41" y="299"/>
                </a:lnTo>
                <a:lnTo>
                  <a:pt x="39" y="291"/>
                </a:lnTo>
                <a:lnTo>
                  <a:pt x="39" y="291"/>
                </a:lnTo>
                <a:lnTo>
                  <a:pt x="36" y="281"/>
                </a:lnTo>
                <a:lnTo>
                  <a:pt x="36" y="281"/>
                </a:lnTo>
                <a:lnTo>
                  <a:pt x="32" y="263"/>
                </a:lnTo>
                <a:lnTo>
                  <a:pt x="33" y="263"/>
                </a:lnTo>
                <a:lnTo>
                  <a:pt x="30" y="255"/>
                </a:lnTo>
                <a:lnTo>
                  <a:pt x="30" y="255"/>
                </a:lnTo>
                <a:lnTo>
                  <a:pt x="29" y="245"/>
                </a:lnTo>
                <a:lnTo>
                  <a:pt x="29" y="245"/>
                </a:lnTo>
                <a:lnTo>
                  <a:pt x="26" y="234"/>
                </a:lnTo>
                <a:lnTo>
                  <a:pt x="14" y="204"/>
                </a:lnTo>
                <a:lnTo>
                  <a:pt x="14" y="204"/>
                </a:lnTo>
                <a:lnTo>
                  <a:pt x="8" y="168"/>
                </a:lnTo>
                <a:lnTo>
                  <a:pt x="5" y="162"/>
                </a:lnTo>
                <a:lnTo>
                  <a:pt x="6" y="166"/>
                </a:lnTo>
                <a:lnTo>
                  <a:pt x="6" y="151"/>
                </a:lnTo>
                <a:lnTo>
                  <a:pt x="6" y="153"/>
                </a:lnTo>
                <a:lnTo>
                  <a:pt x="13" y="115"/>
                </a:lnTo>
                <a:lnTo>
                  <a:pt x="13" y="111"/>
                </a:lnTo>
                <a:lnTo>
                  <a:pt x="11" y="117"/>
                </a:lnTo>
                <a:lnTo>
                  <a:pt x="32" y="117"/>
                </a:lnTo>
                <a:lnTo>
                  <a:pt x="41" y="91"/>
                </a:lnTo>
                <a:lnTo>
                  <a:pt x="52" y="26"/>
                </a:lnTo>
                <a:lnTo>
                  <a:pt x="51" y="28"/>
                </a:lnTo>
                <a:lnTo>
                  <a:pt x="60" y="12"/>
                </a:lnTo>
                <a:lnTo>
                  <a:pt x="56" y="10"/>
                </a:lnTo>
                <a:lnTo>
                  <a:pt x="60" y="52"/>
                </a:lnTo>
                <a:lnTo>
                  <a:pt x="60" y="50"/>
                </a:lnTo>
                <a:lnTo>
                  <a:pt x="85" y="259"/>
                </a:lnTo>
                <a:lnTo>
                  <a:pt x="91" y="2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24" name=""/>
          <p:cNvSpPr/>
          <p:nvPr/>
        </p:nvSpPr>
        <p:spPr>
          <a:xfrm>
            <a:off x="4056120" y="623880"/>
            <a:ext cx="684000" cy="314280"/>
          </a:xfrm>
          <a:custGeom>
            <a:avLst/>
            <a:gdLst/>
            <a:ahLst/>
            <a:rect l="l" t="t" r="r" b="b"/>
            <a:pathLst>
              <a:path w="431" h="395">
                <a:moveTo>
                  <a:pt x="307" y="16"/>
                </a:moveTo>
                <a:lnTo>
                  <a:pt x="305" y="18"/>
                </a:lnTo>
                <a:lnTo>
                  <a:pt x="305" y="24"/>
                </a:lnTo>
                <a:lnTo>
                  <a:pt x="308" y="27"/>
                </a:lnTo>
                <a:lnTo>
                  <a:pt x="314" y="24"/>
                </a:lnTo>
                <a:lnTo>
                  <a:pt x="320" y="29"/>
                </a:lnTo>
                <a:lnTo>
                  <a:pt x="334" y="31"/>
                </a:lnTo>
                <a:lnTo>
                  <a:pt x="348" y="45"/>
                </a:lnTo>
                <a:lnTo>
                  <a:pt x="378" y="81"/>
                </a:lnTo>
                <a:lnTo>
                  <a:pt x="398" y="112"/>
                </a:lnTo>
                <a:lnTo>
                  <a:pt x="409" y="144"/>
                </a:lnTo>
                <a:lnTo>
                  <a:pt x="416" y="174"/>
                </a:lnTo>
                <a:lnTo>
                  <a:pt x="425" y="180"/>
                </a:lnTo>
                <a:lnTo>
                  <a:pt x="425" y="188"/>
                </a:lnTo>
                <a:lnTo>
                  <a:pt x="424" y="190"/>
                </a:lnTo>
                <a:lnTo>
                  <a:pt x="431" y="201"/>
                </a:lnTo>
                <a:lnTo>
                  <a:pt x="424" y="201"/>
                </a:lnTo>
                <a:lnTo>
                  <a:pt x="424" y="199"/>
                </a:lnTo>
                <a:lnTo>
                  <a:pt x="400" y="186"/>
                </a:lnTo>
                <a:lnTo>
                  <a:pt x="372" y="156"/>
                </a:lnTo>
                <a:lnTo>
                  <a:pt x="366" y="156"/>
                </a:lnTo>
                <a:lnTo>
                  <a:pt x="361" y="168"/>
                </a:lnTo>
                <a:lnTo>
                  <a:pt x="346" y="162"/>
                </a:lnTo>
                <a:lnTo>
                  <a:pt x="329" y="142"/>
                </a:lnTo>
                <a:lnTo>
                  <a:pt x="323" y="144"/>
                </a:lnTo>
                <a:lnTo>
                  <a:pt x="320" y="150"/>
                </a:lnTo>
                <a:lnTo>
                  <a:pt x="320" y="156"/>
                </a:lnTo>
                <a:lnTo>
                  <a:pt x="322" y="160"/>
                </a:lnTo>
                <a:lnTo>
                  <a:pt x="318" y="164"/>
                </a:lnTo>
                <a:lnTo>
                  <a:pt x="314" y="170"/>
                </a:lnTo>
                <a:lnTo>
                  <a:pt x="322" y="225"/>
                </a:lnTo>
                <a:lnTo>
                  <a:pt x="327" y="275"/>
                </a:lnTo>
                <a:lnTo>
                  <a:pt x="319" y="245"/>
                </a:lnTo>
                <a:lnTo>
                  <a:pt x="313" y="215"/>
                </a:lnTo>
                <a:lnTo>
                  <a:pt x="308" y="207"/>
                </a:lnTo>
                <a:lnTo>
                  <a:pt x="308" y="196"/>
                </a:lnTo>
                <a:lnTo>
                  <a:pt x="301" y="170"/>
                </a:lnTo>
                <a:lnTo>
                  <a:pt x="290" y="152"/>
                </a:lnTo>
                <a:lnTo>
                  <a:pt x="285" y="144"/>
                </a:lnTo>
                <a:lnTo>
                  <a:pt x="279" y="152"/>
                </a:lnTo>
                <a:lnTo>
                  <a:pt x="297" y="263"/>
                </a:lnTo>
                <a:lnTo>
                  <a:pt x="301" y="314"/>
                </a:lnTo>
                <a:lnTo>
                  <a:pt x="300" y="316"/>
                </a:lnTo>
                <a:lnTo>
                  <a:pt x="300" y="320"/>
                </a:lnTo>
                <a:lnTo>
                  <a:pt x="292" y="306"/>
                </a:lnTo>
                <a:lnTo>
                  <a:pt x="285" y="288"/>
                </a:lnTo>
                <a:lnTo>
                  <a:pt x="245" y="192"/>
                </a:lnTo>
                <a:lnTo>
                  <a:pt x="231" y="170"/>
                </a:lnTo>
                <a:lnTo>
                  <a:pt x="234" y="162"/>
                </a:lnTo>
                <a:lnTo>
                  <a:pt x="219" y="154"/>
                </a:lnTo>
                <a:lnTo>
                  <a:pt x="216" y="176"/>
                </a:lnTo>
                <a:lnTo>
                  <a:pt x="216" y="192"/>
                </a:lnTo>
                <a:lnTo>
                  <a:pt x="122" y="243"/>
                </a:lnTo>
                <a:lnTo>
                  <a:pt x="77" y="286"/>
                </a:lnTo>
                <a:lnTo>
                  <a:pt x="51" y="320"/>
                </a:lnTo>
                <a:lnTo>
                  <a:pt x="47" y="326"/>
                </a:lnTo>
                <a:lnTo>
                  <a:pt x="46" y="294"/>
                </a:lnTo>
                <a:lnTo>
                  <a:pt x="46" y="275"/>
                </a:lnTo>
                <a:lnTo>
                  <a:pt x="44" y="271"/>
                </a:lnTo>
                <a:lnTo>
                  <a:pt x="38" y="282"/>
                </a:lnTo>
                <a:lnTo>
                  <a:pt x="39" y="328"/>
                </a:lnTo>
                <a:lnTo>
                  <a:pt x="40" y="332"/>
                </a:lnTo>
                <a:lnTo>
                  <a:pt x="36" y="344"/>
                </a:lnTo>
                <a:lnTo>
                  <a:pt x="40" y="348"/>
                </a:lnTo>
                <a:lnTo>
                  <a:pt x="40" y="356"/>
                </a:lnTo>
                <a:lnTo>
                  <a:pt x="45" y="381"/>
                </a:lnTo>
                <a:lnTo>
                  <a:pt x="45" y="395"/>
                </a:lnTo>
                <a:lnTo>
                  <a:pt x="38" y="395"/>
                </a:lnTo>
                <a:lnTo>
                  <a:pt x="25" y="373"/>
                </a:lnTo>
                <a:lnTo>
                  <a:pt x="25" y="364"/>
                </a:lnTo>
                <a:lnTo>
                  <a:pt x="13" y="344"/>
                </a:lnTo>
                <a:lnTo>
                  <a:pt x="1" y="316"/>
                </a:lnTo>
                <a:lnTo>
                  <a:pt x="1" y="279"/>
                </a:lnTo>
                <a:lnTo>
                  <a:pt x="2" y="275"/>
                </a:lnTo>
                <a:lnTo>
                  <a:pt x="0" y="263"/>
                </a:lnTo>
                <a:lnTo>
                  <a:pt x="0" y="253"/>
                </a:lnTo>
                <a:lnTo>
                  <a:pt x="16" y="227"/>
                </a:lnTo>
                <a:lnTo>
                  <a:pt x="18" y="219"/>
                </a:lnTo>
                <a:lnTo>
                  <a:pt x="14" y="209"/>
                </a:lnTo>
                <a:lnTo>
                  <a:pt x="19" y="186"/>
                </a:lnTo>
                <a:lnTo>
                  <a:pt x="39" y="150"/>
                </a:lnTo>
                <a:lnTo>
                  <a:pt x="67" y="112"/>
                </a:lnTo>
                <a:lnTo>
                  <a:pt x="104" y="71"/>
                </a:lnTo>
                <a:lnTo>
                  <a:pt x="158" y="37"/>
                </a:lnTo>
                <a:lnTo>
                  <a:pt x="215" y="20"/>
                </a:lnTo>
                <a:lnTo>
                  <a:pt x="276" y="6"/>
                </a:lnTo>
                <a:lnTo>
                  <a:pt x="286" y="0"/>
                </a:lnTo>
                <a:lnTo>
                  <a:pt x="307" y="4"/>
                </a:lnTo>
                <a:lnTo>
                  <a:pt x="307"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25" name=""/>
          <p:cNvSpPr/>
          <p:nvPr/>
        </p:nvSpPr>
        <p:spPr>
          <a:xfrm>
            <a:off x="4586400" y="754200"/>
            <a:ext cx="1440" cy="6120"/>
          </a:xfrm>
          <a:prstGeom prst="rect">
            <a:avLst/>
          </a:prstGeom>
          <a:solidFill>
            <a:srgbClr val="f4d3c1"/>
          </a:solidFill>
          <a:ln w="0">
            <a:noFill/>
          </a:ln>
        </p:spPr>
        <p:style>
          <a:lnRef idx="0"/>
          <a:fillRef idx="0"/>
          <a:effectRef idx="0"/>
          <a:fontRef idx="minor"/>
        </p:style>
        <p:txBody>
          <a:bodyPr lIns="90000" rIns="90000" tIns="-40680" bIns="-40680" anchor="t">
            <a:noAutofit/>
          </a:bodyPr>
          <a:p>
            <a:endParaRPr b="0" lang="en-US" sz="2400" spc="-1" strike="noStrike">
              <a:solidFill>
                <a:srgbClr val="ffff00"/>
              </a:solidFill>
              <a:latin typeface="Times New Roman"/>
            </a:endParaRPr>
          </a:p>
        </p:txBody>
      </p:sp>
      <p:sp>
        <p:nvSpPr>
          <p:cNvPr id="226" name=""/>
          <p:cNvSpPr/>
          <p:nvPr/>
        </p:nvSpPr>
        <p:spPr>
          <a:xfrm>
            <a:off x="4410000" y="766800"/>
            <a:ext cx="12600" cy="12600"/>
          </a:xfrm>
          <a:custGeom>
            <a:avLst/>
            <a:gdLst/>
            <a:ahLst/>
            <a:rect l="l" t="t" r="r" b="b"/>
            <a:pathLst>
              <a:path w="8" h="16">
                <a:moveTo>
                  <a:pt x="0" y="12"/>
                </a:moveTo>
                <a:lnTo>
                  <a:pt x="0" y="0"/>
                </a:lnTo>
                <a:lnTo>
                  <a:pt x="8" y="16"/>
                </a:lnTo>
                <a:lnTo>
                  <a:pt x="0" y="12"/>
                </a:lnTo>
                <a:close/>
              </a:path>
            </a:pathLst>
          </a:custGeom>
          <a:solidFill>
            <a:srgbClr val="f4d3c1"/>
          </a:solidFill>
          <a:ln w="0">
            <a:noFill/>
          </a:ln>
        </p:spPr>
        <p:style>
          <a:lnRef idx="0"/>
          <a:fillRef idx="0"/>
          <a:effectRef idx="0"/>
          <a:fontRef idx="minor"/>
        </p:style>
        <p:txBody>
          <a:bodyPr lIns="90000" rIns="90000" tIns="-34200" bIns="-34200" anchor="t">
            <a:noAutofit/>
          </a:bodyPr>
          <a:p>
            <a:endParaRPr b="0" lang="en-US" sz="2400" spc="-1" strike="noStrike">
              <a:solidFill>
                <a:srgbClr val="ffff00"/>
              </a:solidFill>
              <a:latin typeface="Times New Roman"/>
            </a:endParaRPr>
          </a:p>
        </p:txBody>
      </p:sp>
      <p:sp>
        <p:nvSpPr>
          <p:cNvPr id="227" name=""/>
          <p:cNvSpPr/>
          <p:nvPr/>
        </p:nvSpPr>
        <p:spPr>
          <a:xfrm>
            <a:off x="4576680" y="766800"/>
            <a:ext cx="100080" cy="114120"/>
          </a:xfrm>
          <a:custGeom>
            <a:avLst/>
            <a:gdLst/>
            <a:ahLst/>
            <a:rect l="l" t="t" r="r" b="b"/>
            <a:pathLst>
              <a:path w="63" h="144">
                <a:moveTo>
                  <a:pt x="43" y="8"/>
                </a:moveTo>
                <a:lnTo>
                  <a:pt x="48" y="8"/>
                </a:lnTo>
                <a:lnTo>
                  <a:pt x="50" y="6"/>
                </a:lnTo>
                <a:lnTo>
                  <a:pt x="62" y="16"/>
                </a:lnTo>
                <a:lnTo>
                  <a:pt x="60" y="91"/>
                </a:lnTo>
                <a:lnTo>
                  <a:pt x="63" y="101"/>
                </a:lnTo>
                <a:lnTo>
                  <a:pt x="59" y="128"/>
                </a:lnTo>
                <a:lnTo>
                  <a:pt x="57" y="138"/>
                </a:lnTo>
                <a:lnTo>
                  <a:pt x="53" y="144"/>
                </a:lnTo>
                <a:lnTo>
                  <a:pt x="24" y="128"/>
                </a:lnTo>
                <a:lnTo>
                  <a:pt x="10" y="128"/>
                </a:lnTo>
                <a:lnTo>
                  <a:pt x="6" y="114"/>
                </a:lnTo>
                <a:lnTo>
                  <a:pt x="1" y="37"/>
                </a:lnTo>
                <a:lnTo>
                  <a:pt x="0" y="17"/>
                </a:lnTo>
                <a:lnTo>
                  <a:pt x="0" y="10"/>
                </a:lnTo>
                <a:lnTo>
                  <a:pt x="6" y="0"/>
                </a:lnTo>
                <a:lnTo>
                  <a:pt x="39" y="2"/>
                </a:lnTo>
                <a:lnTo>
                  <a:pt x="43" y="8"/>
                </a:lnTo>
                <a:close/>
              </a:path>
            </a:pathLst>
          </a:custGeom>
          <a:solidFill>
            <a:srgbClr val="2119e5"/>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28" name=""/>
          <p:cNvSpPr/>
          <p:nvPr/>
        </p:nvSpPr>
        <p:spPr>
          <a:xfrm>
            <a:off x="4519440" y="768240"/>
            <a:ext cx="55800" cy="106560"/>
          </a:xfrm>
          <a:custGeom>
            <a:avLst/>
            <a:gdLst/>
            <a:ahLst/>
            <a:rect l="l" t="t" r="r" b="b"/>
            <a:pathLst>
              <a:path w="35" h="134">
                <a:moveTo>
                  <a:pt x="35" y="134"/>
                </a:moveTo>
                <a:lnTo>
                  <a:pt x="22" y="134"/>
                </a:lnTo>
                <a:lnTo>
                  <a:pt x="17" y="130"/>
                </a:lnTo>
                <a:lnTo>
                  <a:pt x="13" y="75"/>
                </a:lnTo>
                <a:lnTo>
                  <a:pt x="5" y="25"/>
                </a:lnTo>
                <a:lnTo>
                  <a:pt x="0" y="0"/>
                </a:lnTo>
                <a:lnTo>
                  <a:pt x="13" y="37"/>
                </a:lnTo>
                <a:lnTo>
                  <a:pt x="35" y="134"/>
                </a:lnTo>
                <a:close/>
              </a:path>
            </a:pathLst>
          </a:custGeom>
          <a:solidFill>
            <a:srgbClr val="2119e5"/>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29" name=""/>
          <p:cNvSpPr/>
          <p:nvPr/>
        </p:nvSpPr>
        <p:spPr>
          <a:xfrm>
            <a:off x="4114800" y="762120"/>
            <a:ext cx="369720" cy="166680"/>
          </a:xfrm>
          <a:custGeom>
            <a:avLst/>
            <a:gdLst/>
            <a:ahLst/>
            <a:rect l="l" t="t" r="r" b="b"/>
            <a:pathLst>
              <a:path w="233" h="212">
                <a:moveTo>
                  <a:pt x="190" y="6"/>
                </a:moveTo>
                <a:lnTo>
                  <a:pt x="195" y="8"/>
                </a:lnTo>
                <a:lnTo>
                  <a:pt x="233" y="99"/>
                </a:lnTo>
                <a:lnTo>
                  <a:pt x="220" y="107"/>
                </a:lnTo>
                <a:lnTo>
                  <a:pt x="190" y="103"/>
                </a:lnTo>
                <a:lnTo>
                  <a:pt x="149" y="111"/>
                </a:lnTo>
                <a:lnTo>
                  <a:pt x="76" y="155"/>
                </a:lnTo>
                <a:lnTo>
                  <a:pt x="18" y="198"/>
                </a:lnTo>
                <a:lnTo>
                  <a:pt x="2" y="212"/>
                </a:lnTo>
                <a:lnTo>
                  <a:pt x="0" y="206"/>
                </a:lnTo>
                <a:lnTo>
                  <a:pt x="10" y="174"/>
                </a:lnTo>
                <a:lnTo>
                  <a:pt x="1" y="160"/>
                </a:lnTo>
                <a:lnTo>
                  <a:pt x="1" y="139"/>
                </a:lnTo>
                <a:lnTo>
                  <a:pt x="0" y="137"/>
                </a:lnTo>
                <a:lnTo>
                  <a:pt x="9" y="117"/>
                </a:lnTo>
                <a:lnTo>
                  <a:pt x="56" y="64"/>
                </a:lnTo>
                <a:lnTo>
                  <a:pt x="107" y="28"/>
                </a:lnTo>
                <a:lnTo>
                  <a:pt x="164" y="0"/>
                </a:lnTo>
                <a:lnTo>
                  <a:pt x="188" y="8"/>
                </a:lnTo>
                <a:lnTo>
                  <a:pt x="190" y="6"/>
                </a:lnTo>
                <a:close/>
              </a:path>
            </a:pathLst>
          </a:custGeom>
          <a:solidFill>
            <a:srgbClr val="2119e5"/>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30" name=""/>
          <p:cNvSpPr/>
          <p:nvPr/>
        </p:nvSpPr>
        <p:spPr>
          <a:xfrm>
            <a:off x="4154400" y="853920"/>
            <a:ext cx="212760" cy="74880"/>
          </a:xfrm>
          <a:custGeom>
            <a:avLst/>
            <a:gdLst/>
            <a:ahLst/>
            <a:rect l="l" t="t" r="r" b="b"/>
            <a:pathLst>
              <a:path w="134" h="93">
                <a:moveTo>
                  <a:pt x="134" y="4"/>
                </a:moveTo>
                <a:lnTo>
                  <a:pt x="134" y="8"/>
                </a:lnTo>
                <a:lnTo>
                  <a:pt x="89" y="30"/>
                </a:lnTo>
                <a:lnTo>
                  <a:pt x="12" y="83"/>
                </a:lnTo>
                <a:lnTo>
                  <a:pt x="4" y="93"/>
                </a:lnTo>
                <a:lnTo>
                  <a:pt x="1" y="91"/>
                </a:lnTo>
                <a:lnTo>
                  <a:pt x="0" y="91"/>
                </a:lnTo>
                <a:lnTo>
                  <a:pt x="0" y="83"/>
                </a:lnTo>
                <a:lnTo>
                  <a:pt x="59" y="36"/>
                </a:lnTo>
                <a:lnTo>
                  <a:pt x="120" y="0"/>
                </a:lnTo>
                <a:lnTo>
                  <a:pt x="133" y="0"/>
                </a:lnTo>
                <a:lnTo>
                  <a:pt x="134" y="4"/>
                </a:lnTo>
                <a:close/>
              </a:path>
            </a:pathLst>
          </a:custGeom>
          <a:solidFill>
            <a:srgbClr val="140f8c"/>
          </a:solidFill>
          <a:ln w="0">
            <a:noFill/>
          </a:ln>
        </p:spPr>
        <p:style>
          <a:lnRef idx="0"/>
          <a:fillRef idx="0"/>
          <a:effectRef idx="0"/>
          <a:fontRef idx="minor"/>
        </p:style>
        <p:txBody>
          <a:bodyPr lIns="90000" rIns="90000" tIns="28080" bIns="28080" anchor="t">
            <a:noAutofit/>
          </a:bodyPr>
          <a:p>
            <a:endParaRPr b="0" lang="en-US" sz="2400" spc="-1" strike="noStrike">
              <a:solidFill>
                <a:srgbClr val="ffff00"/>
              </a:solidFill>
              <a:latin typeface="Times New Roman"/>
            </a:endParaRPr>
          </a:p>
        </p:txBody>
      </p:sp>
      <p:sp>
        <p:nvSpPr>
          <p:cNvPr id="231" name=""/>
          <p:cNvSpPr/>
          <p:nvPr/>
        </p:nvSpPr>
        <p:spPr>
          <a:xfrm>
            <a:off x="4164120" y="882720"/>
            <a:ext cx="506160" cy="446040"/>
          </a:xfrm>
          <a:custGeom>
            <a:avLst/>
            <a:gdLst/>
            <a:ahLst/>
            <a:rect l="l" t="t" r="r" b="b"/>
            <a:pathLst>
              <a:path w="319" h="561">
                <a:moveTo>
                  <a:pt x="291" y="2"/>
                </a:moveTo>
                <a:lnTo>
                  <a:pt x="312" y="12"/>
                </a:lnTo>
                <a:lnTo>
                  <a:pt x="312" y="38"/>
                </a:lnTo>
                <a:lnTo>
                  <a:pt x="307" y="51"/>
                </a:lnTo>
                <a:lnTo>
                  <a:pt x="307" y="115"/>
                </a:lnTo>
                <a:lnTo>
                  <a:pt x="310" y="152"/>
                </a:lnTo>
                <a:lnTo>
                  <a:pt x="317" y="202"/>
                </a:lnTo>
                <a:lnTo>
                  <a:pt x="319" y="265"/>
                </a:lnTo>
                <a:lnTo>
                  <a:pt x="293" y="443"/>
                </a:lnTo>
                <a:lnTo>
                  <a:pt x="284" y="526"/>
                </a:lnTo>
                <a:lnTo>
                  <a:pt x="266" y="544"/>
                </a:lnTo>
                <a:lnTo>
                  <a:pt x="250" y="550"/>
                </a:lnTo>
                <a:lnTo>
                  <a:pt x="229" y="561"/>
                </a:lnTo>
                <a:lnTo>
                  <a:pt x="201" y="561"/>
                </a:lnTo>
                <a:lnTo>
                  <a:pt x="147" y="506"/>
                </a:lnTo>
                <a:lnTo>
                  <a:pt x="110" y="459"/>
                </a:lnTo>
                <a:lnTo>
                  <a:pt x="72" y="419"/>
                </a:lnTo>
                <a:lnTo>
                  <a:pt x="52" y="389"/>
                </a:lnTo>
                <a:lnTo>
                  <a:pt x="47" y="382"/>
                </a:lnTo>
                <a:lnTo>
                  <a:pt x="42" y="299"/>
                </a:lnTo>
                <a:lnTo>
                  <a:pt x="36" y="231"/>
                </a:lnTo>
                <a:lnTo>
                  <a:pt x="32" y="227"/>
                </a:lnTo>
                <a:lnTo>
                  <a:pt x="30" y="227"/>
                </a:lnTo>
                <a:lnTo>
                  <a:pt x="24" y="235"/>
                </a:lnTo>
                <a:lnTo>
                  <a:pt x="28" y="249"/>
                </a:lnTo>
                <a:lnTo>
                  <a:pt x="28" y="255"/>
                </a:lnTo>
                <a:lnTo>
                  <a:pt x="27" y="257"/>
                </a:lnTo>
                <a:lnTo>
                  <a:pt x="22" y="247"/>
                </a:lnTo>
                <a:lnTo>
                  <a:pt x="22" y="235"/>
                </a:lnTo>
                <a:lnTo>
                  <a:pt x="20" y="229"/>
                </a:lnTo>
                <a:lnTo>
                  <a:pt x="17" y="190"/>
                </a:lnTo>
                <a:lnTo>
                  <a:pt x="15" y="184"/>
                </a:lnTo>
                <a:lnTo>
                  <a:pt x="13" y="184"/>
                </a:lnTo>
                <a:lnTo>
                  <a:pt x="10" y="190"/>
                </a:lnTo>
                <a:lnTo>
                  <a:pt x="10" y="249"/>
                </a:lnTo>
                <a:lnTo>
                  <a:pt x="21" y="273"/>
                </a:lnTo>
                <a:lnTo>
                  <a:pt x="30" y="275"/>
                </a:lnTo>
                <a:lnTo>
                  <a:pt x="32" y="291"/>
                </a:lnTo>
                <a:lnTo>
                  <a:pt x="32" y="295"/>
                </a:lnTo>
                <a:lnTo>
                  <a:pt x="16" y="287"/>
                </a:lnTo>
                <a:lnTo>
                  <a:pt x="8" y="249"/>
                </a:lnTo>
                <a:lnTo>
                  <a:pt x="3" y="184"/>
                </a:lnTo>
                <a:lnTo>
                  <a:pt x="1" y="158"/>
                </a:lnTo>
                <a:lnTo>
                  <a:pt x="0" y="154"/>
                </a:lnTo>
                <a:lnTo>
                  <a:pt x="0" y="144"/>
                </a:lnTo>
                <a:lnTo>
                  <a:pt x="1" y="144"/>
                </a:lnTo>
                <a:lnTo>
                  <a:pt x="6" y="136"/>
                </a:lnTo>
                <a:lnTo>
                  <a:pt x="6" y="138"/>
                </a:lnTo>
                <a:lnTo>
                  <a:pt x="9" y="144"/>
                </a:lnTo>
                <a:lnTo>
                  <a:pt x="10" y="144"/>
                </a:lnTo>
                <a:lnTo>
                  <a:pt x="12" y="142"/>
                </a:lnTo>
                <a:lnTo>
                  <a:pt x="23" y="178"/>
                </a:lnTo>
                <a:lnTo>
                  <a:pt x="30" y="184"/>
                </a:lnTo>
                <a:lnTo>
                  <a:pt x="37" y="184"/>
                </a:lnTo>
                <a:lnTo>
                  <a:pt x="42" y="174"/>
                </a:lnTo>
                <a:lnTo>
                  <a:pt x="38" y="134"/>
                </a:lnTo>
                <a:lnTo>
                  <a:pt x="32" y="115"/>
                </a:lnTo>
                <a:lnTo>
                  <a:pt x="33" y="75"/>
                </a:lnTo>
                <a:lnTo>
                  <a:pt x="94" y="34"/>
                </a:lnTo>
                <a:lnTo>
                  <a:pt x="136" y="10"/>
                </a:lnTo>
                <a:lnTo>
                  <a:pt x="164" y="2"/>
                </a:lnTo>
                <a:lnTo>
                  <a:pt x="216" y="8"/>
                </a:lnTo>
                <a:lnTo>
                  <a:pt x="218" y="2"/>
                </a:lnTo>
                <a:lnTo>
                  <a:pt x="225" y="10"/>
                </a:lnTo>
                <a:lnTo>
                  <a:pt x="237" y="40"/>
                </a:lnTo>
                <a:lnTo>
                  <a:pt x="241" y="45"/>
                </a:lnTo>
                <a:lnTo>
                  <a:pt x="245" y="38"/>
                </a:lnTo>
                <a:lnTo>
                  <a:pt x="245" y="6"/>
                </a:lnTo>
                <a:lnTo>
                  <a:pt x="255" y="6"/>
                </a:lnTo>
                <a:lnTo>
                  <a:pt x="261" y="0"/>
                </a:lnTo>
                <a:lnTo>
                  <a:pt x="267" y="2"/>
                </a:lnTo>
                <a:lnTo>
                  <a:pt x="291" y="2"/>
                </a:lnTo>
                <a:close/>
              </a:path>
            </a:pathLst>
          </a:custGeom>
          <a:solidFill>
            <a:srgbClr val="e58d35"/>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32" name=""/>
          <p:cNvSpPr/>
          <p:nvPr/>
        </p:nvSpPr>
        <p:spPr>
          <a:xfrm>
            <a:off x="4570560" y="906480"/>
            <a:ext cx="54000" cy="19080"/>
          </a:xfrm>
          <a:custGeom>
            <a:avLst/>
            <a:gdLst/>
            <a:ahLst/>
            <a:rect l="l" t="t" r="r" b="b"/>
            <a:pathLst>
              <a:path w="34" h="23">
                <a:moveTo>
                  <a:pt x="32" y="8"/>
                </a:moveTo>
                <a:lnTo>
                  <a:pt x="32" y="17"/>
                </a:lnTo>
                <a:lnTo>
                  <a:pt x="34" y="21"/>
                </a:lnTo>
                <a:lnTo>
                  <a:pt x="21" y="23"/>
                </a:lnTo>
                <a:lnTo>
                  <a:pt x="21" y="17"/>
                </a:lnTo>
                <a:lnTo>
                  <a:pt x="4" y="17"/>
                </a:lnTo>
                <a:lnTo>
                  <a:pt x="0" y="10"/>
                </a:lnTo>
                <a:lnTo>
                  <a:pt x="5" y="6"/>
                </a:lnTo>
                <a:lnTo>
                  <a:pt x="20" y="0"/>
                </a:lnTo>
                <a:lnTo>
                  <a:pt x="30" y="6"/>
                </a:lnTo>
                <a:lnTo>
                  <a:pt x="32" y="8"/>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00"/>
              </a:solidFill>
              <a:latin typeface="Times New Roman"/>
            </a:endParaRPr>
          </a:p>
        </p:txBody>
      </p:sp>
      <p:sp>
        <p:nvSpPr>
          <p:cNvPr id="233" name=""/>
          <p:cNvSpPr/>
          <p:nvPr/>
        </p:nvSpPr>
        <p:spPr>
          <a:xfrm>
            <a:off x="4502160" y="928800"/>
            <a:ext cx="25560" cy="126720"/>
          </a:xfrm>
          <a:custGeom>
            <a:avLst/>
            <a:gdLst/>
            <a:ahLst/>
            <a:rect l="l" t="t" r="r" b="b"/>
            <a:pathLst>
              <a:path w="16" h="160">
                <a:moveTo>
                  <a:pt x="6" y="38"/>
                </a:moveTo>
                <a:lnTo>
                  <a:pt x="9" y="97"/>
                </a:lnTo>
                <a:lnTo>
                  <a:pt x="16" y="155"/>
                </a:lnTo>
                <a:lnTo>
                  <a:pt x="16" y="158"/>
                </a:lnTo>
                <a:lnTo>
                  <a:pt x="15" y="160"/>
                </a:lnTo>
                <a:lnTo>
                  <a:pt x="11" y="160"/>
                </a:lnTo>
                <a:lnTo>
                  <a:pt x="9" y="153"/>
                </a:lnTo>
                <a:lnTo>
                  <a:pt x="0" y="50"/>
                </a:lnTo>
                <a:lnTo>
                  <a:pt x="4" y="12"/>
                </a:lnTo>
                <a:lnTo>
                  <a:pt x="9" y="0"/>
                </a:lnTo>
                <a:lnTo>
                  <a:pt x="11" y="0"/>
                </a:lnTo>
                <a:lnTo>
                  <a:pt x="6"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34" name=""/>
          <p:cNvSpPr/>
          <p:nvPr/>
        </p:nvSpPr>
        <p:spPr>
          <a:xfrm>
            <a:off x="4319640" y="934920"/>
            <a:ext cx="55440" cy="23760"/>
          </a:xfrm>
          <a:custGeom>
            <a:avLst/>
            <a:gdLst/>
            <a:ahLst/>
            <a:rect l="l" t="t" r="r" b="b"/>
            <a:pathLst>
              <a:path w="35" h="32">
                <a:moveTo>
                  <a:pt x="35" y="16"/>
                </a:moveTo>
                <a:lnTo>
                  <a:pt x="22" y="16"/>
                </a:lnTo>
                <a:lnTo>
                  <a:pt x="7" y="32"/>
                </a:lnTo>
                <a:lnTo>
                  <a:pt x="2" y="32"/>
                </a:lnTo>
                <a:lnTo>
                  <a:pt x="0" y="28"/>
                </a:lnTo>
                <a:lnTo>
                  <a:pt x="2" y="16"/>
                </a:lnTo>
                <a:lnTo>
                  <a:pt x="18" y="8"/>
                </a:lnTo>
                <a:lnTo>
                  <a:pt x="21" y="4"/>
                </a:lnTo>
                <a:lnTo>
                  <a:pt x="29" y="4"/>
                </a:lnTo>
                <a:lnTo>
                  <a:pt x="30" y="0"/>
                </a:lnTo>
                <a:lnTo>
                  <a:pt x="35" y="4"/>
                </a:lnTo>
                <a:lnTo>
                  <a:pt x="35" y="16"/>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00"/>
              </a:solidFill>
              <a:latin typeface="Times New Roman"/>
            </a:endParaRPr>
          </a:p>
        </p:txBody>
      </p:sp>
      <p:sp>
        <p:nvSpPr>
          <p:cNvPr id="235" name=""/>
          <p:cNvSpPr/>
          <p:nvPr/>
        </p:nvSpPr>
        <p:spPr>
          <a:xfrm>
            <a:off x="4554360" y="947880"/>
            <a:ext cx="84240" cy="33120"/>
          </a:xfrm>
          <a:custGeom>
            <a:avLst/>
            <a:gdLst/>
            <a:ahLst/>
            <a:rect l="l" t="t" r="r" b="b"/>
            <a:pathLst>
              <a:path w="53" h="44">
                <a:moveTo>
                  <a:pt x="52" y="20"/>
                </a:moveTo>
                <a:lnTo>
                  <a:pt x="53" y="24"/>
                </a:lnTo>
                <a:lnTo>
                  <a:pt x="38" y="44"/>
                </a:lnTo>
                <a:lnTo>
                  <a:pt x="16" y="44"/>
                </a:lnTo>
                <a:lnTo>
                  <a:pt x="14" y="36"/>
                </a:lnTo>
                <a:lnTo>
                  <a:pt x="0" y="34"/>
                </a:lnTo>
                <a:lnTo>
                  <a:pt x="0" y="30"/>
                </a:lnTo>
                <a:lnTo>
                  <a:pt x="5" y="26"/>
                </a:lnTo>
                <a:lnTo>
                  <a:pt x="6" y="12"/>
                </a:lnTo>
                <a:lnTo>
                  <a:pt x="32" y="0"/>
                </a:lnTo>
                <a:lnTo>
                  <a:pt x="52" y="12"/>
                </a:lnTo>
                <a:lnTo>
                  <a:pt x="52" y="2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00"/>
              </a:solidFill>
              <a:latin typeface="Times New Roman"/>
            </a:endParaRPr>
          </a:p>
        </p:txBody>
      </p:sp>
      <p:sp>
        <p:nvSpPr>
          <p:cNvPr id="236" name=""/>
          <p:cNvSpPr/>
          <p:nvPr/>
        </p:nvSpPr>
        <p:spPr>
          <a:xfrm>
            <a:off x="4178160" y="950760"/>
            <a:ext cx="34920" cy="60480"/>
          </a:xfrm>
          <a:custGeom>
            <a:avLst/>
            <a:gdLst/>
            <a:ahLst/>
            <a:rect l="l" t="t" r="r" b="b"/>
            <a:pathLst>
              <a:path w="22" h="75">
                <a:moveTo>
                  <a:pt x="18" y="36"/>
                </a:moveTo>
                <a:lnTo>
                  <a:pt x="22" y="61"/>
                </a:lnTo>
                <a:lnTo>
                  <a:pt x="22" y="75"/>
                </a:lnTo>
                <a:lnTo>
                  <a:pt x="0" y="10"/>
                </a:lnTo>
                <a:lnTo>
                  <a:pt x="12" y="0"/>
                </a:lnTo>
                <a:lnTo>
                  <a:pt x="14" y="0"/>
                </a:lnTo>
                <a:lnTo>
                  <a:pt x="18" y="36"/>
                </a:lnTo>
                <a:close/>
              </a:path>
            </a:pathLst>
          </a:custGeom>
          <a:solidFill>
            <a:srgbClr val="ffbc70"/>
          </a:solidFill>
          <a:ln w="0">
            <a:noFill/>
          </a:ln>
        </p:spPr>
        <p:style>
          <a:lnRef idx="0"/>
          <a:fillRef idx="0"/>
          <a:effectRef idx="0"/>
          <a:fontRef idx="minor"/>
        </p:style>
        <p:txBody>
          <a:bodyPr lIns="90000" rIns="90000" tIns="13680" bIns="13680" anchor="t">
            <a:noAutofit/>
          </a:bodyPr>
          <a:p>
            <a:endParaRPr b="0" lang="en-US" sz="2400" spc="-1" strike="noStrike">
              <a:solidFill>
                <a:srgbClr val="ffff00"/>
              </a:solidFill>
              <a:latin typeface="Times New Roman"/>
            </a:endParaRPr>
          </a:p>
        </p:txBody>
      </p:sp>
      <p:sp>
        <p:nvSpPr>
          <p:cNvPr id="237" name=""/>
          <p:cNvSpPr/>
          <p:nvPr/>
        </p:nvSpPr>
        <p:spPr>
          <a:xfrm>
            <a:off x="4594320" y="957240"/>
            <a:ext cx="23760" cy="1440"/>
          </a:xfrm>
          <a:custGeom>
            <a:avLst/>
            <a:gdLst/>
            <a:ahLst/>
            <a:rect l="l" t="t" r="r" b="b"/>
            <a:pathLst>
              <a:path w="15" h="0">
                <a:moveTo>
                  <a:pt x="0" y="0"/>
                </a:moveTo>
                <a:lnTo>
                  <a:pt x="15" y="0"/>
                </a:lnTo>
                <a:lnTo>
                  <a:pt x="0" y="0"/>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ffff00"/>
              </a:solidFill>
              <a:latin typeface="Times New Roman"/>
            </a:endParaRPr>
          </a:p>
        </p:txBody>
      </p:sp>
      <p:sp>
        <p:nvSpPr>
          <p:cNvPr id="238" name=""/>
          <p:cNvSpPr/>
          <p:nvPr/>
        </p:nvSpPr>
        <p:spPr>
          <a:xfrm>
            <a:off x="4143240" y="961920"/>
            <a:ext cx="22320" cy="41400"/>
          </a:xfrm>
          <a:custGeom>
            <a:avLst/>
            <a:gdLst/>
            <a:ahLst/>
            <a:rect l="l" t="t" r="r" b="b"/>
            <a:pathLst>
              <a:path w="14" h="51">
                <a:moveTo>
                  <a:pt x="5" y="47"/>
                </a:moveTo>
                <a:lnTo>
                  <a:pt x="5" y="51"/>
                </a:lnTo>
                <a:lnTo>
                  <a:pt x="0" y="33"/>
                </a:lnTo>
                <a:lnTo>
                  <a:pt x="7" y="10"/>
                </a:lnTo>
                <a:lnTo>
                  <a:pt x="12" y="0"/>
                </a:lnTo>
                <a:lnTo>
                  <a:pt x="14" y="24"/>
                </a:lnTo>
                <a:lnTo>
                  <a:pt x="5" y="47"/>
                </a:lnTo>
                <a:close/>
              </a:path>
            </a:pathLst>
          </a:custGeom>
          <a:solidFill>
            <a:srgbClr val="ffbc70"/>
          </a:solidFill>
          <a:ln w="0">
            <a:noFill/>
          </a:ln>
        </p:spPr>
        <p:style>
          <a:lnRef idx="0"/>
          <a:fillRef idx="0"/>
          <a:effectRef idx="0"/>
          <a:fontRef idx="minor"/>
        </p:style>
        <p:txBody>
          <a:bodyPr lIns="90000" rIns="90000" tIns="-5400" bIns="-5400" anchor="t">
            <a:noAutofit/>
          </a:bodyPr>
          <a:p>
            <a:endParaRPr b="0" lang="en-US" sz="2400" spc="-1" strike="noStrike">
              <a:solidFill>
                <a:srgbClr val="ffff00"/>
              </a:solidFill>
              <a:latin typeface="Times New Roman"/>
            </a:endParaRPr>
          </a:p>
        </p:txBody>
      </p:sp>
      <p:sp>
        <p:nvSpPr>
          <p:cNvPr id="239" name=""/>
          <p:cNvSpPr/>
          <p:nvPr/>
        </p:nvSpPr>
        <p:spPr>
          <a:xfrm>
            <a:off x="4603680" y="971640"/>
            <a:ext cx="14400" cy="1440"/>
          </a:xfrm>
          <a:custGeom>
            <a:avLst/>
            <a:gdLst/>
            <a:ahLst/>
            <a:rect l="l" t="t" r="r" b="b"/>
            <a:pathLst>
              <a:path w="9" h="0">
                <a:moveTo>
                  <a:pt x="0" y="0"/>
                </a:moveTo>
                <a:lnTo>
                  <a:pt x="9" y="0"/>
                </a:lnTo>
                <a:lnTo>
                  <a:pt x="0" y="0"/>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ffff00"/>
              </a:solidFill>
              <a:latin typeface="Times New Roman"/>
            </a:endParaRPr>
          </a:p>
        </p:txBody>
      </p:sp>
      <p:sp>
        <p:nvSpPr>
          <p:cNvPr id="240" name=""/>
          <p:cNvSpPr/>
          <p:nvPr/>
        </p:nvSpPr>
        <p:spPr>
          <a:xfrm>
            <a:off x="4584600" y="973080"/>
            <a:ext cx="9720" cy="1800"/>
          </a:xfrm>
          <a:custGeom>
            <a:avLst/>
            <a:gdLst/>
            <a:ahLst/>
            <a:rect l="l" t="t" r="r" b="b"/>
            <a:pathLst>
              <a:path w="6" h="0">
                <a:moveTo>
                  <a:pt x="0" y="0"/>
                </a:moveTo>
                <a:lnTo>
                  <a:pt x="6" y="0"/>
                </a:lnTo>
                <a:lnTo>
                  <a:pt x="0" y="0"/>
                </a:lnTo>
                <a:close/>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ffff00"/>
              </a:solidFill>
              <a:latin typeface="Times New Roman"/>
            </a:endParaRPr>
          </a:p>
        </p:txBody>
      </p:sp>
      <p:sp>
        <p:nvSpPr>
          <p:cNvPr id="241" name=""/>
          <p:cNvSpPr/>
          <p:nvPr/>
        </p:nvSpPr>
        <p:spPr>
          <a:xfrm>
            <a:off x="4303800" y="974880"/>
            <a:ext cx="109440" cy="36360"/>
          </a:xfrm>
          <a:custGeom>
            <a:avLst/>
            <a:gdLst/>
            <a:ahLst/>
            <a:rect l="l" t="t" r="r" b="b"/>
            <a:pathLst>
              <a:path w="69" h="45">
                <a:moveTo>
                  <a:pt x="69" y="8"/>
                </a:moveTo>
                <a:lnTo>
                  <a:pt x="69" y="19"/>
                </a:lnTo>
                <a:lnTo>
                  <a:pt x="61" y="33"/>
                </a:lnTo>
                <a:lnTo>
                  <a:pt x="56" y="31"/>
                </a:lnTo>
                <a:lnTo>
                  <a:pt x="39" y="37"/>
                </a:lnTo>
                <a:lnTo>
                  <a:pt x="33" y="43"/>
                </a:lnTo>
                <a:lnTo>
                  <a:pt x="17" y="37"/>
                </a:lnTo>
                <a:lnTo>
                  <a:pt x="2" y="45"/>
                </a:lnTo>
                <a:lnTo>
                  <a:pt x="1" y="45"/>
                </a:lnTo>
                <a:lnTo>
                  <a:pt x="0" y="43"/>
                </a:lnTo>
                <a:lnTo>
                  <a:pt x="2" y="25"/>
                </a:lnTo>
                <a:lnTo>
                  <a:pt x="8" y="17"/>
                </a:lnTo>
                <a:lnTo>
                  <a:pt x="23" y="17"/>
                </a:lnTo>
                <a:lnTo>
                  <a:pt x="45" y="2"/>
                </a:lnTo>
                <a:lnTo>
                  <a:pt x="56" y="0"/>
                </a:lnTo>
                <a:lnTo>
                  <a:pt x="64" y="0"/>
                </a:lnTo>
                <a:lnTo>
                  <a:pt x="69" y="8"/>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00"/>
              </a:solidFill>
              <a:latin typeface="Times New Roman"/>
            </a:endParaRPr>
          </a:p>
        </p:txBody>
      </p:sp>
      <p:sp>
        <p:nvSpPr>
          <p:cNvPr id="242" name=""/>
          <p:cNvSpPr/>
          <p:nvPr/>
        </p:nvSpPr>
        <p:spPr>
          <a:xfrm>
            <a:off x="4354560" y="996840"/>
            <a:ext cx="6480" cy="3240"/>
          </a:xfrm>
          <a:custGeom>
            <a:avLst/>
            <a:gdLst/>
            <a:ahLst/>
            <a:rect l="l" t="t" r="r" b="b"/>
            <a:pathLst>
              <a:path w="4" h="4">
                <a:moveTo>
                  <a:pt x="0" y="4"/>
                </a:moveTo>
                <a:lnTo>
                  <a:pt x="1" y="0"/>
                </a:lnTo>
                <a:lnTo>
                  <a:pt x="4" y="0"/>
                </a:lnTo>
                <a:lnTo>
                  <a:pt x="0" y="4"/>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ffff00"/>
              </a:solidFill>
              <a:latin typeface="Times New Roman"/>
            </a:endParaRPr>
          </a:p>
        </p:txBody>
      </p:sp>
      <p:sp>
        <p:nvSpPr>
          <p:cNvPr id="243" name=""/>
          <p:cNvSpPr/>
          <p:nvPr/>
        </p:nvSpPr>
        <p:spPr>
          <a:xfrm>
            <a:off x="4533840" y="1079640"/>
            <a:ext cx="9720" cy="9360"/>
          </a:xfrm>
          <a:custGeom>
            <a:avLst/>
            <a:gdLst/>
            <a:ahLst/>
            <a:rect l="l" t="t" r="r" b="b"/>
            <a:pathLst>
              <a:path w="6" h="14">
                <a:moveTo>
                  <a:pt x="6" y="6"/>
                </a:moveTo>
                <a:lnTo>
                  <a:pt x="6" y="10"/>
                </a:lnTo>
                <a:lnTo>
                  <a:pt x="4" y="14"/>
                </a:lnTo>
                <a:lnTo>
                  <a:pt x="0" y="6"/>
                </a:lnTo>
                <a:lnTo>
                  <a:pt x="1" y="0"/>
                </a:lnTo>
                <a:lnTo>
                  <a:pt x="4" y="0"/>
                </a:lnTo>
                <a:lnTo>
                  <a:pt x="6" y="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00"/>
              </a:solidFill>
              <a:latin typeface="Times New Roman"/>
            </a:endParaRPr>
          </a:p>
        </p:txBody>
      </p:sp>
      <p:sp>
        <p:nvSpPr>
          <p:cNvPr id="244" name=""/>
          <p:cNvSpPr/>
          <p:nvPr/>
        </p:nvSpPr>
        <p:spPr>
          <a:xfrm>
            <a:off x="4478400" y="1084320"/>
            <a:ext cx="20520" cy="12600"/>
          </a:xfrm>
          <a:custGeom>
            <a:avLst/>
            <a:gdLst/>
            <a:ahLst/>
            <a:rect l="l" t="t" r="r" b="b"/>
            <a:pathLst>
              <a:path w="13" h="18">
                <a:moveTo>
                  <a:pt x="13" y="8"/>
                </a:moveTo>
                <a:lnTo>
                  <a:pt x="2" y="18"/>
                </a:lnTo>
                <a:lnTo>
                  <a:pt x="0" y="14"/>
                </a:lnTo>
                <a:lnTo>
                  <a:pt x="4" y="0"/>
                </a:lnTo>
                <a:lnTo>
                  <a:pt x="13" y="2"/>
                </a:lnTo>
                <a:lnTo>
                  <a:pt x="13" y="8"/>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00"/>
              </a:solidFill>
              <a:latin typeface="Times New Roman"/>
            </a:endParaRPr>
          </a:p>
        </p:txBody>
      </p:sp>
      <p:sp>
        <p:nvSpPr>
          <p:cNvPr id="245" name=""/>
          <p:cNvSpPr/>
          <p:nvPr/>
        </p:nvSpPr>
        <p:spPr>
          <a:xfrm>
            <a:off x="4424400" y="1135080"/>
            <a:ext cx="176040" cy="90360"/>
          </a:xfrm>
          <a:custGeom>
            <a:avLst/>
            <a:gdLst/>
            <a:ahLst/>
            <a:rect l="l" t="t" r="r" b="b"/>
            <a:pathLst>
              <a:path w="111" h="115">
                <a:moveTo>
                  <a:pt x="111" y="16"/>
                </a:moveTo>
                <a:lnTo>
                  <a:pt x="107" y="20"/>
                </a:lnTo>
                <a:lnTo>
                  <a:pt x="104" y="71"/>
                </a:lnTo>
                <a:lnTo>
                  <a:pt x="96" y="97"/>
                </a:lnTo>
                <a:lnTo>
                  <a:pt x="54" y="115"/>
                </a:lnTo>
                <a:lnTo>
                  <a:pt x="43" y="115"/>
                </a:lnTo>
                <a:lnTo>
                  <a:pt x="32" y="99"/>
                </a:lnTo>
                <a:lnTo>
                  <a:pt x="6" y="54"/>
                </a:lnTo>
                <a:lnTo>
                  <a:pt x="6" y="48"/>
                </a:lnTo>
                <a:lnTo>
                  <a:pt x="0" y="44"/>
                </a:lnTo>
                <a:lnTo>
                  <a:pt x="0" y="24"/>
                </a:lnTo>
                <a:lnTo>
                  <a:pt x="1" y="20"/>
                </a:lnTo>
                <a:lnTo>
                  <a:pt x="15" y="28"/>
                </a:lnTo>
                <a:lnTo>
                  <a:pt x="27" y="32"/>
                </a:lnTo>
                <a:lnTo>
                  <a:pt x="29" y="26"/>
                </a:lnTo>
                <a:lnTo>
                  <a:pt x="36" y="32"/>
                </a:lnTo>
                <a:lnTo>
                  <a:pt x="87" y="18"/>
                </a:lnTo>
                <a:lnTo>
                  <a:pt x="95" y="8"/>
                </a:lnTo>
                <a:lnTo>
                  <a:pt x="104" y="4"/>
                </a:lnTo>
                <a:lnTo>
                  <a:pt x="106" y="0"/>
                </a:lnTo>
                <a:lnTo>
                  <a:pt x="111" y="0"/>
                </a:lnTo>
                <a:lnTo>
                  <a:pt x="111" y="16"/>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00"/>
              </a:solidFill>
              <a:latin typeface="Times New Roman"/>
            </a:endParaRPr>
          </a:p>
        </p:txBody>
      </p:sp>
      <p:sp>
        <p:nvSpPr>
          <p:cNvPr id="246" name=""/>
          <p:cNvSpPr/>
          <p:nvPr/>
        </p:nvSpPr>
        <p:spPr>
          <a:xfrm>
            <a:off x="4446720" y="1154160"/>
            <a:ext cx="131760" cy="39600"/>
          </a:xfrm>
          <a:custGeom>
            <a:avLst/>
            <a:gdLst/>
            <a:ahLst/>
            <a:rect l="l" t="t" r="r" b="b"/>
            <a:pathLst>
              <a:path w="83" h="49">
                <a:moveTo>
                  <a:pt x="83" y="14"/>
                </a:moveTo>
                <a:lnTo>
                  <a:pt x="78" y="38"/>
                </a:lnTo>
                <a:lnTo>
                  <a:pt x="77" y="42"/>
                </a:lnTo>
                <a:lnTo>
                  <a:pt x="68" y="49"/>
                </a:lnTo>
                <a:lnTo>
                  <a:pt x="32" y="47"/>
                </a:lnTo>
                <a:lnTo>
                  <a:pt x="6" y="36"/>
                </a:lnTo>
                <a:lnTo>
                  <a:pt x="1" y="22"/>
                </a:lnTo>
                <a:lnTo>
                  <a:pt x="0" y="20"/>
                </a:lnTo>
                <a:lnTo>
                  <a:pt x="72" y="8"/>
                </a:lnTo>
                <a:lnTo>
                  <a:pt x="82" y="0"/>
                </a:lnTo>
                <a:lnTo>
                  <a:pt x="83" y="0"/>
                </a:lnTo>
                <a:lnTo>
                  <a:pt x="83" y="14"/>
                </a:lnTo>
                <a:close/>
              </a:path>
            </a:pathLst>
          </a:custGeom>
          <a:solidFill>
            <a:srgbClr val="ffffff"/>
          </a:solidFill>
          <a:ln w="0">
            <a:noFill/>
          </a:ln>
        </p:spPr>
        <p:style>
          <a:lnRef idx="0"/>
          <a:fillRef idx="0"/>
          <a:effectRef idx="0"/>
          <a:fontRef idx="minor"/>
        </p:style>
        <p:txBody>
          <a:bodyPr lIns="90000" rIns="90000" tIns="-7200" bIns="-7200" anchor="t">
            <a:noAutofit/>
          </a:bodyPr>
          <a:p>
            <a:endParaRPr b="0" lang="en-US" sz="2400" spc="-1" strike="noStrike">
              <a:solidFill>
                <a:srgbClr val="ffff00"/>
              </a:solidFill>
              <a:latin typeface="Times New Roman"/>
            </a:endParaRPr>
          </a:p>
        </p:txBody>
      </p:sp>
      <p:sp>
        <p:nvSpPr>
          <p:cNvPr id="247" name=""/>
          <p:cNvSpPr/>
          <p:nvPr/>
        </p:nvSpPr>
        <p:spPr>
          <a:xfrm>
            <a:off x="4484520" y="1201680"/>
            <a:ext cx="69840" cy="12600"/>
          </a:xfrm>
          <a:custGeom>
            <a:avLst/>
            <a:gdLst/>
            <a:ahLst/>
            <a:rect l="l" t="t" r="r" b="b"/>
            <a:pathLst>
              <a:path w="44" h="16">
                <a:moveTo>
                  <a:pt x="27" y="4"/>
                </a:moveTo>
                <a:lnTo>
                  <a:pt x="30" y="10"/>
                </a:lnTo>
                <a:lnTo>
                  <a:pt x="37" y="0"/>
                </a:lnTo>
                <a:lnTo>
                  <a:pt x="39" y="6"/>
                </a:lnTo>
                <a:lnTo>
                  <a:pt x="44" y="6"/>
                </a:lnTo>
                <a:lnTo>
                  <a:pt x="12" y="16"/>
                </a:lnTo>
                <a:lnTo>
                  <a:pt x="6" y="14"/>
                </a:lnTo>
                <a:lnTo>
                  <a:pt x="0" y="0"/>
                </a:lnTo>
                <a:lnTo>
                  <a:pt x="17" y="6"/>
                </a:lnTo>
                <a:lnTo>
                  <a:pt x="27" y="4"/>
                </a:lnTo>
                <a:close/>
              </a:path>
            </a:pathLst>
          </a:custGeom>
          <a:solidFill>
            <a:srgbClr val="f9adad"/>
          </a:solidFill>
          <a:ln w="0">
            <a:noFill/>
          </a:ln>
        </p:spPr>
        <p:style>
          <a:lnRef idx="0"/>
          <a:fillRef idx="0"/>
          <a:effectRef idx="0"/>
          <a:fontRef idx="minor"/>
        </p:style>
        <p:txBody>
          <a:bodyPr lIns="90000" rIns="90000" tIns="-34200" bIns="-34200" anchor="t">
            <a:noAutofit/>
          </a:bodyPr>
          <a:p>
            <a:endParaRPr b="0" lang="en-US" sz="2400" spc="-1" strike="noStrike">
              <a:solidFill>
                <a:srgbClr val="ffff00"/>
              </a:solidFill>
              <a:latin typeface="Times New Roman"/>
            </a:endParaRPr>
          </a:p>
        </p:txBody>
      </p:sp>
      <p:sp>
        <p:nvSpPr>
          <p:cNvPr id="248" name=""/>
          <p:cNvSpPr/>
          <p:nvPr/>
        </p:nvSpPr>
        <p:spPr>
          <a:xfrm>
            <a:off x="4268880" y="1228680"/>
            <a:ext cx="331560" cy="574560"/>
          </a:xfrm>
          <a:custGeom>
            <a:avLst/>
            <a:gdLst/>
            <a:ahLst/>
            <a:rect l="l" t="t" r="r" b="b"/>
            <a:pathLst>
              <a:path w="209" h="723">
                <a:moveTo>
                  <a:pt x="96" y="107"/>
                </a:moveTo>
                <a:lnTo>
                  <a:pt x="132" y="144"/>
                </a:lnTo>
                <a:lnTo>
                  <a:pt x="151" y="144"/>
                </a:lnTo>
                <a:lnTo>
                  <a:pt x="171" y="132"/>
                </a:lnTo>
                <a:lnTo>
                  <a:pt x="188" y="122"/>
                </a:lnTo>
                <a:lnTo>
                  <a:pt x="200" y="119"/>
                </a:lnTo>
                <a:lnTo>
                  <a:pt x="205" y="182"/>
                </a:lnTo>
                <a:lnTo>
                  <a:pt x="207" y="217"/>
                </a:lnTo>
                <a:lnTo>
                  <a:pt x="209" y="340"/>
                </a:lnTo>
                <a:lnTo>
                  <a:pt x="209" y="498"/>
                </a:lnTo>
                <a:lnTo>
                  <a:pt x="205" y="583"/>
                </a:lnTo>
                <a:lnTo>
                  <a:pt x="201" y="621"/>
                </a:lnTo>
                <a:lnTo>
                  <a:pt x="195" y="700"/>
                </a:lnTo>
                <a:lnTo>
                  <a:pt x="193" y="706"/>
                </a:lnTo>
                <a:lnTo>
                  <a:pt x="195" y="721"/>
                </a:lnTo>
                <a:lnTo>
                  <a:pt x="189" y="723"/>
                </a:lnTo>
                <a:lnTo>
                  <a:pt x="188" y="723"/>
                </a:lnTo>
                <a:lnTo>
                  <a:pt x="186" y="710"/>
                </a:lnTo>
                <a:lnTo>
                  <a:pt x="173" y="690"/>
                </a:lnTo>
                <a:lnTo>
                  <a:pt x="152" y="688"/>
                </a:lnTo>
                <a:lnTo>
                  <a:pt x="150" y="660"/>
                </a:lnTo>
                <a:lnTo>
                  <a:pt x="150" y="652"/>
                </a:lnTo>
                <a:lnTo>
                  <a:pt x="136" y="644"/>
                </a:lnTo>
                <a:lnTo>
                  <a:pt x="126" y="629"/>
                </a:lnTo>
                <a:lnTo>
                  <a:pt x="126" y="605"/>
                </a:lnTo>
                <a:lnTo>
                  <a:pt x="120" y="589"/>
                </a:lnTo>
                <a:lnTo>
                  <a:pt x="103" y="571"/>
                </a:lnTo>
                <a:lnTo>
                  <a:pt x="54" y="431"/>
                </a:lnTo>
                <a:lnTo>
                  <a:pt x="30" y="368"/>
                </a:lnTo>
                <a:lnTo>
                  <a:pt x="22" y="336"/>
                </a:lnTo>
                <a:lnTo>
                  <a:pt x="18" y="316"/>
                </a:lnTo>
                <a:lnTo>
                  <a:pt x="14" y="229"/>
                </a:lnTo>
                <a:lnTo>
                  <a:pt x="7" y="190"/>
                </a:lnTo>
                <a:lnTo>
                  <a:pt x="0" y="99"/>
                </a:lnTo>
                <a:lnTo>
                  <a:pt x="0" y="0"/>
                </a:lnTo>
                <a:lnTo>
                  <a:pt x="50" y="45"/>
                </a:lnTo>
                <a:lnTo>
                  <a:pt x="96" y="107"/>
                </a:lnTo>
                <a:close/>
              </a:path>
            </a:pathLst>
          </a:custGeom>
          <a:solidFill>
            <a:srgbClr val="e58d35"/>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49" name=""/>
          <p:cNvSpPr/>
          <p:nvPr/>
        </p:nvSpPr>
        <p:spPr>
          <a:xfrm>
            <a:off x="4592520" y="1322280"/>
            <a:ext cx="220680" cy="474840"/>
          </a:xfrm>
          <a:custGeom>
            <a:avLst/>
            <a:gdLst/>
            <a:ahLst/>
            <a:rect l="l" t="t" r="r" b="b"/>
            <a:pathLst>
              <a:path w="139" h="599">
                <a:moveTo>
                  <a:pt x="43" y="73"/>
                </a:moveTo>
                <a:lnTo>
                  <a:pt x="50" y="98"/>
                </a:lnTo>
                <a:lnTo>
                  <a:pt x="64" y="128"/>
                </a:lnTo>
                <a:lnTo>
                  <a:pt x="103" y="255"/>
                </a:lnTo>
                <a:lnTo>
                  <a:pt x="135" y="405"/>
                </a:lnTo>
                <a:lnTo>
                  <a:pt x="139" y="429"/>
                </a:lnTo>
                <a:lnTo>
                  <a:pt x="126" y="440"/>
                </a:lnTo>
                <a:lnTo>
                  <a:pt x="110" y="436"/>
                </a:lnTo>
                <a:lnTo>
                  <a:pt x="103" y="446"/>
                </a:lnTo>
                <a:lnTo>
                  <a:pt x="103" y="450"/>
                </a:lnTo>
                <a:lnTo>
                  <a:pt x="82" y="452"/>
                </a:lnTo>
                <a:lnTo>
                  <a:pt x="71" y="468"/>
                </a:lnTo>
                <a:lnTo>
                  <a:pt x="43" y="486"/>
                </a:lnTo>
                <a:lnTo>
                  <a:pt x="23" y="521"/>
                </a:lnTo>
                <a:lnTo>
                  <a:pt x="8" y="587"/>
                </a:lnTo>
                <a:lnTo>
                  <a:pt x="7" y="597"/>
                </a:lnTo>
                <a:lnTo>
                  <a:pt x="6" y="599"/>
                </a:lnTo>
                <a:lnTo>
                  <a:pt x="0" y="599"/>
                </a:lnTo>
                <a:lnTo>
                  <a:pt x="3" y="589"/>
                </a:lnTo>
                <a:lnTo>
                  <a:pt x="3" y="561"/>
                </a:lnTo>
                <a:lnTo>
                  <a:pt x="14" y="379"/>
                </a:lnTo>
                <a:lnTo>
                  <a:pt x="16" y="185"/>
                </a:lnTo>
                <a:lnTo>
                  <a:pt x="12" y="168"/>
                </a:lnTo>
                <a:lnTo>
                  <a:pt x="8" y="9"/>
                </a:lnTo>
                <a:lnTo>
                  <a:pt x="7" y="0"/>
                </a:lnTo>
                <a:lnTo>
                  <a:pt x="12" y="0"/>
                </a:lnTo>
                <a:lnTo>
                  <a:pt x="43" y="73"/>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50" name=""/>
          <p:cNvSpPr/>
          <p:nvPr/>
        </p:nvSpPr>
        <p:spPr>
          <a:xfrm>
            <a:off x="4165560" y="1343160"/>
            <a:ext cx="257040" cy="449280"/>
          </a:xfrm>
          <a:custGeom>
            <a:avLst/>
            <a:gdLst/>
            <a:ahLst/>
            <a:rect l="l" t="t" r="r" b="b"/>
            <a:pathLst>
              <a:path w="162" h="568">
                <a:moveTo>
                  <a:pt x="60" y="26"/>
                </a:moveTo>
                <a:lnTo>
                  <a:pt x="60" y="46"/>
                </a:lnTo>
                <a:lnTo>
                  <a:pt x="63" y="56"/>
                </a:lnTo>
                <a:lnTo>
                  <a:pt x="58" y="101"/>
                </a:lnTo>
                <a:lnTo>
                  <a:pt x="52" y="119"/>
                </a:lnTo>
                <a:lnTo>
                  <a:pt x="56" y="139"/>
                </a:lnTo>
                <a:lnTo>
                  <a:pt x="65" y="170"/>
                </a:lnTo>
                <a:lnTo>
                  <a:pt x="81" y="220"/>
                </a:lnTo>
                <a:lnTo>
                  <a:pt x="104" y="277"/>
                </a:lnTo>
                <a:lnTo>
                  <a:pt x="162" y="435"/>
                </a:lnTo>
                <a:lnTo>
                  <a:pt x="151" y="445"/>
                </a:lnTo>
                <a:lnTo>
                  <a:pt x="121" y="453"/>
                </a:lnTo>
                <a:lnTo>
                  <a:pt x="101" y="467"/>
                </a:lnTo>
                <a:lnTo>
                  <a:pt x="87" y="471"/>
                </a:lnTo>
                <a:lnTo>
                  <a:pt x="51" y="514"/>
                </a:lnTo>
                <a:lnTo>
                  <a:pt x="44" y="518"/>
                </a:lnTo>
                <a:lnTo>
                  <a:pt x="14" y="568"/>
                </a:lnTo>
                <a:lnTo>
                  <a:pt x="7" y="534"/>
                </a:lnTo>
                <a:lnTo>
                  <a:pt x="0" y="340"/>
                </a:lnTo>
                <a:lnTo>
                  <a:pt x="2" y="259"/>
                </a:lnTo>
                <a:lnTo>
                  <a:pt x="8" y="172"/>
                </a:lnTo>
                <a:lnTo>
                  <a:pt x="8" y="147"/>
                </a:lnTo>
                <a:lnTo>
                  <a:pt x="14" y="117"/>
                </a:lnTo>
                <a:lnTo>
                  <a:pt x="41" y="73"/>
                </a:lnTo>
                <a:lnTo>
                  <a:pt x="45" y="46"/>
                </a:lnTo>
                <a:lnTo>
                  <a:pt x="50" y="4"/>
                </a:lnTo>
                <a:lnTo>
                  <a:pt x="52" y="0"/>
                </a:lnTo>
                <a:lnTo>
                  <a:pt x="56" y="0"/>
                </a:lnTo>
                <a:lnTo>
                  <a:pt x="60" y="26"/>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51" name=""/>
          <p:cNvSpPr/>
          <p:nvPr/>
        </p:nvSpPr>
        <p:spPr>
          <a:xfrm>
            <a:off x="4594320" y="1415880"/>
            <a:ext cx="657000" cy="601920"/>
          </a:xfrm>
          <a:custGeom>
            <a:avLst/>
            <a:gdLst/>
            <a:ahLst/>
            <a:rect l="l" t="t" r="r" b="b"/>
            <a:pathLst>
              <a:path w="414" h="757">
                <a:moveTo>
                  <a:pt x="197" y="97"/>
                </a:moveTo>
                <a:lnTo>
                  <a:pt x="233" y="125"/>
                </a:lnTo>
                <a:lnTo>
                  <a:pt x="244" y="142"/>
                </a:lnTo>
                <a:lnTo>
                  <a:pt x="308" y="198"/>
                </a:lnTo>
                <a:lnTo>
                  <a:pt x="384" y="287"/>
                </a:lnTo>
                <a:lnTo>
                  <a:pt x="414" y="352"/>
                </a:lnTo>
                <a:lnTo>
                  <a:pt x="407" y="374"/>
                </a:lnTo>
                <a:lnTo>
                  <a:pt x="404" y="443"/>
                </a:lnTo>
                <a:lnTo>
                  <a:pt x="389" y="605"/>
                </a:lnTo>
                <a:lnTo>
                  <a:pt x="384" y="678"/>
                </a:lnTo>
                <a:lnTo>
                  <a:pt x="382" y="749"/>
                </a:lnTo>
                <a:lnTo>
                  <a:pt x="382" y="757"/>
                </a:lnTo>
                <a:lnTo>
                  <a:pt x="372" y="741"/>
                </a:lnTo>
                <a:lnTo>
                  <a:pt x="331" y="716"/>
                </a:lnTo>
                <a:lnTo>
                  <a:pt x="262" y="690"/>
                </a:lnTo>
                <a:lnTo>
                  <a:pt x="221" y="678"/>
                </a:lnTo>
                <a:lnTo>
                  <a:pt x="175" y="664"/>
                </a:lnTo>
                <a:lnTo>
                  <a:pt x="79" y="664"/>
                </a:lnTo>
                <a:lnTo>
                  <a:pt x="21" y="672"/>
                </a:lnTo>
                <a:lnTo>
                  <a:pt x="7" y="670"/>
                </a:lnTo>
                <a:lnTo>
                  <a:pt x="2" y="678"/>
                </a:lnTo>
                <a:lnTo>
                  <a:pt x="0" y="611"/>
                </a:lnTo>
                <a:lnTo>
                  <a:pt x="6" y="530"/>
                </a:lnTo>
                <a:lnTo>
                  <a:pt x="11" y="516"/>
                </a:lnTo>
                <a:lnTo>
                  <a:pt x="11" y="510"/>
                </a:lnTo>
                <a:lnTo>
                  <a:pt x="27" y="508"/>
                </a:lnTo>
                <a:lnTo>
                  <a:pt x="36" y="481"/>
                </a:lnTo>
                <a:lnTo>
                  <a:pt x="33" y="455"/>
                </a:lnTo>
                <a:lnTo>
                  <a:pt x="28" y="443"/>
                </a:lnTo>
                <a:lnTo>
                  <a:pt x="28" y="437"/>
                </a:lnTo>
                <a:lnTo>
                  <a:pt x="46" y="431"/>
                </a:lnTo>
                <a:lnTo>
                  <a:pt x="47" y="431"/>
                </a:lnTo>
                <a:lnTo>
                  <a:pt x="49" y="423"/>
                </a:lnTo>
                <a:lnTo>
                  <a:pt x="48" y="386"/>
                </a:lnTo>
                <a:lnTo>
                  <a:pt x="52" y="384"/>
                </a:lnTo>
                <a:lnTo>
                  <a:pt x="61" y="398"/>
                </a:lnTo>
                <a:lnTo>
                  <a:pt x="74" y="396"/>
                </a:lnTo>
                <a:lnTo>
                  <a:pt x="81" y="368"/>
                </a:lnTo>
                <a:lnTo>
                  <a:pt x="81" y="360"/>
                </a:lnTo>
                <a:lnTo>
                  <a:pt x="95" y="374"/>
                </a:lnTo>
                <a:lnTo>
                  <a:pt x="97" y="374"/>
                </a:lnTo>
                <a:lnTo>
                  <a:pt x="100" y="372"/>
                </a:lnTo>
                <a:lnTo>
                  <a:pt x="100" y="449"/>
                </a:lnTo>
                <a:lnTo>
                  <a:pt x="103" y="453"/>
                </a:lnTo>
                <a:lnTo>
                  <a:pt x="117" y="449"/>
                </a:lnTo>
                <a:lnTo>
                  <a:pt x="128" y="451"/>
                </a:lnTo>
                <a:lnTo>
                  <a:pt x="132" y="437"/>
                </a:lnTo>
                <a:lnTo>
                  <a:pt x="138" y="352"/>
                </a:lnTo>
                <a:lnTo>
                  <a:pt x="139" y="332"/>
                </a:lnTo>
                <a:lnTo>
                  <a:pt x="153" y="336"/>
                </a:lnTo>
                <a:lnTo>
                  <a:pt x="155" y="330"/>
                </a:lnTo>
                <a:lnTo>
                  <a:pt x="146" y="291"/>
                </a:lnTo>
                <a:lnTo>
                  <a:pt x="130" y="216"/>
                </a:lnTo>
                <a:lnTo>
                  <a:pt x="102" y="95"/>
                </a:lnTo>
                <a:lnTo>
                  <a:pt x="71" y="0"/>
                </a:lnTo>
                <a:lnTo>
                  <a:pt x="125" y="54"/>
                </a:lnTo>
                <a:lnTo>
                  <a:pt x="197" y="97"/>
                </a:lnTo>
                <a:close/>
              </a:path>
            </a:pathLst>
          </a:custGeom>
          <a:solidFill>
            <a:srgbClr val="ff7272"/>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52" name=""/>
          <p:cNvSpPr/>
          <p:nvPr/>
        </p:nvSpPr>
        <p:spPr>
          <a:xfrm>
            <a:off x="4529160" y="1419120"/>
            <a:ext cx="17280" cy="123840"/>
          </a:xfrm>
          <a:custGeom>
            <a:avLst/>
            <a:gdLst/>
            <a:ahLst/>
            <a:rect l="l" t="t" r="r" b="b"/>
            <a:pathLst>
              <a:path w="11" h="156">
                <a:moveTo>
                  <a:pt x="9" y="105"/>
                </a:moveTo>
                <a:lnTo>
                  <a:pt x="7" y="129"/>
                </a:lnTo>
                <a:lnTo>
                  <a:pt x="7" y="156"/>
                </a:lnTo>
                <a:lnTo>
                  <a:pt x="0" y="156"/>
                </a:lnTo>
                <a:lnTo>
                  <a:pt x="0" y="131"/>
                </a:lnTo>
                <a:lnTo>
                  <a:pt x="3" y="117"/>
                </a:lnTo>
                <a:lnTo>
                  <a:pt x="4" y="18"/>
                </a:lnTo>
                <a:lnTo>
                  <a:pt x="7" y="2"/>
                </a:lnTo>
                <a:lnTo>
                  <a:pt x="7" y="0"/>
                </a:lnTo>
                <a:lnTo>
                  <a:pt x="11" y="2"/>
                </a:lnTo>
                <a:lnTo>
                  <a:pt x="9" y="1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53" name=""/>
          <p:cNvSpPr/>
          <p:nvPr/>
        </p:nvSpPr>
        <p:spPr>
          <a:xfrm>
            <a:off x="4268880" y="1422360"/>
            <a:ext cx="11160" cy="27000"/>
          </a:xfrm>
          <a:custGeom>
            <a:avLst/>
            <a:gdLst/>
            <a:ahLst/>
            <a:rect l="l" t="t" r="r" b="b"/>
            <a:pathLst>
              <a:path w="7" h="34">
                <a:moveTo>
                  <a:pt x="0" y="10"/>
                </a:moveTo>
                <a:lnTo>
                  <a:pt x="2" y="0"/>
                </a:lnTo>
                <a:lnTo>
                  <a:pt x="7" y="34"/>
                </a:lnTo>
                <a:lnTo>
                  <a:pt x="0" y="10"/>
                </a:lnTo>
                <a:close/>
              </a:path>
            </a:pathLst>
          </a:custGeom>
          <a:solidFill>
            <a:srgbClr val="f9e8e0"/>
          </a:solidFill>
          <a:ln w="0">
            <a:noFill/>
          </a:ln>
        </p:spPr>
        <p:style>
          <a:lnRef idx="0"/>
          <a:fillRef idx="0"/>
          <a:effectRef idx="0"/>
          <a:fontRef idx="minor"/>
        </p:style>
        <p:txBody>
          <a:bodyPr lIns="90000" rIns="90000" tIns="-19800" bIns="-19800" anchor="t">
            <a:noAutofit/>
          </a:bodyPr>
          <a:p>
            <a:endParaRPr b="0" lang="en-US" sz="2400" spc="-1" strike="noStrike">
              <a:solidFill>
                <a:srgbClr val="ffff00"/>
              </a:solidFill>
              <a:latin typeface="Times New Roman"/>
            </a:endParaRPr>
          </a:p>
        </p:txBody>
      </p:sp>
      <p:sp>
        <p:nvSpPr>
          <p:cNvPr id="254" name=""/>
          <p:cNvSpPr/>
          <p:nvPr/>
        </p:nvSpPr>
        <p:spPr>
          <a:xfrm>
            <a:off x="3535200" y="1457280"/>
            <a:ext cx="1008360" cy="708120"/>
          </a:xfrm>
          <a:custGeom>
            <a:avLst/>
            <a:gdLst/>
            <a:ahLst/>
            <a:rect l="l" t="t" r="r" b="b"/>
            <a:pathLst>
              <a:path w="635" h="891">
                <a:moveTo>
                  <a:pt x="394" y="15"/>
                </a:moveTo>
                <a:lnTo>
                  <a:pt x="390" y="19"/>
                </a:lnTo>
                <a:lnTo>
                  <a:pt x="394" y="47"/>
                </a:lnTo>
                <a:lnTo>
                  <a:pt x="390" y="59"/>
                </a:lnTo>
                <a:lnTo>
                  <a:pt x="386" y="209"/>
                </a:lnTo>
                <a:lnTo>
                  <a:pt x="389" y="217"/>
                </a:lnTo>
                <a:lnTo>
                  <a:pt x="390" y="355"/>
                </a:lnTo>
                <a:lnTo>
                  <a:pt x="394" y="423"/>
                </a:lnTo>
                <a:lnTo>
                  <a:pt x="404" y="476"/>
                </a:lnTo>
                <a:lnTo>
                  <a:pt x="416" y="462"/>
                </a:lnTo>
                <a:lnTo>
                  <a:pt x="418" y="440"/>
                </a:lnTo>
                <a:lnTo>
                  <a:pt x="420" y="434"/>
                </a:lnTo>
                <a:lnTo>
                  <a:pt x="441" y="444"/>
                </a:lnTo>
                <a:lnTo>
                  <a:pt x="449" y="438"/>
                </a:lnTo>
                <a:lnTo>
                  <a:pt x="454" y="429"/>
                </a:lnTo>
                <a:lnTo>
                  <a:pt x="454" y="401"/>
                </a:lnTo>
                <a:lnTo>
                  <a:pt x="449" y="393"/>
                </a:lnTo>
                <a:lnTo>
                  <a:pt x="449" y="389"/>
                </a:lnTo>
                <a:lnTo>
                  <a:pt x="455" y="389"/>
                </a:lnTo>
                <a:lnTo>
                  <a:pt x="464" y="401"/>
                </a:lnTo>
                <a:lnTo>
                  <a:pt x="479" y="401"/>
                </a:lnTo>
                <a:lnTo>
                  <a:pt x="488" y="391"/>
                </a:lnTo>
                <a:lnTo>
                  <a:pt x="491" y="375"/>
                </a:lnTo>
                <a:lnTo>
                  <a:pt x="488" y="357"/>
                </a:lnTo>
                <a:lnTo>
                  <a:pt x="486" y="355"/>
                </a:lnTo>
                <a:lnTo>
                  <a:pt x="485" y="355"/>
                </a:lnTo>
                <a:lnTo>
                  <a:pt x="496" y="344"/>
                </a:lnTo>
                <a:lnTo>
                  <a:pt x="500" y="355"/>
                </a:lnTo>
                <a:lnTo>
                  <a:pt x="506" y="363"/>
                </a:lnTo>
                <a:lnTo>
                  <a:pt x="522" y="357"/>
                </a:lnTo>
                <a:lnTo>
                  <a:pt x="530" y="351"/>
                </a:lnTo>
                <a:lnTo>
                  <a:pt x="532" y="334"/>
                </a:lnTo>
                <a:lnTo>
                  <a:pt x="532" y="326"/>
                </a:lnTo>
                <a:lnTo>
                  <a:pt x="539" y="328"/>
                </a:lnTo>
                <a:lnTo>
                  <a:pt x="547" y="351"/>
                </a:lnTo>
                <a:lnTo>
                  <a:pt x="554" y="357"/>
                </a:lnTo>
                <a:lnTo>
                  <a:pt x="569" y="347"/>
                </a:lnTo>
                <a:lnTo>
                  <a:pt x="574" y="342"/>
                </a:lnTo>
                <a:lnTo>
                  <a:pt x="574" y="340"/>
                </a:lnTo>
                <a:lnTo>
                  <a:pt x="575" y="340"/>
                </a:lnTo>
                <a:lnTo>
                  <a:pt x="576" y="361"/>
                </a:lnTo>
                <a:lnTo>
                  <a:pt x="598" y="383"/>
                </a:lnTo>
                <a:lnTo>
                  <a:pt x="599" y="391"/>
                </a:lnTo>
                <a:lnTo>
                  <a:pt x="603" y="397"/>
                </a:lnTo>
                <a:lnTo>
                  <a:pt x="602" y="399"/>
                </a:lnTo>
                <a:lnTo>
                  <a:pt x="613" y="429"/>
                </a:lnTo>
                <a:lnTo>
                  <a:pt x="613" y="438"/>
                </a:lnTo>
                <a:lnTo>
                  <a:pt x="618" y="446"/>
                </a:lnTo>
                <a:lnTo>
                  <a:pt x="630" y="579"/>
                </a:lnTo>
                <a:lnTo>
                  <a:pt x="630" y="595"/>
                </a:lnTo>
                <a:lnTo>
                  <a:pt x="635" y="644"/>
                </a:lnTo>
                <a:lnTo>
                  <a:pt x="635" y="652"/>
                </a:lnTo>
                <a:lnTo>
                  <a:pt x="559" y="658"/>
                </a:lnTo>
                <a:lnTo>
                  <a:pt x="374" y="725"/>
                </a:lnTo>
                <a:lnTo>
                  <a:pt x="285" y="778"/>
                </a:lnTo>
                <a:lnTo>
                  <a:pt x="253" y="800"/>
                </a:lnTo>
                <a:lnTo>
                  <a:pt x="247" y="800"/>
                </a:lnTo>
                <a:lnTo>
                  <a:pt x="241" y="810"/>
                </a:lnTo>
                <a:lnTo>
                  <a:pt x="235" y="810"/>
                </a:lnTo>
                <a:lnTo>
                  <a:pt x="219" y="826"/>
                </a:lnTo>
                <a:lnTo>
                  <a:pt x="156" y="867"/>
                </a:lnTo>
                <a:lnTo>
                  <a:pt x="143" y="879"/>
                </a:lnTo>
                <a:lnTo>
                  <a:pt x="131" y="891"/>
                </a:lnTo>
                <a:lnTo>
                  <a:pt x="130" y="889"/>
                </a:lnTo>
                <a:lnTo>
                  <a:pt x="128" y="889"/>
                </a:lnTo>
                <a:lnTo>
                  <a:pt x="123" y="848"/>
                </a:lnTo>
                <a:lnTo>
                  <a:pt x="116" y="818"/>
                </a:lnTo>
                <a:lnTo>
                  <a:pt x="118" y="810"/>
                </a:lnTo>
                <a:lnTo>
                  <a:pt x="112" y="794"/>
                </a:lnTo>
                <a:lnTo>
                  <a:pt x="110" y="773"/>
                </a:lnTo>
                <a:lnTo>
                  <a:pt x="108" y="771"/>
                </a:lnTo>
                <a:lnTo>
                  <a:pt x="104" y="755"/>
                </a:lnTo>
                <a:lnTo>
                  <a:pt x="104" y="741"/>
                </a:lnTo>
                <a:lnTo>
                  <a:pt x="98" y="729"/>
                </a:lnTo>
                <a:lnTo>
                  <a:pt x="98" y="715"/>
                </a:lnTo>
                <a:lnTo>
                  <a:pt x="93" y="707"/>
                </a:lnTo>
                <a:lnTo>
                  <a:pt x="93" y="697"/>
                </a:lnTo>
                <a:lnTo>
                  <a:pt x="89" y="689"/>
                </a:lnTo>
                <a:lnTo>
                  <a:pt x="88" y="674"/>
                </a:lnTo>
                <a:lnTo>
                  <a:pt x="86" y="672"/>
                </a:lnTo>
                <a:lnTo>
                  <a:pt x="56" y="559"/>
                </a:lnTo>
                <a:lnTo>
                  <a:pt x="47" y="535"/>
                </a:lnTo>
                <a:lnTo>
                  <a:pt x="44" y="514"/>
                </a:lnTo>
                <a:lnTo>
                  <a:pt x="9" y="421"/>
                </a:lnTo>
                <a:lnTo>
                  <a:pt x="0" y="397"/>
                </a:lnTo>
                <a:lnTo>
                  <a:pt x="18" y="336"/>
                </a:lnTo>
                <a:lnTo>
                  <a:pt x="19" y="326"/>
                </a:lnTo>
                <a:lnTo>
                  <a:pt x="29" y="308"/>
                </a:lnTo>
                <a:lnTo>
                  <a:pt x="32" y="300"/>
                </a:lnTo>
                <a:lnTo>
                  <a:pt x="34" y="296"/>
                </a:lnTo>
                <a:lnTo>
                  <a:pt x="38" y="296"/>
                </a:lnTo>
                <a:lnTo>
                  <a:pt x="38" y="300"/>
                </a:lnTo>
                <a:lnTo>
                  <a:pt x="43" y="298"/>
                </a:lnTo>
                <a:lnTo>
                  <a:pt x="83" y="225"/>
                </a:lnTo>
                <a:lnTo>
                  <a:pt x="149" y="146"/>
                </a:lnTo>
                <a:lnTo>
                  <a:pt x="198" y="108"/>
                </a:lnTo>
                <a:lnTo>
                  <a:pt x="262" y="83"/>
                </a:lnTo>
                <a:lnTo>
                  <a:pt x="275" y="73"/>
                </a:lnTo>
                <a:lnTo>
                  <a:pt x="343" y="39"/>
                </a:lnTo>
                <a:lnTo>
                  <a:pt x="389" y="2"/>
                </a:lnTo>
                <a:lnTo>
                  <a:pt x="391" y="0"/>
                </a:lnTo>
                <a:lnTo>
                  <a:pt x="394" y="0"/>
                </a:lnTo>
                <a:lnTo>
                  <a:pt x="394" y="15"/>
                </a:lnTo>
                <a:close/>
              </a:path>
            </a:pathLst>
          </a:custGeom>
          <a:solidFill>
            <a:srgbClr val="ff7272"/>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55" name=""/>
          <p:cNvSpPr/>
          <p:nvPr/>
        </p:nvSpPr>
        <p:spPr>
          <a:xfrm>
            <a:off x="4765680" y="1685880"/>
            <a:ext cx="33480" cy="69840"/>
          </a:xfrm>
          <a:custGeom>
            <a:avLst/>
            <a:gdLst/>
            <a:ahLst/>
            <a:rect l="l" t="t" r="r" b="b"/>
            <a:pathLst>
              <a:path w="21" h="87">
                <a:moveTo>
                  <a:pt x="21" y="38"/>
                </a:moveTo>
                <a:lnTo>
                  <a:pt x="15" y="54"/>
                </a:lnTo>
                <a:lnTo>
                  <a:pt x="14" y="81"/>
                </a:lnTo>
                <a:lnTo>
                  <a:pt x="13" y="83"/>
                </a:lnTo>
                <a:lnTo>
                  <a:pt x="13" y="87"/>
                </a:lnTo>
                <a:lnTo>
                  <a:pt x="0" y="87"/>
                </a:lnTo>
                <a:lnTo>
                  <a:pt x="6" y="14"/>
                </a:lnTo>
                <a:lnTo>
                  <a:pt x="9" y="4"/>
                </a:lnTo>
                <a:lnTo>
                  <a:pt x="15" y="0"/>
                </a:lnTo>
                <a:lnTo>
                  <a:pt x="21" y="0"/>
                </a:lnTo>
                <a:lnTo>
                  <a:pt x="21" y="38"/>
                </a:lnTo>
                <a:close/>
              </a:path>
            </a:pathLst>
          </a:custGeom>
          <a:solidFill>
            <a:srgbClr val="4c4c4c"/>
          </a:solidFill>
          <a:ln w="0">
            <a:noFill/>
          </a:ln>
        </p:spPr>
        <p:style>
          <a:lnRef idx="0"/>
          <a:fillRef idx="0"/>
          <a:effectRef idx="0"/>
          <a:fontRef idx="minor"/>
        </p:style>
        <p:txBody>
          <a:bodyPr lIns="90000" rIns="90000" tIns="23040" bIns="23040" anchor="t">
            <a:noAutofit/>
          </a:bodyPr>
          <a:p>
            <a:endParaRPr b="0" lang="en-US" sz="2400" spc="-1" strike="noStrike">
              <a:solidFill>
                <a:srgbClr val="ffff00"/>
              </a:solidFill>
              <a:latin typeface="Times New Roman"/>
            </a:endParaRPr>
          </a:p>
        </p:txBody>
      </p:sp>
      <p:sp>
        <p:nvSpPr>
          <p:cNvPr id="256" name=""/>
          <p:cNvSpPr/>
          <p:nvPr/>
        </p:nvSpPr>
        <p:spPr>
          <a:xfrm>
            <a:off x="4408560" y="1704960"/>
            <a:ext cx="19080" cy="22320"/>
          </a:xfrm>
          <a:custGeom>
            <a:avLst/>
            <a:gdLst/>
            <a:ahLst/>
            <a:rect l="l" t="t" r="r" b="b"/>
            <a:pathLst>
              <a:path w="12" h="28">
                <a:moveTo>
                  <a:pt x="12" y="22"/>
                </a:moveTo>
                <a:lnTo>
                  <a:pt x="9" y="28"/>
                </a:lnTo>
                <a:lnTo>
                  <a:pt x="5" y="28"/>
                </a:lnTo>
                <a:lnTo>
                  <a:pt x="0" y="8"/>
                </a:lnTo>
                <a:lnTo>
                  <a:pt x="11" y="0"/>
                </a:lnTo>
                <a:lnTo>
                  <a:pt x="12" y="4"/>
                </a:lnTo>
                <a:lnTo>
                  <a:pt x="12" y="22"/>
                </a:lnTo>
                <a:close/>
              </a:path>
            </a:pathLst>
          </a:custGeom>
          <a:solidFill>
            <a:srgbClr val="ffffff"/>
          </a:solidFill>
          <a:ln w="0">
            <a:noFill/>
          </a:ln>
        </p:spPr>
        <p:style>
          <a:lnRef idx="0"/>
          <a:fillRef idx="0"/>
          <a:effectRef idx="0"/>
          <a:fontRef idx="minor"/>
        </p:style>
        <p:txBody>
          <a:bodyPr lIns="90000" rIns="90000" tIns="-24480" bIns="-24480" anchor="t">
            <a:noAutofit/>
          </a:bodyPr>
          <a:p>
            <a:endParaRPr b="0" lang="en-US" sz="2400" spc="-1" strike="noStrike">
              <a:solidFill>
                <a:srgbClr val="ffff00"/>
              </a:solidFill>
              <a:latin typeface="Times New Roman"/>
            </a:endParaRPr>
          </a:p>
        </p:txBody>
      </p:sp>
      <p:sp>
        <p:nvSpPr>
          <p:cNvPr id="257" name=""/>
          <p:cNvSpPr/>
          <p:nvPr/>
        </p:nvSpPr>
        <p:spPr>
          <a:xfrm>
            <a:off x="4691160" y="1704960"/>
            <a:ext cx="14040" cy="11160"/>
          </a:xfrm>
          <a:custGeom>
            <a:avLst/>
            <a:gdLst/>
            <a:ahLst/>
            <a:rect l="l" t="t" r="r" b="b"/>
            <a:pathLst>
              <a:path w="9" h="14">
                <a:moveTo>
                  <a:pt x="9" y="10"/>
                </a:moveTo>
                <a:lnTo>
                  <a:pt x="8" y="14"/>
                </a:lnTo>
                <a:lnTo>
                  <a:pt x="3" y="14"/>
                </a:lnTo>
                <a:lnTo>
                  <a:pt x="3" y="10"/>
                </a:lnTo>
                <a:lnTo>
                  <a:pt x="0" y="6"/>
                </a:lnTo>
                <a:lnTo>
                  <a:pt x="3" y="0"/>
                </a:lnTo>
                <a:lnTo>
                  <a:pt x="9" y="0"/>
                </a:lnTo>
                <a:lnTo>
                  <a:pt x="9" y="10"/>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ffff00"/>
              </a:solidFill>
              <a:latin typeface="Times New Roman"/>
            </a:endParaRPr>
          </a:p>
        </p:txBody>
      </p:sp>
      <p:sp>
        <p:nvSpPr>
          <p:cNvPr id="258" name=""/>
          <p:cNvSpPr/>
          <p:nvPr/>
        </p:nvSpPr>
        <p:spPr>
          <a:xfrm>
            <a:off x="5181480" y="1712880"/>
            <a:ext cx="451080" cy="987480"/>
          </a:xfrm>
          <a:custGeom>
            <a:avLst/>
            <a:gdLst/>
            <a:ahLst/>
            <a:rect l="l" t="t" r="r" b="b"/>
            <a:pathLst>
              <a:path w="284" h="1243">
                <a:moveTo>
                  <a:pt x="78" y="81"/>
                </a:moveTo>
                <a:lnTo>
                  <a:pt x="80" y="81"/>
                </a:lnTo>
                <a:lnTo>
                  <a:pt x="82" y="101"/>
                </a:lnTo>
                <a:lnTo>
                  <a:pt x="93" y="132"/>
                </a:lnTo>
                <a:lnTo>
                  <a:pt x="103" y="188"/>
                </a:lnTo>
                <a:lnTo>
                  <a:pt x="110" y="239"/>
                </a:lnTo>
                <a:lnTo>
                  <a:pt x="118" y="247"/>
                </a:lnTo>
                <a:lnTo>
                  <a:pt x="119" y="269"/>
                </a:lnTo>
                <a:lnTo>
                  <a:pt x="125" y="286"/>
                </a:lnTo>
                <a:lnTo>
                  <a:pt x="138" y="379"/>
                </a:lnTo>
                <a:lnTo>
                  <a:pt x="151" y="458"/>
                </a:lnTo>
                <a:lnTo>
                  <a:pt x="151" y="472"/>
                </a:lnTo>
                <a:lnTo>
                  <a:pt x="164" y="541"/>
                </a:lnTo>
                <a:lnTo>
                  <a:pt x="164" y="543"/>
                </a:lnTo>
                <a:lnTo>
                  <a:pt x="168" y="551"/>
                </a:lnTo>
                <a:lnTo>
                  <a:pt x="172" y="549"/>
                </a:lnTo>
                <a:lnTo>
                  <a:pt x="169" y="555"/>
                </a:lnTo>
                <a:lnTo>
                  <a:pt x="178" y="611"/>
                </a:lnTo>
                <a:lnTo>
                  <a:pt x="183" y="621"/>
                </a:lnTo>
                <a:lnTo>
                  <a:pt x="187" y="644"/>
                </a:lnTo>
                <a:lnTo>
                  <a:pt x="199" y="711"/>
                </a:lnTo>
                <a:lnTo>
                  <a:pt x="215" y="787"/>
                </a:lnTo>
                <a:lnTo>
                  <a:pt x="218" y="806"/>
                </a:lnTo>
                <a:lnTo>
                  <a:pt x="220" y="804"/>
                </a:lnTo>
                <a:lnTo>
                  <a:pt x="225" y="824"/>
                </a:lnTo>
                <a:lnTo>
                  <a:pt x="224" y="832"/>
                </a:lnTo>
                <a:lnTo>
                  <a:pt x="232" y="850"/>
                </a:lnTo>
                <a:lnTo>
                  <a:pt x="240" y="897"/>
                </a:lnTo>
                <a:lnTo>
                  <a:pt x="254" y="937"/>
                </a:lnTo>
                <a:lnTo>
                  <a:pt x="259" y="968"/>
                </a:lnTo>
                <a:lnTo>
                  <a:pt x="268" y="1012"/>
                </a:lnTo>
                <a:lnTo>
                  <a:pt x="274" y="1024"/>
                </a:lnTo>
                <a:lnTo>
                  <a:pt x="274" y="1057"/>
                </a:lnTo>
                <a:lnTo>
                  <a:pt x="275" y="1087"/>
                </a:lnTo>
                <a:lnTo>
                  <a:pt x="281" y="1101"/>
                </a:lnTo>
                <a:lnTo>
                  <a:pt x="284" y="1233"/>
                </a:lnTo>
                <a:lnTo>
                  <a:pt x="282" y="1237"/>
                </a:lnTo>
                <a:lnTo>
                  <a:pt x="282" y="1243"/>
                </a:lnTo>
                <a:lnTo>
                  <a:pt x="240" y="1168"/>
                </a:lnTo>
                <a:lnTo>
                  <a:pt x="215" y="1140"/>
                </a:lnTo>
                <a:lnTo>
                  <a:pt x="173" y="1111"/>
                </a:lnTo>
                <a:lnTo>
                  <a:pt x="134" y="1095"/>
                </a:lnTo>
                <a:lnTo>
                  <a:pt x="50" y="1081"/>
                </a:lnTo>
                <a:lnTo>
                  <a:pt x="32" y="1089"/>
                </a:lnTo>
                <a:lnTo>
                  <a:pt x="30" y="1089"/>
                </a:lnTo>
                <a:lnTo>
                  <a:pt x="30" y="1069"/>
                </a:lnTo>
                <a:lnTo>
                  <a:pt x="37" y="1055"/>
                </a:lnTo>
                <a:lnTo>
                  <a:pt x="45" y="1048"/>
                </a:lnTo>
                <a:lnTo>
                  <a:pt x="57" y="1050"/>
                </a:lnTo>
                <a:lnTo>
                  <a:pt x="61" y="1050"/>
                </a:lnTo>
                <a:lnTo>
                  <a:pt x="62" y="1048"/>
                </a:lnTo>
                <a:lnTo>
                  <a:pt x="60" y="1038"/>
                </a:lnTo>
                <a:lnTo>
                  <a:pt x="88" y="1024"/>
                </a:lnTo>
                <a:lnTo>
                  <a:pt x="133" y="1028"/>
                </a:lnTo>
                <a:lnTo>
                  <a:pt x="161" y="1042"/>
                </a:lnTo>
                <a:lnTo>
                  <a:pt x="179" y="1059"/>
                </a:lnTo>
                <a:lnTo>
                  <a:pt x="186" y="1048"/>
                </a:lnTo>
                <a:lnTo>
                  <a:pt x="179" y="1038"/>
                </a:lnTo>
                <a:lnTo>
                  <a:pt x="169" y="1038"/>
                </a:lnTo>
                <a:lnTo>
                  <a:pt x="150" y="1022"/>
                </a:lnTo>
                <a:lnTo>
                  <a:pt x="138" y="1014"/>
                </a:lnTo>
                <a:lnTo>
                  <a:pt x="93" y="1006"/>
                </a:lnTo>
                <a:lnTo>
                  <a:pt x="91" y="1008"/>
                </a:lnTo>
                <a:lnTo>
                  <a:pt x="104" y="1000"/>
                </a:lnTo>
                <a:lnTo>
                  <a:pt x="126" y="992"/>
                </a:lnTo>
                <a:lnTo>
                  <a:pt x="131" y="986"/>
                </a:lnTo>
                <a:lnTo>
                  <a:pt x="151" y="986"/>
                </a:lnTo>
                <a:lnTo>
                  <a:pt x="191" y="988"/>
                </a:lnTo>
                <a:lnTo>
                  <a:pt x="230" y="1008"/>
                </a:lnTo>
                <a:lnTo>
                  <a:pt x="232" y="1014"/>
                </a:lnTo>
                <a:lnTo>
                  <a:pt x="236" y="1014"/>
                </a:lnTo>
                <a:lnTo>
                  <a:pt x="238" y="1006"/>
                </a:lnTo>
                <a:lnTo>
                  <a:pt x="238" y="1000"/>
                </a:lnTo>
                <a:lnTo>
                  <a:pt x="194" y="976"/>
                </a:lnTo>
                <a:lnTo>
                  <a:pt x="150" y="970"/>
                </a:lnTo>
                <a:lnTo>
                  <a:pt x="103" y="984"/>
                </a:lnTo>
                <a:lnTo>
                  <a:pt x="52" y="1012"/>
                </a:lnTo>
                <a:lnTo>
                  <a:pt x="68" y="974"/>
                </a:lnTo>
                <a:lnTo>
                  <a:pt x="116" y="885"/>
                </a:lnTo>
                <a:lnTo>
                  <a:pt x="116" y="881"/>
                </a:lnTo>
                <a:lnTo>
                  <a:pt x="113" y="876"/>
                </a:lnTo>
                <a:lnTo>
                  <a:pt x="61" y="911"/>
                </a:lnTo>
                <a:lnTo>
                  <a:pt x="42" y="931"/>
                </a:lnTo>
                <a:lnTo>
                  <a:pt x="23" y="963"/>
                </a:lnTo>
                <a:lnTo>
                  <a:pt x="32" y="862"/>
                </a:lnTo>
                <a:lnTo>
                  <a:pt x="36" y="834"/>
                </a:lnTo>
                <a:lnTo>
                  <a:pt x="34" y="812"/>
                </a:lnTo>
                <a:lnTo>
                  <a:pt x="54" y="678"/>
                </a:lnTo>
                <a:lnTo>
                  <a:pt x="59" y="660"/>
                </a:lnTo>
                <a:lnTo>
                  <a:pt x="60" y="642"/>
                </a:lnTo>
                <a:lnTo>
                  <a:pt x="68" y="611"/>
                </a:lnTo>
                <a:lnTo>
                  <a:pt x="73" y="567"/>
                </a:lnTo>
                <a:lnTo>
                  <a:pt x="78" y="551"/>
                </a:lnTo>
                <a:lnTo>
                  <a:pt x="91" y="486"/>
                </a:lnTo>
                <a:lnTo>
                  <a:pt x="98" y="439"/>
                </a:lnTo>
                <a:lnTo>
                  <a:pt x="94" y="431"/>
                </a:lnTo>
                <a:lnTo>
                  <a:pt x="91" y="431"/>
                </a:lnTo>
                <a:lnTo>
                  <a:pt x="81" y="462"/>
                </a:lnTo>
                <a:lnTo>
                  <a:pt x="76" y="512"/>
                </a:lnTo>
                <a:lnTo>
                  <a:pt x="62" y="569"/>
                </a:lnTo>
                <a:lnTo>
                  <a:pt x="36" y="731"/>
                </a:lnTo>
                <a:lnTo>
                  <a:pt x="22" y="834"/>
                </a:lnTo>
                <a:lnTo>
                  <a:pt x="14" y="907"/>
                </a:lnTo>
                <a:lnTo>
                  <a:pt x="19" y="923"/>
                </a:lnTo>
                <a:lnTo>
                  <a:pt x="14" y="931"/>
                </a:lnTo>
                <a:lnTo>
                  <a:pt x="14" y="974"/>
                </a:lnTo>
                <a:lnTo>
                  <a:pt x="7" y="1002"/>
                </a:lnTo>
                <a:lnTo>
                  <a:pt x="9" y="1008"/>
                </a:lnTo>
                <a:lnTo>
                  <a:pt x="13" y="1014"/>
                </a:lnTo>
                <a:lnTo>
                  <a:pt x="17" y="1014"/>
                </a:lnTo>
                <a:lnTo>
                  <a:pt x="36" y="963"/>
                </a:lnTo>
                <a:lnTo>
                  <a:pt x="66" y="929"/>
                </a:lnTo>
                <a:lnTo>
                  <a:pt x="83" y="915"/>
                </a:lnTo>
                <a:lnTo>
                  <a:pt x="86" y="915"/>
                </a:lnTo>
                <a:lnTo>
                  <a:pt x="86" y="923"/>
                </a:lnTo>
                <a:lnTo>
                  <a:pt x="80" y="929"/>
                </a:lnTo>
                <a:lnTo>
                  <a:pt x="74" y="943"/>
                </a:lnTo>
                <a:lnTo>
                  <a:pt x="68" y="949"/>
                </a:lnTo>
                <a:lnTo>
                  <a:pt x="50" y="988"/>
                </a:lnTo>
                <a:lnTo>
                  <a:pt x="26" y="1042"/>
                </a:lnTo>
                <a:lnTo>
                  <a:pt x="24" y="1055"/>
                </a:lnTo>
                <a:lnTo>
                  <a:pt x="19" y="1063"/>
                </a:lnTo>
                <a:lnTo>
                  <a:pt x="17" y="1085"/>
                </a:lnTo>
                <a:lnTo>
                  <a:pt x="6" y="1113"/>
                </a:lnTo>
                <a:lnTo>
                  <a:pt x="1" y="1129"/>
                </a:lnTo>
                <a:lnTo>
                  <a:pt x="0" y="1089"/>
                </a:lnTo>
                <a:lnTo>
                  <a:pt x="1" y="1089"/>
                </a:lnTo>
                <a:lnTo>
                  <a:pt x="4" y="1081"/>
                </a:lnTo>
                <a:lnTo>
                  <a:pt x="2" y="943"/>
                </a:lnTo>
                <a:lnTo>
                  <a:pt x="8" y="806"/>
                </a:lnTo>
                <a:lnTo>
                  <a:pt x="9" y="731"/>
                </a:lnTo>
                <a:lnTo>
                  <a:pt x="13" y="619"/>
                </a:lnTo>
                <a:lnTo>
                  <a:pt x="14" y="619"/>
                </a:lnTo>
                <a:lnTo>
                  <a:pt x="17" y="611"/>
                </a:lnTo>
                <a:lnTo>
                  <a:pt x="19" y="488"/>
                </a:lnTo>
                <a:lnTo>
                  <a:pt x="39" y="148"/>
                </a:lnTo>
                <a:lnTo>
                  <a:pt x="42" y="81"/>
                </a:lnTo>
                <a:lnTo>
                  <a:pt x="52" y="0"/>
                </a:lnTo>
                <a:lnTo>
                  <a:pt x="76" y="63"/>
                </a:lnTo>
                <a:lnTo>
                  <a:pt x="78" y="81"/>
                </a:lnTo>
                <a:close/>
              </a:path>
            </a:pathLst>
          </a:custGeom>
          <a:solidFill>
            <a:srgbClr val="ff7272"/>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59" name=""/>
          <p:cNvSpPr/>
          <p:nvPr/>
        </p:nvSpPr>
        <p:spPr>
          <a:xfrm>
            <a:off x="4341960" y="1717560"/>
            <a:ext cx="19080" cy="12960"/>
          </a:xfrm>
          <a:custGeom>
            <a:avLst/>
            <a:gdLst/>
            <a:ahLst/>
            <a:rect l="l" t="t" r="r" b="b"/>
            <a:pathLst>
              <a:path w="12" h="16">
                <a:moveTo>
                  <a:pt x="12" y="4"/>
                </a:moveTo>
                <a:lnTo>
                  <a:pt x="12" y="12"/>
                </a:lnTo>
                <a:lnTo>
                  <a:pt x="8" y="16"/>
                </a:lnTo>
                <a:lnTo>
                  <a:pt x="2" y="16"/>
                </a:lnTo>
                <a:lnTo>
                  <a:pt x="0" y="8"/>
                </a:lnTo>
                <a:lnTo>
                  <a:pt x="9" y="0"/>
                </a:lnTo>
                <a:lnTo>
                  <a:pt x="10" y="0"/>
                </a:lnTo>
                <a:lnTo>
                  <a:pt x="12" y="4"/>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ffff00"/>
              </a:solidFill>
              <a:latin typeface="Times New Roman"/>
            </a:endParaRPr>
          </a:p>
        </p:txBody>
      </p:sp>
      <p:sp>
        <p:nvSpPr>
          <p:cNvPr id="260" name=""/>
          <p:cNvSpPr/>
          <p:nvPr/>
        </p:nvSpPr>
        <p:spPr>
          <a:xfrm>
            <a:off x="4646520" y="1733400"/>
            <a:ext cx="6480" cy="11160"/>
          </a:xfrm>
          <a:custGeom>
            <a:avLst/>
            <a:gdLst/>
            <a:ahLst/>
            <a:rect l="l" t="t" r="r" b="b"/>
            <a:pathLst>
              <a:path w="4" h="14">
                <a:moveTo>
                  <a:pt x="4" y="14"/>
                </a:moveTo>
                <a:lnTo>
                  <a:pt x="0" y="14"/>
                </a:lnTo>
                <a:lnTo>
                  <a:pt x="3" y="0"/>
                </a:lnTo>
                <a:lnTo>
                  <a:pt x="4" y="6"/>
                </a:lnTo>
                <a:lnTo>
                  <a:pt x="4" y="14"/>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ffff00"/>
              </a:solidFill>
              <a:latin typeface="Times New Roman"/>
            </a:endParaRPr>
          </a:p>
        </p:txBody>
      </p:sp>
      <p:sp>
        <p:nvSpPr>
          <p:cNvPr id="261" name=""/>
          <p:cNvSpPr/>
          <p:nvPr/>
        </p:nvSpPr>
        <p:spPr>
          <a:xfrm>
            <a:off x="4272120" y="1744560"/>
            <a:ext cx="25200" cy="17640"/>
          </a:xfrm>
          <a:custGeom>
            <a:avLst/>
            <a:gdLst/>
            <a:ahLst/>
            <a:rect l="l" t="t" r="r" b="b"/>
            <a:pathLst>
              <a:path w="16" h="22">
                <a:moveTo>
                  <a:pt x="11" y="22"/>
                </a:moveTo>
                <a:lnTo>
                  <a:pt x="1" y="18"/>
                </a:lnTo>
                <a:lnTo>
                  <a:pt x="0" y="14"/>
                </a:lnTo>
                <a:lnTo>
                  <a:pt x="9" y="0"/>
                </a:lnTo>
                <a:lnTo>
                  <a:pt x="16" y="12"/>
                </a:lnTo>
                <a:lnTo>
                  <a:pt x="11" y="22"/>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ffff00"/>
              </a:solidFill>
              <a:latin typeface="Times New Roman"/>
            </a:endParaRPr>
          </a:p>
        </p:txBody>
      </p:sp>
      <p:sp>
        <p:nvSpPr>
          <p:cNvPr id="262" name=""/>
          <p:cNvSpPr/>
          <p:nvPr/>
        </p:nvSpPr>
        <p:spPr>
          <a:xfrm>
            <a:off x="4216320" y="1776240"/>
            <a:ext cx="20880" cy="19080"/>
          </a:xfrm>
          <a:custGeom>
            <a:avLst/>
            <a:gdLst/>
            <a:ahLst/>
            <a:rect l="l" t="t" r="r" b="b"/>
            <a:pathLst>
              <a:path w="13" h="24">
                <a:moveTo>
                  <a:pt x="13" y="18"/>
                </a:moveTo>
                <a:lnTo>
                  <a:pt x="10" y="24"/>
                </a:lnTo>
                <a:lnTo>
                  <a:pt x="3" y="18"/>
                </a:lnTo>
                <a:lnTo>
                  <a:pt x="0" y="16"/>
                </a:lnTo>
                <a:lnTo>
                  <a:pt x="10" y="0"/>
                </a:lnTo>
                <a:lnTo>
                  <a:pt x="13" y="8"/>
                </a:lnTo>
                <a:lnTo>
                  <a:pt x="13" y="18"/>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ffff00"/>
              </a:solidFill>
              <a:latin typeface="Times New Roman"/>
            </a:endParaRPr>
          </a:p>
        </p:txBody>
      </p:sp>
      <p:sp>
        <p:nvSpPr>
          <p:cNvPr id="263" name=""/>
          <p:cNvSpPr/>
          <p:nvPr/>
        </p:nvSpPr>
        <p:spPr>
          <a:xfrm>
            <a:off x="4624560" y="1779480"/>
            <a:ext cx="7920" cy="23760"/>
          </a:xfrm>
          <a:custGeom>
            <a:avLst/>
            <a:gdLst/>
            <a:ahLst/>
            <a:rect l="l" t="t" r="r" b="b"/>
            <a:pathLst>
              <a:path w="5" h="29">
                <a:moveTo>
                  <a:pt x="3" y="22"/>
                </a:moveTo>
                <a:lnTo>
                  <a:pt x="0" y="29"/>
                </a:lnTo>
                <a:lnTo>
                  <a:pt x="0" y="12"/>
                </a:lnTo>
                <a:lnTo>
                  <a:pt x="2" y="0"/>
                </a:lnTo>
                <a:lnTo>
                  <a:pt x="5" y="6"/>
                </a:lnTo>
                <a:lnTo>
                  <a:pt x="3" y="22"/>
                </a:lnTo>
                <a:close/>
              </a:path>
            </a:pathLst>
          </a:custGeom>
          <a:solidFill>
            <a:srgbClr val="ffffff"/>
          </a:solidFill>
          <a:ln w="0">
            <a:noFill/>
          </a:ln>
        </p:spPr>
        <p:style>
          <a:lnRef idx="0"/>
          <a:fillRef idx="0"/>
          <a:effectRef idx="0"/>
          <a:fontRef idx="minor"/>
        </p:style>
        <p:txBody>
          <a:bodyPr lIns="90000" rIns="90000" tIns="-23040" bIns="-23040" anchor="t">
            <a:noAutofit/>
          </a:bodyPr>
          <a:p>
            <a:endParaRPr b="0" lang="en-US" sz="2400" spc="-1" strike="noStrike">
              <a:solidFill>
                <a:srgbClr val="ffff00"/>
              </a:solidFill>
              <a:latin typeface="Times New Roman"/>
            </a:endParaRPr>
          </a:p>
        </p:txBody>
      </p:sp>
      <p:sp>
        <p:nvSpPr>
          <p:cNvPr id="264" name=""/>
          <p:cNvSpPr/>
          <p:nvPr/>
        </p:nvSpPr>
        <p:spPr>
          <a:xfrm>
            <a:off x="3498840" y="1787400"/>
            <a:ext cx="225360" cy="363600"/>
          </a:xfrm>
          <a:custGeom>
            <a:avLst/>
            <a:gdLst/>
            <a:ahLst/>
            <a:rect l="l" t="t" r="r" b="b"/>
            <a:pathLst>
              <a:path w="142" h="456">
                <a:moveTo>
                  <a:pt x="67" y="130"/>
                </a:moveTo>
                <a:lnTo>
                  <a:pt x="94" y="231"/>
                </a:lnTo>
                <a:lnTo>
                  <a:pt x="131" y="395"/>
                </a:lnTo>
                <a:lnTo>
                  <a:pt x="142" y="456"/>
                </a:lnTo>
                <a:lnTo>
                  <a:pt x="122" y="385"/>
                </a:lnTo>
                <a:lnTo>
                  <a:pt x="116" y="350"/>
                </a:lnTo>
                <a:lnTo>
                  <a:pt x="99" y="302"/>
                </a:lnTo>
                <a:lnTo>
                  <a:pt x="78" y="227"/>
                </a:lnTo>
                <a:lnTo>
                  <a:pt x="56" y="178"/>
                </a:lnTo>
                <a:lnTo>
                  <a:pt x="52" y="156"/>
                </a:lnTo>
                <a:lnTo>
                  <a:pt x="34" y="122"/>
                </a:lnTo>
                <a:lnTo>
                  <a:pt x="25" y="97"/>
                </a:lnTo>
                <a:lnTo>
                  <a:pt x="0" y="53"/>
                </a:lnTo>
                <a:lnTo>
                  <a:pt x="16" y="0"/>
                </a:lnTo>
                <a:lnTo>
                  <a:pt x="47" y="73"/>
                </a:lnTo>
                <a:lnTo>
                  <a:pt x="67" y="130"/>
                </a:lnTo>
                <a:close/>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65" name=""/>
          <p:cNvSpPr/>
          <p:nvPr/>
        </p:nvSpPr>
        <p:spPr>
          <a:xfrm>
            <a:off x="4521240" y="1790640"/>
            <a:ext cx="30240" cy="30240"/>
          </a:xfrm>
          <a:custGeom>
            <a:avLst/>
            <a:gdLst/>
            <a:ahLst/>
            <a:rect l="l" t="t" r="r" b="b"/>
            <a:pathLst>
              <a:path w="19" h="37">
                <a:moveTo>
                  <a:pt x="12" y="2"/>
                </a:moveTo>
                <a:lnTo>
                  <a:pt x="12" y="13"/>
                </a:lnTo>
                <a:lnTo>
                  <a:pt x="19" y="27"/>
                </a:lnTo>
                <a:lnTo>
                  <a:pt x="8" y="37"/>
                </a:lnTo>
                <a:lnTo>
                  <a:pt x="0" y="2"/>
                </a:lnTo>
                <a:lnTo>
                  <a:pt x="3" y="0"/>
                </a:lnTo>
                <a:lnTo>
                  <a:pt x="8" y="2"/>
                </a:lnTo>
                <a:lnTo>
                  <a:pt x="12" y="2"/>
                </a:lnTo>
                <a:close/>
              </a:path>
            </a:pathLst>
          </a:custGeom>
          <a:solidFill>
            <a:srgbClr val="ffffff"/>
          </a:solidFill>
          <a:ln w="0">
            <a:noFill/>
          </a:ln>
        </p:spPr>
        <p:style>
          <a:lnRef idx="0"/>
          <a:fillRef idx="0"/>
          <a:effectRef idx="0"/>
          <a:fontRef idx="minor"/>
        </p:style>
        <p:txBody>
          <a:bodyPr lIns="90000" rIns="90000" tIns="-16560" bIns="-16560" anchor="t">
            <a:noAutofit/>
          </a:bodyPr>
          <a:p>
            <a:endParaRPr b="0" lang="en-US" sz="2400" spc="-1" strike="noStrike">
              <a:solidFill>
                <a:srgbClr val="ffff00"/>
              </a:solidFill>
              <a:latin typeface="Times New Roman"/>
            </a:endParaRPr>
          </a:p>
        </p:txBody>
      </p:sp>
      <p:sp>
        <p:nvSpPr>
          <p:cNvPr id="266" name=""/>
          <p:cNvSpPr/>
          <p:nvPr/>
        </p:nvSpPr>
        <p:spPr>
          <a:xfrm>
            <a:off x="4564080" y="1806480"/>
            <a:ext cx="14400" cy="7920"/>
          </a:xfrm>
          <a:custGeom>
            <a:avLst/>
            <a:gdLst/>
            <a:ahLst/>
            <a:rect l="l" t="t" r="r" b="b"/>
            <a:pathLst>
              <a:path w="9" h="10">
                <a:moveTo>
                  <a:pt x="9" y="4"/>
                </a:moveTo>
                <a:lnTo>
                  <a:pt x="9" y="10"/>
                </a:lnTo>
                <a:lnTo>
                  <a:pt x="0" y="10"/>
                </a:lnTo>
                <a:lnTo>
                  <a:pt x="3" y="0"/>
                </a:lnTo>
                <a:lnTo>
                  <a:pt x="8" y="0"/>
                </a:lnTo>
                <a:lnTo>
                  <a:pt x="9" y="4"/>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ffff00"/>
              </a:solidFill>
              <a:latin typeface="Times New Roman"/>
            </a:endParaRPr>
          </a:p>
        </p:txBody>
      </p:sp>
      <p:sp>
        <p:nvSpPr>
          <p:cNvPr id="267" name=""/>
          <p:cNvSpPr/>
          <p:nvPr/>
        </p:nvSpPr>
        <p:spPr>
          <a:xfrm>
            <a:off x="4543560" y="1830240"/>
            <a:ext cx="33120" cy="25560"/>
          </a:xfrm>
          <a:custGeom>
            <a:avLst/>
            <a:gdLst/>
            <a:ahLst/>
            <a:rect l="l" t="t" r="r" b="b"/>
            <a:pathLst>
              <a:path w="21" h="32">
                <a:moveTo>
                  <a:pt x="21" y="12"/>
                </a:moveTo>
                <a:lnTo>
                  <a:pt x="21" y="20"/>
                </a:lnTo>
                <a:lnTo>
                  <a:pt x="0" y="32"/>
                </a:lnTo>
                <a:lnTo>
                  <a:pt x="0" y="2"/>
                </a:lnTo>
                <a:lnTo>
                  <a:pt x="1" y="0"/>
                </a:lnTo>
                <a:lnTo>
                  <a:pt x="20" y="2"/>
                </a:lnTo>
                <a:lnTo>
                  <a:pt x="21" y="12"/>
                </a:lnTo>
                <a:close/>
              </a:path>
            </a:pathLst>
          </a:cu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ffff00"/>
              </a:solidFill>
              <a:latin typeface="Times New Roman"/>
            </a:endParaRPr>
          </a:p>
        </p:txBody>
      </p:sp>
      <p:sp>
        <p:nvSpPr>
          <p:cNvPr id="268" name=""/>
          <p:cNvSpPr/>
          <p:nvPr/>
        </p:nvSpPr>
        <p:spPr>
          <a:xfrm>
            <a:off x="3139920" y="1846440"/>
            <a:ext cx="654120" cy="1122120"/>
          </a:xfrm>
          <a:custGeom>
            <a:avLst/>
            <a:gdLst/>
            <a:ahLst/>
            <a:rect l="l" t="t" r="r" b="b"/>
            <a:pathLst>
              <a:path w="412" h="1413">
                <a:moveTo>
                  <a:pt x="257" y="59"/>
                </a:moveTo>
                <a:lnTo>
                  <a:pt x="294" y="162"/>
                </a:lnTo>
                <a:lnTo>
                  <a:pt x="298" y="186"/>
                </a:lnTo>
                <a:lnTo>
                  <a:pt x="318" y="257"/>
                </a:lnTo>
                <a:lnTo>
                  <a:pt x="347" y="338"/>
                </a:lnTo>
                <a:lnTo>
                  <a:pt x="359" y="397"/>
                </a:lnTo>
                <a:lnTo>
                  <a:pt x="357" y="399"/>
                </a:lnTo>
                <a:lnTo>
                  <a:pt x="363" y="415"/>
                </a:lnTo>
                <a:lnTo>
                  <a:pt x="379" y="488"/>
                </a:lnTo>
                <a:lnTo>
                  <a:pt x="378" y="490"/>
                </a:lnTo>
                <a:lnTo>
                  <a:pt x="400" y="591"/>
                </a:lnTo>
                <a:lnTo>
                  <a:pt x="412" y="700"/>
                </a:lnTo>
                <a:lnTo>
                  <a:pt x="412" y="721"/>
                </a:lnTo>
                <a:lnTo>
                  <a:pt x="406" y="761"/>
                </a:lnTo>
                <a:lnTo>
                  <a:pt x="384" y="814"/>
                </a:lnTo>
                <a:lnTo>
                  <a:pt x="376" y="824"/>
                </a:lnTo>
                <a:lnTo>
                  <a:pt x="363" y="907"/>
                </a:lnTo>
                <a:lnTo>
                  <a:pt x="359" y="907"/>
                </a:lnTo>
                <a:lnTo>
                  <a:pt x="357" y="909"/>
                </a:lnTo>
                <a:lnTo>
                  <a:pt x="355" y="901"/>
                </a:lnTo>
                <a:lnTo>
                  <a:pt x="342" y="895"/>
                </a:lnTo>
                <a:lnTo>
                  <a:pt x="331" y="895"/>
                </a:lnTo>
                <a:lnTo>
                  <a:pt x="300" y="882"/>
                </a:lnTo>
                <a:lnTo>
                  <a:pt x="339" y="887"/>
                </a:lnTo>
                <a:lnTo>
                  <a:pt x="346" y="887"/>
                </a:lnTo>
                <a:lnTo>
                  <a:pt x="348" y="882"/>
                </a:lnTo>
                <a:lnTo>
                  <a:pt x="348" y="876"/>
                </a:lnTo>
                <a:lnTo>
                  <a:pt x="338" y="866"/>
                </a:lnTo>
                <a:lnTo>
                  <a:pt x="229" y="860"/>
                </a:lnTo>
                <a:lnTo>
                  <a:pt x="149" y="870"/>
                </a:lnTo>
                <a:lnTo>
                  <a:pt x="123" y="884"/>
                </a:lnTo>
                <a:lnTo>
                  <a:pt x="119" y="884"/>
                </a:lnTo>
                <a:lnTo>
                  <a:pt x="126" y="872"/>
                </a:lnTo>
                <a:lnTo>
                  <a:pt x="138" y="866"/>
                </a:lnTo>
                <a:lnTo>
                  <a:pt x="193" y="808"/>
                </a:lnTo>
                <a:lnTo>
                  <a:pt x="234" y="783"/>
                </a:lnTo>
                <a:lnTo>
                  <a:pt x="256" y="779"/>
                </a:lnTo>
                <a:lnTo>
                  <a:pt x="270" y="765"/>
                </a:lnTo>
                <a:lnTo>
                  <a:pt x="273" y="755"/>
                </a:lnTo>
                <a:lnTo>
                  <a:pt x="270" y="751"/>
                </a:lnTo>
                <a:lnTo>
                  <a:pt x="240" y="759"/>
                </a:lnTo>
                <a:lnTo>
                  <a:pt x="234" y="765"/>
                </a:lnTo>
                <a:lnTo>
                  <a:pt x="197" y="773"/>
                </a:lnTo>
                <a:lnTo>
                  <a:pt x="177" y="787"/>
                </a:lnTo>
                <a:lnTo>
                  <a:pt x="136" y="806"/>
                </a:lnTo>
                <a:lnTo>
                  <a:pt x="115" y="824"/>
                </a:lnTo>
                <a:lnTo>
                  <a:pt x="112" y="824"/>
                </a:lnTo>
                <a:lnTo>
                  <a:pt x="118" y="812"/>
                </a:lnTo>
                <a:lnTo>
                  <a:pt x="114" y="802"/>
                </a:lnTo>
                <a:lnTo>
                  <a:pt x="124" y="779"/>
                </a:lnTo>
                <a:lnTo>
                  <a:pt x="130" y="751"/>
                </a:lnTo>
                <a:lnTo>
                  <a:pt x="182" y="625"/>
                </a:lnTo>
                <a:lnTo>
                  <a:pt x="236" y="492"/>
                </a:lnTo>
                <a:lnTo>
                  <a:pt x="295" y="368"/>
                </a:lnTo>
                <a:lnTo>
                  <a:pt x="300" y="366"/>
                </a:lnTo>
                <a:lnTo>
                  <a:pt x="304" y="354"/>
                </a:lnTo>
                <a:lnTo>
                  <a:pt x="302" y="348"/>
                </a:lnTo>
                <a:lnTo>
                  <a:pt x="295" y="348"/>
                </a:lnTo>
                <a:lnTo>
                  <a:pt x="213" y="524"/>
                </a:lnTo>
                <a:lnTo>
                  <a:pt x="112" y="775"/>
                </a:lnTo>
                <a:lnTo>
                  <a:pt x="93" y="838"/>
                </a:lnTo>
                <a:lnTo>
                  <a:pt x="92" y="860"/>
                </a:lnTo>
                <a:lnTo>
                  <a:pt x="95" y="864"/>
                </a:lnTo>
                <a:lnTo>
                  <a:pt x="103" y="862"/>
                </a:lnTo>
                <a:lnTo>
                  <a:pt x="146" y="818"/>
                </a:lnTo>
                <a:lnTo>
                  <a:pt x="188" y="799"/>
                </a:lnTo>
                <a:lnTo>
                  <a:pt x="191" y="799"/>
                </a:lnTo>
                <a:lnTo>
                  <a:pt x="106" y="882"/>
                </a:lnTo>
                <a:lnTo>
                  <a:pt x="92" y="901"/>
                </a:lnTo>
                <a:lnTo>
                  <a:pt x="88" y="907"/>
                </a:lnTo>
                <a:lnTo>
                  <a:pt x="88" y="917"/>
                </a:lnTo>
                <a:lnTo>
                  <a:pt x="109" y="917"/>
                </a:lnTo>
                <a:lnTo>
                  <a:pt x="183" y="895"/>
                </a:lnTo>
                <a:lnTo>
                  <a:pt x="268" y="895"/>
                </a:lnTo>
                <a:lnTo>
                  <a:pt x="293" y="899"/>
                </a:lnTo>
                <a:lnTo>
                  <a:pt x="331" y="913"/>
                </a:lnTo>
                <a:lnTo>
                  <a:pt x="332" y="913"/>
                </a:lnTo>
                <a:lnTo>
                  <a:pt x="332" y="933"/>
                </a:lnTo>
                <a:lnTo>
                  <a:pt x="331" y="949"/>
                </a:lnTo>
                <a:lnTo>
                  <a:pt x="331" y="957"/>
                </a:lnTo>
                <a:lnTo>
                  <a:pt x="324" y="957"/>
                </a:lnTo>
                <a:lnTo>
                  <a:pt x="318" y="969"/>
                </a:lnTo>
                <a:lnTo>
                  <a:pt x="353" y="1065"/>
                </a:lnTo>
                <a:lnTo>
                  <a:pt x="359" y="1095"/>
                </a:lnTo>
                <a:lnTo>
                  <a:pt x="359" y="1101"/>
                </a:lnTo>
                <a:lnTo>
                  <a:pt x="330" y="1109"/>
                </a:lnTo>
                <a:lnTo>
                  <a:pt x="261" y="1144"/>
                </a:lnTo>
                <a:lnTo>
                  <a:pt x="231" y="1184"/>
                </a:lnTo>
                <a:lnTo>
                  <a:pt x="214" y="1196"/>
                </a:lnTo>
                <a:lnTo>
                  <a:pt x="197" y="1210"/>
                </a:lnTo>
                <a:lnTo>
                  <a:pt x="198" y="1218"/>
                </a:lnTo>
                <a:lnTo>
                  <a:pt x="166" y="1267"/>
                </a:lnTo>
                <a:lnTo>
                  <a:pt x="152" y="1303"/>
                </a:lnTo>
                <a:lnTo>
                  <a:pt x="141" y="1311"/>
                </a:lnTo>
                <a:lnTo>
                  <a:pt x="112" y="1382"/>
                </a:lnTo>
                <a:lnTo>
                  <a:pt x="103" y="1413"/>
                </a:lnTo>
                <a:lnTo>
                  <a:pt x="59" y="1265"/>
                </a:lnTo>
                <a:lnTo>
                  <a:pt x="37" y="1154"/>
                </a:lnTo>
                <a:lnTo>
                  <a:pt x="36" y="1152"/>
                </a:lnTo>
                <a:lnTo>
                  <a:pt x="17" y="1073"/>
                </a:lnTo>
                <a:lnTo>
                  <a:pt x="2" y="996"/>
                </a:lnTo>
                <a:lnTo>
                  <a:pt x="0" y="943"/>
                </a:lnTo>
                <a:lnTo>
                  <a:pt x="2" y="927"/>
                </a:lnTo>
                <a:lnTo>
                  <a:pt x="7" y="913"/>
                </a:lnTo>
                <a:lnTo>
                  <a:pt x="7" y="884"/>
                </a:lnTo>
                <a:lnTo>
                  <a:pt x="22" y="789"/>
                </a:lnTo>
                <a:lnTo>
                  <a:pt x="37" y="700"/>
                </a:lnTo>
                <a:lnTo>
                  <a:pt x="74" y="575"/>
                </a:lnTo>
                <a:lnTo>
                  <a:pt x="91" y="532"/>
                </a:lnTo>
                <a:lnTo>
                  <a:pt x="96" y="494"/>
                </a:lnTo>
                <a:lnTo>
                  <a:pt x="115" y="356"/>
                </a:lnTo>
                <a:lnTo>
                  <a:pt x="125" y="328"/>
                </a:lnTo>
                <a:lnTo>
                  <a:pt x="125" y="316"/>
                </a:lnTo>
                <a:lnTo>
                  <a:pt x="130" y="310"/>
                </a:lnTo>
                <a:lnTo>
                  <a:pt x="130" y="300"/>
                </a:lnTo>
                <a:lnTo>
                  <a:pt x="138" y="283"/>
                </a:lnTo>
                <a:lnTo>
                  <a:pt x="140" y="261"/>
                </a:lnTo>
                <a:lnTo>
                  <a:pt x="176" y="142"/>
                </a:lnTo>
                <a:lnTo>
                  <a:pt x="182" y="111"/>
                </a:lnTo>
                <a:lnTo>
                  <a:pt x="190" y="95"/>
                </a:lnTo>
                <a:lnTo>
                  <a:pt x="197" y="65"/>
                </a:lnTo>
                <a:lnTo>
                  <a:pt x="220" y="0"/>
                </a:lnTo>
                <a:lnTo>
                  <a:pt x="236" y="18"/>
                </a:lnTo>
                <a:lnTo>
                  <a:pt x="257" y="59"/>
                </a:lnTo>
                <a:close/>
              </a:path>
            </a:pathLst>
          </a:custGeom>
          <a:solidFill>
            <a:srgbClr val="ff7272"/>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69" name=""/>
          <p:cNvSpPr/>
          <p:nvPr/>
        </p:nvSpPr>
        <p:spPr>
          <a:xfrm>
            <a:off x="4543560" y="1860480"/>
            <a:ext cx="34920" cy="31680"/>
          </a:xfrm>
          <a:custGeom>
            <a:avLst/>
            <a:gdLst/>
            <a:ahLst/>
            <a:rect l="l" t="t" r="r" b="b"/>
            <a:pathLst>
              <a:path w="22" h="39">
                <a:moveTo>
                  <a:pt x="22" y="27"/>
                </a:moveTo>
                <a:lnTo>
                  <a:pt x="22" y="35"/>
                </a:lnTo>
                <a:lnTo>
                  <a:pt x="2" y="39"/>
                </a:lnTo>
                <a:lnTo>
                  <a:pt x="0" y="13"/>
                </a:lnTo>
                <a:lnTo>
                  <a:pt x="0" y="10"/>
                </a:lnTo>
                <a:lnTo>
                  <a:pt x="13" y="0"/>
                </a:lnTo>
                <a:lnTo>
                  <a:pt x="21" y="0"/>
                </a:lnTo>
                <a:lnTo>
                  <a:pt x="22" y="27"/>
                </a:lnTo>
                <a:close/>
              </a:path>
            </a:pathLst>
          </a:custGeom>
          <a:solidFill>
            <a:srgbClr val="ffffff"/>
          </a:solidFill>
          <a:ln w="0">
            <a:noFill/>
          </a:ln>
        </p:spPr>
        <p:style>
          <a:lnRef idx="0"/>
          <a:fillRef idx="0"/>
          <a:effectRef idx="0"/>
          <a:fontRef idx="minor"/>
        </p:style>
        <p:txBody>
          <a:bodyPr lIns="90000" rIns="90000" tIns="-15120" bIns="-15120" anchor="t">
            <a:noAutofit/>
          </a:bodyPr>
          <a:p>
            <a:endParaRPr b="0" lang="en-US" sz="2400" spc="-1" strike="noStrike">
              <a:solidFill>
                <a:srgbClr val="ffff00"/>
              </a:solidFill>
              <a:latin typeface="Times New Roman"/>
            </a:endParaRPr>
          </a:p>
        </p:txBody>
      </p:sp>
      <p:sp>
        <p:nvSpPr>
          <p:cNvPr id="270" name=""/>
          <p:cNvSpPr/>
          <p:nvPr/>
        </p:nvSpPr>
        <p:spPr>
          <a:xfrm>
            <a:off x="4552920" y="1903320"/>
            <a:ext cx="25560" cy="20880"/>
          </a:xfrm>
          <a:custGeom>
            <a:avLst/>
            <a:gdLst/>
            <a:ahLst/>
            <a:rect l="l" t="t" r="r" b="b"/>
            <a:pathLst>
              <a:path w="16" h="26">
                <a:moveTo>
                  <a:pt x="16" y="10"/>
                </a:moveTo>
                <a:lnTo>
                  <a:pt x="16" y="18"/>
                </a:lnTo>
                <a:lnTo>
                  <a:pt x="5" y="26"/>
                </a:lnTo>
                <a:lnTo>
                  <a:pt x="0" y="22"/>
                </a:lnTo>
                <a:lnTo>
                  <a:pt x="1" y="6"/>
                </a:lnTo>
                <a:lnTo>
                  <a:pt x="6" y="0"/>
                </a:lnTo>
                <a:lnTo>
                  <a:pt x="15" y="0"/>
                </a:lnTo>
                <a:lnTo>
                  <a:pt x="16" y="10"/>
                </a:lnTo>
                <a:close/>
              </a:path>
            </a:pathLst>
          </a:custGeom>
          <a:solidFill>
            <a:srgbClr val="ffffff"/>
          </a:solidFill>
          <a:ln w="0">
            <a:noFill/>
          </a:ln>
        </p:spPr>
        <p:style>
          <a:lnRef idx="0"/>
          <a:fillRef idx="0"/>
          <a:effectRef idx="0"/>
          <a:fontRef idx="minor"/>
        </p:style>
        <p:txBody>
          <a:bodyPr lIns="90000" rIns="90000" tIns="-25920" bIns="-25920" anchor="t">
            <a:noAutofit/>
          </a:bodyPr>
          <a:p>
            <a:endParaRPr b="0" lang="en-US" sz="2400" spc="-1" strike="noStrike">
              <a:solidFill>
                <a:srgbClr val="ffff00"/>
              </a:solidFill>
              <a:latin typeface="Times New Roman"/>
            </a:endParaRPr>
          </a:p>
        </p:txBody>
      </p:sp>
      <p:sp>
        <p:nvSpPr>
          <p:cNvPr id="271" name=""/>
          <p:cNvSpPr/>
          <p:nvPr/>
        </p:nvSpPr>
        <p:spPr>
          <a:xfrm>
            <a:off x="4552920" y="1930320"/>
            <a:ext cx="23760" cy="46080"/>
          </a:xfrm>
          <a:custGeom>
            <a:avLst/>
            <a:gdLst/>
            <a:ahLst/>
            <a:rect l="l" t="t" r="r" b="b"/>
            <a:pathLst>
              <a:path w="15" h="57">
                <a:moveTo>
                  <a:pt x="6" y="57"/>
                </a:moveTo>
                <a:lnTo>
                  <a:pt x="5" y="57"/>
                </a:lnTo>
                <a:lnTo>
                  <a:pt x="0" y="9"/>
                </a:lnTo>
                <a:lnTo>
                  <a:pt x="15" y="0"/>
                </a:lnTo>
                <a:lnTo>
                  <a:pt x="15" y="49"/>
                </a:lnTo>
                <a:lnTo>
                  <a:pt x="6" y="57"/>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ffff00"/>
              </a:solidFill>
              <a:latin typeface="Times New Roman"/>
            </a:endParaRPr>
          </a:p>
        </p:txBody>
      </p:sp>
      <p:sp>
        <p:nvSpPr>
          <p:cNvPr id="272" name=""/>
          <p:cNvSpPr/>
          <p:nvPr/>
        </p:nvSpPr>
        <p:spPr>
          <a:xfrm>
            <a:off x="3747960" y="1954080"/>
            <a:ext cx="1447920" cy="579600"/>
          </a:xfrm>
          <a:custGeom>
            <a:avLst/>
            <a:gdLst/>
            <a:ahLst/>
            <a:rect l="l" t="t" r="r" b="b"/>
            <a:pathLst>
              <a:path w="912" h="730">
                <a:moveTo>
                  <a:pt x="838" y="46"/>
                </a:moveTo>
                <a:lnTo>
                  <a:pt x="894" y="75"/>
                </a:lnTo>
                <a:lnTo>
                  <a:pt x="910" y="93"/>
                </a:lnTo>
                <a:lnTo>
                  <a:pt x="911" y="91"/>
                </a:lnTo>
                <a:lnTo>
                  <a:pt x="912" y="91"/>
                </a:lnTo>
                <a:lnTo>
                  <a:pt x="912" y="125"/>
                </a:lnTo>
                <a:lnTo>
                  <a:pt x="910" y="158"/>
                </a:lnTo>
                <a:lnTo>
                  <a:pt x="905" y="340"/>
                </a:lnTo>
                <a:lnTo>
                  <a:pt x="903" y="368"/>
                </a:lnTo>
                <a:lnTo>
                  <a:pt x="904" y="390"/>
                </a:lnTo>
                <a:lnTo>
                  <a:pt x="903" y="390"/>
                </a:lnTo>
                <a:lnTo>
                  <a:pt x="896" y="439"/>
                </a:lnTo>
                <a:lnTo>
                  <a:pt x="896" y="455"/>
                </a:lnTo>
                <a:lnTo>
                  <a:pt x="888" y="540"/>
                </a:lnTo>
                <a:lnTo>
                  <a:pt x="883" y="546"/>
                </a:lnTo>
                <a:lnTo>
                  <a:pt x="883" y="583"/>
                </a:lnTo>
                <a:lnTo>
                  <a:pt x="875" y="562"/>
                </a:lnTo>
                <a:lnTo>
                  <a:pt x="868" y="552"/>
                </a:lnTo>
                <a:lnTo>
                  <a:pt x="871" y="548"/>
                </a:lnTo>
                <a:lnTo>
                  <a:pt x="867" y="538"/>
                </a:lnTo>
                <a:lnTo>
                  <a:pt x="838" y="510"/>
                </a:lnTo>
                <a:lnTo>
                  <a:pt x="827" y="510"/>
                </a:lnTo>
                <a:lnTo>
                  <a:pt x="834" y="467"/>
                </a:lnTo>
                <a:lnTo>
                  <a:pt x="831" y="453"/>
                </a:lnTo>
                <a:lnTo>
                  <a:pt x="844" y="356"/>
                </a:lnTo>
                <a:lnTo>
                  <a:pt x="853" y="328"/>
                </a:lnTo>
                <a:lnTo>
                  <a:pt x="850" y="320"/>
                </a:lnTo>
                <a:lnTo>
                  <a:pt x="847" y="320"/>
                </a:lnTo>
                <a:lnTo>
                  <a:pt x="842" y="336"/>
                </a:lnTo>
                <a:lnTo>
                  <a:pt x="836" y="346"/>
                </a:lnTo>
                <a:lnTo>
                  <a:pt x="820" y="479"/>
                </a:lnTo>
                <a:lnTo>
                  <a:pt x="814" y="520"/>
                </a:lnTo>
                <a:lnTo>
                  <a:pt x="808" y="526"/>
                </a:lnTo>
                <a:lnTo>
                  <a:pt x="806" y="538"/>
                </a:lnTo>
                <a:lnTo>
                  <a:pt x="768" y="534"/>
                </a:lnTo>
                <a:lnTo>
                  <a:pt x="693" y="520"/>
                </a:lnTo>
                <a:lnTo>
                  <a:pt x="491" y="520"/>
                </a:lnTo>
                <a:lnTo>
                  <a:pt x="398" y="528"/>
                </a:lnTo>
                <a:lnTo>
                  <a:pt x="328" y="548"/>
                </a:lnTo>
                <a:lnTo>
                  <a:pt x="252" y="577"/>
                </a:lnTo>
                <a:lnTo>
                  <a:pt x="212" y="599"/>
                </a:lnTo>
                <a:lnTo>
                  <a:pt x="182" y="619"/>
                </a:lnTo>
                <a:lnTo>
                  <a:pt x="133" y="653"/>
                </a:lnTo>
                <a:lnTo>
                  <a:pt x="71" y="690"/>
                </a:lnTo>
                <a:lnTo>
                  <a:pt x="31" y="726"/>
                </a:lnTo>
                <a:lnTo>
                  <a:pt x="31" y="728"/>
                </a:lnTo>
                <a:lnTo>
                  <a:pt x="29" y="730"/>
                </a:lnTo>
                <a:lnTo>
                  <a:pt x="23" y="704"/>
                </a:lnTo>
                <a:lnTo>
                  <a:pt x="21" y="657"/>
                </a:lnTo>
                <a:lnTo>
                  <a:pt x="38" y="611"/>
                </a:lnTo>
                <a:lnTo>
                  <a:pt x="34" y="593"/>
                </a:lnTo>
                <a:lnTo>
                  <a:pt x="38" y="585"/>
                </a:lnTo>
                <a:lnTo>
                  <a:pt x="38" y="572"/>
                </a:lnTo>
                <a:lnTo>
                  <a:pt x="43" y="564"/>
                </a:lnTo>
                <a:lnTo>
                  <a:pt x="31" y="508"/>
                </a:lnTo>
                <a:lnTo>
                  <a:pt x="31" y="489"/>
                </a:lnTo>
                <a:lnTo>
                  <a:pt x="17" y="392"/>
                </a:lnTo>
                <a:lnTo>
                  <a:pt x="12" y="362"/>
                </a:lnTo>
                <a:lnTo>
                  <a:pt x="9" y="344"/>
                </a:lnTo>
                <a:lnTo>
                  <a:pt x="8" y="320"/>
                </a:lnTo>
                <a:lnTo>
                  <a:pt x="1" y="307"/>
                </a:lnTo>
                <a:lnTo>
                  <a:pt x="3" y="299"/>
                </a:lnTo>
                <a:lnTo>
                  <a:pt x="0" y="295"/>
                </a:lnTo>
                <a:lnTo>
                  <a:pt x="1" y="281"/>
                </a:lnTo>
                <a:lnTo>
                  <a:pt x="39" y="241"/>
                </a:lnTo>
                <a:lnTo>
                  <a:pt x="166" y="156"/>
                </a:lnTo>
                <a:lnTo>
                  <a:pt x="270" y="101"/>
                </a:lnTo>
                <a:lnTo>
                  <a:pt x="425" y="52"/>
                </a:lnTo>
                <a:lnTo>
                  <a:pt x="455" y="44"/>
                </a:lnTo>
                <a:lnTo>
                  <a:pt x="478" y="48"/>
                </a:lnTo>
                <a:lnTo>
                  <a:pt x="501" y="44"/>
                </a:lnTo>
                <a:lnTo>
                  <a:pt x="508" y="147"/>
                </a:lnTo>
                <a:lnTo>
                  <a:pt x="508" y="186"/>
                </a:lnTo>
                <a:lnTo>
                  <a:pt x="512" y="277"/>
                </a:lnTo>
                <a:lnTo>
                  <a:pt x="516" y="283"/>
                </a:lnTo>
                <a:lnTo>
                  <a:pt x="545" y="273"/>
                </a:lnTo>
                <a:lnTo>
                  <a:pt x="548" y="251"/>
                </a:lnTo>
                <a:lnTo>
                  <a:pt x="542" y="166"/>
                </a:lnTo>
                <a:lnTo>
                  <a:pt x="544" y="115"/>
                </a:lnTo>
                <a:lnTo>
                  <a:pt x="537" y="87"/>
                </a:lnTo>
                <a:lnTo>
                  <a:pt x="535" y="22"/>
                </a:lnTo>
                <a:lnTo>
                  <a:pt x="604" y="2"/>
                </a:lnTo>
                <a:lnTo>
                  <a:pt x="635" y="0"/>
                </a:lnTo>
                <a:lnTo>
                  <a:pt x="730" y="8"/>
                </a:lnTo>
                <a:lnTo>
                  <a:pt x="838" y="46"/>
                </a:lnTo>
                <a:close/>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73" name=""/>
          <p:cNvSpPr/>
          <p:nvPr/>
        </p:nvSpPr>
        <p:spPr>
          <a:xfrm>
            <a:off x="4562640" y="1990800"/>
            <a:ext cx="21960" cy="28440"/>
          </a:xfrm>
          <a:custGeom>
            <a:avLst/>
            <a:gdLst/>
            <a:ahLst/>
            <a:rect l="l" t="t" r="r" b="b"/>
            <a:pathLst>
              <a:path w="14" h="35">
                <a:moveTo>
                  <a:pt x="14" y="27"/>
                </a:moveTo>
                <a:lnTo>
                  <a:pt x="14" y="35"/>
                </a:lnTo>
                <a:lnTo>
                  <a:pt x="5" y="33"/>
                </a:lnTo>
                <a:lnTo>
                  <a:pt x="0" y="19"/>
                </a:lnTo>
                <a:lnTo>
                  <a:pt x="0" y="2"/>
                </a:lnTo>
                <a:lnTo>
                  <a:pt x="4" y="0"/>
                </a:lnTo>
                <a:lnTo>
                  <a:pt x="11" y="0"/>
                </a:lnTo>
                <a:lnTo>
                  <a:pt x="14" y="27"/>
                </a:lnTo>
                <a:close/>
              </a:path>
            </a:pathLst>
          </a:cu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ffff00"/>
              </a:solidFill>
              <a:latin typeface="Times New Roman"/>
            </a:endParaRPr>
          </a:p>
        </p:txBody>
      </p:sp>
      <p:sp>
        <p:nvSpPr>
          <p:cNvPr id="274" name=""/>
          <p:cNvSpPr/>
          <p:nvPr/>
        </p:nvSpPr>
        <p:spPr>
          <a:xfrm>
            <a:off x="4567320" y="2030400"/>
            <a:ext cx="22320" cy="33480"/>
          </a:xfrm>
          <a:custGeom>
            <a:avLst/>
            <a:gdLst/>
            <a:ahLst/>
            <a:rect l="l" t="t" r="r" b="b"/>
            <a:pathLst>
              <a:path w="14" h="44">
                <a:moveTo>
                  <a:pt x="13" y="14"/>
                </a:moveTo>
                <a:lnTo>
                  <a:pt x="13" y="38"/>
                </a:lnTo>
                <a:lnTo>
                  <a:pt x="14" y="40"/>
                </a:lnTo>
                <a:lnTo>
                  <a:pt x="11" y="44"/>
                </a:lnTo>
                <a:lnTo>
                  <a:pt x="1" y="42"/>
                </a:lnTo>
                <a:lnTo>
                  <a:pt x="0" y="12"/>
                </a:lnTo>
                <a:lnTo>
                  <a:pt x="0" y="4"/>
                </a:lnTo>
                <a:lnTo>
                  <a:pt x="5" y="0"/>
                </a:lnTo>
                <a:lnTo>
                  <a:pt x="8" y="0"/>
                </a:lnTo>
                <a:lnTo>
                  <a:pt x="13" y="14"/>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ffff00"/>
              </a:solidFill>
              <a:latin typeface="Times New Roman"/>
            </a:endParaRPr>
          </a:p>
        </p:txBody>
      </p:sp>
      <p:sp>
        <p:nvSpPr>
          <p:cNvPr id="275" name=""/>
          <p:cNvSpPr/>
          <p:nvPr/>
        </p:nvSpPr>
        <p:spPr>
          <a:xfrm>
            <a:off x="4570560" y="2077920"/>
            <a:ext cx="23760" cy="32040"/>
          </a:xfrm>
          <a:custGeom>
            <a:avLst/>
            <a:gdLst/>
            <a:ahLst/>
            <a:rect l="l" t="t" r="r" b="b"/>
            <a:pathLst>
              <a:path w="15" h="40">
                <a:moveTo>
                  <a:pt x="14" y="2"/>
                </a:moveTo>
                <a:lnTo>
                  <a:pt x="15" y="36"/>
                </a:lnTo>
                <a:lnTo>
                  <a:pt x="15" y="40"/>
                </a:lnTo>
                <a:lnTo>
                  <a:pt x="9" y="38"/>
                </a:lnTo>
                <a:lnTo>
                  <a:pt x="4" y="38"/>
                </a:lnTo>
                <a:lnTo>
                  <a:pt x="0" y="12"/>
                </a:lnTo>
                <a:lnTo>
                  <a:pt x="0" y="2"/>
                </a:lnTo>
                <a:lnTo>
                  <a:pt x="5" y="0"/>
                </a:lnTo>
                <a:lnTo>
                  <a:pt x="10" y="2"/>
                </a:lnTo>
                <a:lnTo>
                  <a:pt x="14" y="2"/>
                </a:lnTo>
                <a:close/>
              </a:path>
            </a:pathLst>
          </a:custGeom>
          <a:solidFill>
            <a:srgbClr val="ffffff"/>
          </a:solidFill>
          <a:ln w="0">
            <a:noFill/>
          </a:ln>
        </p:spPr>
        <p:style>
          <a:lnRef idx="0"/>
          <a:fillRef idx="0"/>
          <a:effectRef idx="0"/>
          <a:fontRef idx="minor"/>
        </p:style>
        <p:txBody>
          <a:bodyPr lIns="90000" rIns="90000" tIns="-14760" bIns="-14760" anchor="t">
            <a:noAutofit/>
          </a:bodyPr>
          <a:p>
            <a:endParaRPr b="0" lang="en-US" sz="2400" spc="-1" strike="noStrike">
              <a:solidFill>
                <a:srgbClr val="ffff00"/>
              </a:solidFill>
              <a:latin typeface="Times New Roman"/>
            </a:endParaRPr>
          </a:p>
        </p:txBody>
      </p:sp>
      <p:sp>
        <p:nvSpPr>
          <p:cNvPr id="276" name=""/>
          <p:cNvSpPr/>
          <p:nvPr/>
        </p:nvSpPr>
        <p:spPr>
          <a:xfrm>
            <a:off x="4576680" y="2122560"/>
            <a:ext cx="20880" cy="38160"/>
          </a:xfrm>
          <a:custGeom>
            <a:avLst/>
            <a:gdLst/>
            <a:ahLst/>
            <a:rect l="l" t="t" r="r" b="b"/>
            <a:pathLst>
              <a:path w="13" h="47">
                <a:moveTo>
                  <a:pt x="13" y="8"/>
                </a:moveTo>
                <a:lnTo>
                  <a:pt x="13" y="43"/>
                </a:lnTo>
                <a:lnTo>
                  <a:pt x="0" y="47"/>
                </a:lnTo>
                <a:lnTo>
                  <a:pt x="0" y="2"/>
                </a:lnTo>
                <a:lnTo>
                  <a:pt x="8" y="0"/>
                </a:lnTo>
                <a:lnTo>
                  <a:pt x="10" y="0"/>
                </a:lnTo>
                <a:lnTo>
                  <a:pt x="13" y="8"/>
                </a:lnTo>
                <a:close/>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00"/>
              </a:solidFill>
              <a:latin typeface="Times New Roman"/>
            </a:endParaRPr>
          </a:p>
        </p:txBody>
      </p:sp>
      <p:sp>
        <p:nvSpPr>
          <p:cNvPr id="277" name=""/>
          <p:cNvSpPr/>
          <p:nvPr/>
        </p:nvSpPr>
        <p:spPr>
          <a:xfrm>
            <a:off x="4637160" y="2157480"/>
            <a:ext cx="1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00"/>
              </a:solidFill>
              <a:latin typeface="Times New Roman"/>
            </a:endParaRPr>
          </a:p>
        </p:txBody>
      </p:sp>
      <p:sp>
        <p:nvSpPr>
          <p:cNvPr id="278" name=""/>
          <p:cNvSpPr/>
          <p:nvPr/>
        </p:nvSpPr>
        <p:spPr>
          <a:xfrm>
            <a:off x="3794040" y="2373480"/>
            <a:ext cx="1538280" cy="1512720"/>
          </a:xfrm>
          <a:custGeom>
            <a:avLst/>
            <a:gdLst/>
            <a:ahLst/>
            <a:rect l="l" t="t" r="r" b="b"/>
            <a:pathLst>
              <a:path w="969" h="1906">
                <a:moveTo>
                  <a:pt x="839" y="42"/>
                </a:moveTo>
                <a:lnTo>
                  <a:pt x="850" y="73"/>
                </a:lnTo>
                <a:lnTo>
                  <a:pt x="849" y="87"/>
                </a:lnTo>
                <a:lnTo>
                  <a:pt x="849" y="95"/>
                </a:lnTo>
                <a:lnTo>
                  <a:pt x="852" y="99"/>
                </a:lnTo>
                <a:lnTo>
                  <a:pt x="846" y="123"/>
                </a:lnTo>
                <a:lnTo>
                  <a:pt x="839" y="135"/>
                </a:lnTo>
                <a:lnTo>
                  <a:pt x="836" y="216"/>
                </a:lnTo>
                <a:lnTo>
                  <a:pt x="830" y="291"/>
                </a:lnTo>
                <a:lnTo>
                  <a:pt x="829" y="342"/>
                </a:lnTo>
                <a:lnTo>
                  <a:pt x="815" y="498"/>
                </a:lnTo>
                <a:lnTo>
                  <a:pt x="813" y="506"/>
                </a:lnTo>
                <a:lnTo>
                  <a:pt x="808" y="601"/>
                </a:lnTo>
                <a:lnTo>
                  <a:pt x="805" y="641"/>
                </a:lnTo>
                <a:lnTo>
                  <a:pt x="802" y="650"/>
                </a:lnTo>
                <a:lnTo>
                  <a:pt x="801" y="650"/>
                </a:lnTo>
                <a:lnTo>
                  <a:pt x="779" y="664"/>
                </a:lnTo>
                <a:lnTo>
                  <a:pt x="777" y="672"/>
                </a:lnTo>
                <a:lnTo>
                  <a:pt x="771" y="676"/>
                </a:lnTo>
                <a:lnTo>
                  <a:pt x="737" y="739"/>
                </a:lnTo>
                <a:lnTo>
                  <a:pt x="693" y="805"/>
                </a:lnTo>
                <a:lnTo>
                  <a:pt x="657" y="834"/>
                </a:lnTo>
                <a:lnTo>
                  <a:pt x="643" y="858"/>
                </a:lnTo>
                <a:lnTo>
                  <a:pt x="649" y="870"/>
                </a:lnTo>
                <a:lnTo>
                  <a:pt x="648" y="878"/>
                </a:lnTo>
                <a:lnTo>
                  <a:pt x="648" y="884"/>
                </a:lnTo>
                <a:lnTo>
                  <a:pt x="663" y="898"/>
                </a:lnTo>
                <a:lnTo>
                  <a:pt x="687" y="890"/>
                </a:lnTo>
                <a:lnTo>
                  <a:pt x="742" y="858"/>
                </a:lnTo>
                <a:lnTo>
                  <a:pt x="771" y="842"/>
                </a:lnTo>
                <a:lnTo>
                  <a:pt x="787" y="846"/>
                </a:lnTo>
                <a:lnTo>
                  <a:pt x="802" y="878"/>
                </a:lnTo>
                <a:lnTo>
                  <a:pt x="822" y="941"/>
                </a:lnTo>
                <a:lnTo>
                  <a:pt x="833" y="973"/>
                </a:lnTo>
                <a:lnTo>
                  <a:pt x="850" y="1072"/>
                </a:lnTo>
                <a:lnTo>
                  <a:pt x="854" y="1087"/>
                </a:lnTo>
                <a:lnTo>
                  <a:pt x="854" y="1099"/>
                </a:lnTo>
                <a:lnTo>
                  <a:pt x="860" y="1109"/>
                </a:lnTo>
                <a:lnTo>
                  <a:pt x="869" y="1206"/>
                </a:lnTo>
                <a:lnTo>
                  <a:pt x="881" y="1285"/>
                </a:lnTo>
                <a:lnTo>
                  <a:pt x="883" y="1287"/>
                </a:lnTo>
                <a:lnTo>
                  <a:pt x="893" y="1295"/>
                </a:lnTo>
                <a:lnTo>
                  <a:pt x="900" y="1293"/>
                </a:lnTo>
                <a:lnTo>
                  <a:pt x="911" y="1277"/>
                </a:lnTo>
                <a:lnTo>
                  <a:pt x="911" y="1275"/>
                </a:lnTo>
                <a:lnTo>
                  <a:pt x="916" y="1267"/>
                </a:lnTo>
                <a:lnTo>
                  <a:pt x="911" y="1210"/>
                </a:lnTo>
                <a:lnTo>
                  <a:pt x="909" y="1184"/>
                </a:lnTo>
                <a:lnTo>
                  <a:pt x="906" y="1153"/>
                </a:lnTo>
                <a:lnTo>
                  <a:pt x="903" y="1147"/>
                </a:lnTo>
                <a:lnTo>
                  <a:pt x="904" y="1127"/>
                </a:lnTo>
                <a:lnTo>
                  <a:pt x="904" y="1121"/>
                </a:lnTo>
                <a:lnTo>
                  <a:pt x="902" y="1117"/>
                </a:lnTo>
                <a:lnTo>
                  <a:pt x="903" y="1097"/>
                </a:lnTo>
                <a:lnTo>
                  <a:pt x="900" y="1081"/>
                </a:lnTo>
                <a:lnTo>
                  <a:pt x="900" y="1058"/>
                </a:lnTo>
                <a:lnTo>
                  <a:pt x="904" y="1046"/>
                </a:lnTo>
                <a:lnTo>
                  <a:pt x="906" y="1046"/>
                </a:lnTo>
                <a:lnTo>
                  <a:pt x="909" y="1109"/>
                </a:lnTo>
                <a:lnTo>
                  <a:pt x="919" y="1212"/>
                </a:lnTo>
                <a:lnTo>
                  <a:pt x="924" y="1246"/>
                </a:lnTo>
                <a:lnTo>
                  <a:pt x="923" y="1246"/>
                </a:lnTo>
                <a:lnTo>
                  <a:pt x="923" y="1277"/>
                </a:lnTo>
                <a:lnTo>
                  <a:pt x="925" y="1277"/>
                </a:lnTo>
                <a:lnTo>
                  <a:pt x="930" y="1297"/>
                </a:lnTo>
                <a:lnTo>
                  <a:pt x="940" y="1311"/>
                </a:lnTo>
                <a:lnTo>
                  <a:pt x="941" y="1313"/>
                </a:lnTo>
                <a:lnTo>
                  <a:pt x="938" y="1327"/>
                </a:lnTo>
                <a:lnTo>
                  <a:pt x="946" y="1358"/>
                </a:lnTo>
                <a:lnTo>
                  <a:pt x="946" y="1408"/>
                </a:lnTo>
                <a:lnTo>
                  <a:pt x="952" y="1528"/>
                </a:lnTo>
                <a:lnTo>
                  <a:pt x="955" y="1673"/>
                </a:lnTo>
                <a:lnTo>
                  <a:pt x="956" y="1698"/>
                </a:lnTo>
                <a:lnTo>
                  <a:pt x="963" y="1862"/>
                </a:lnTo>
                <a:lnTo>
                  <a:pt x="962" y="1866"/>
                </a:lnTo>
                <a:lnTo>
                  <a:pt x="962" y="1876"/>
                </a:lnTo>
                <a:lnTo>
                  <a:pt x="969" y="1890"/>
                </a:lnTo>
                <a:lnTo>
                  <a:pt x="969" y="1906"/>
                </a:lnTo>
                <a:lnTo>
                  <a:pt x="940" y="1898"/>
                </a:lnTo>
                <a:lnTo>
                  <a:pt x="926" y="1884"/>
                </a:lnTo>
                <a:lnTo>
                  <a:pt x="911" y="1872"/>
                </a:lnTo>
                <a:lnTo>
                  <a:pt x="894" y="1866"/>
                </a:lnTo>
                <a:lnTo>
                  <a:pt x="859" y="1850"/>
                </a:lnTo>
                <a:lnTo>
                  <a:pt x="830" y="1831"/>
                </a:lnTo>
                <a:lnTo>
                  <a:pt x="812" y="1825"/>
                </a:lnTo>
                <a:lnTo>
                  <a:pt x="775" y="1797"/>
                </a:lnTo>
                <a:lnTo>
                  <a:pt x="759" y="1793"/>
                </a:lnTo>
                <a:lnTo>
                  <a:pt x="749" y="1779"/>
                </a:lnTo>
                <a:lnTo>
                  <a:pt x="707" y="1758"/>
                </a:lnTo>
                <a:lnTo>
                  <a:pt x="662" y="1724"/>
                </a:lnTo>
                <a:lnTo>
                  <a:pt x="604" y="1673"/>
                </a:lnTo>
                <a:lnTo>
                  <a:pt x="562" y="1643"/>
                </a:lnTo>
                <a:lnTo>
                  <a:pt x="525" y="1603"/>
                </a:lnTo>
                <a:lnTo>
                  <a:pt x="525" y="1599"/>
                </a:lnTo>
                <a:lnTo>
                  <a:pt x="509" y="1588"/>
                </a:lnTo>
                <a:lnTo>
                  <a:pt x="506" y="1582"/>
                </a:lnTo>
                <a:lnTo>
                  <a:pt x="494" y="1582"/>
                </a:lnTo>
                <a:lnTo>
                  <a:pt x="441" y="1528"/>
                </a:lnTo>
                <a:lnTo>
                  <a:pt x="440" y="1516"/>
                </a:lnTo>
                <a:lnTo>
                  <a:pt x="434" y="1507"/>
                </a:lnTo>
                <a:lnTo>
                  <a:pt x="403" y="1358"/>
                </a:lnTo>
                <a:lnTo>
                  <a:pt x="399" y="1350"/>
                </a:lnTo>
                <a:lnTo>
                  <a:pt x="390" y="1285"/>
                </a:lnTo>
                <a:lnTo>
                  <a:pt x="349" y="1107"/>
                </a:lnTo>
                <a:lnTo>
                  <a:pt x="331" y="1052"/>
                </a:lnTo>
                <a:lnTo>
                  <a:pt x="332" y="1044"/>
                </a:lnTo>
                <a:lnTo>
                  <a:pt x="332" y="1036"/>
                </a:lnTo>
                <a:lnTo>
                  <a:pt x="317" y="1004"/>
                </a:lnTo>
                <a:lnTo>
                  <a:pt x="323" y="987"/>
                </a:lnTo>
                <a:lnTo>
                  <a:pt x="322" y="983"/>
                </a:lnTo>
                <a:lnTo>
                  <a:pt x="327" y="965"/>
                </a:lnTo>
                <a:lnTo>
                  <a:pt x="325" y="957"/>
                </a:lnTo>
                <a:lnTo>
                  <a:pt x="279" y="931"/>
                </a:lnTo>
                <a:lnTo>
                  <a:pt x="246" y="900"/>
                </a:lnTo>
                <a:lnTo>
                  <a:pt x="204" y="846"/>
                </a:lnTo>
                <a:lnTo>
                  <a:pt x="168" y="819"/>
                </a:lnTo>
                <a:lnTo>
                  <a:pt x="144" y="817"/>
                </a:lnTo>
                <a:lnTo>
                  <a:pt x="127" y="801"/>
                </a:lnTo>
                <a:lnTo>
                  <a:pt x="137" y="787"/>
                </a:lnTo>
                <a:lnTo>
                  <a:pt x="142" y="787"/>
                </a:lnTo>
                <a:lnTo>
                  <a:pt x="144" y="781"/>
                </a:lnTo>
                <a:lnTo>
                  <a:pt x="148" y="787"/>
                </a:lnTo>
                <a:lnTo>
                  <a:pt x="169" y="771"/>
                </a:lnTo>
                <a:lnTo>
                  <a:pt x="199" y="743"/>
                </a:lnTo>
                <a:lnTo>
                  <a:pt x="217" y="751"/>
                </a:lnTo>
                <a:lnTo>
                  <a:pt x="232" y="765"/>
                </a:lnTo>
                <a:lnTo>
                  <a:pt x="236" y="765"/>
                </a:lnTo>
                <a:lnTo>
                  <a:pt x="236" y="781"/>
                </a:lnTo>
                <a:lnTo>
                  <a:pt x="299" y="898"/>
                </a:lnTo>
                <a:lnTo>
                  <a:pt x="301" y="898"/>
                </a:lnTo>
                <a:lnTo>
                  <a:pt x="301" y="906"/>
                </a:lnTo>
                <a:lnTo>
                  <a:pt x="365" y="1022"/>
                </a:lnTo>
                <a:lnTo>
                  <a:pt x="439" y="1172"/>
                </a:lnTo>
                <a:lnTo>
                  <a:pt x="521" y="1368"/>
                </a:lnTo>
                <a:lnTo>
                  <a:pt x="563" y="1439"/>
                </a:lnTo>
                <a:lnTo>
                  <a:pt x="565" y="1439"/>
                </a:lnTo>
                <a:lnTo>
                  <a:pt x="569" y="1431"/>
                </a:lnTo>
                <a:lnTo>
                  <a:pt x="552" y="1398"/>
                </a:lnTo>
                <a:lnTo>
                  <a:pt x="526" y="1360"/>
                </a:lnTo>
                <a:lnTo>
                  <a:pt x="492" y="1279"/>
                </a:lnTo>
                <a:lnTo>
                  <a:pt x="447" y="1170"/>
                </a:lnTo>
                <a:lnTo>
                  <a:pt x="331" y="931"/>
                </a:lnTo>
                <a:lnTo>
                  <a:pt x="312" y="898"/>
                </a:lnTo>
                <a:lnTo>
                  <a:pt x="310" y="898"/>
                </a:lnTo>
                <a:lnTo>
                  <a:pt x="309" y="900"/>
                </a:lnTo>
                <a:lnTo>
                  <a:pt x="307" y="890"/>
                </a:lnTo>
                <a:lnTo>
                  <a:pt x="225" y="739"/>
                </a:lnTo>
                <a:lnTo>
                  <a:pt x="204" y="720"/>
                </a:lnTo>
                <a:lnTo>
                  <a:pt x="163" y="755"/>
                </a:lnTo>
                <a:lnTo>
                  <a:pt x="167" y="741"/>
                </a:lnTo>
                <a:lnTo>
                  <a:pt x="190" y="708"/>
                </a:lnTo>
                <a:lnTo>
                  <a:pt x="199" y="712"/>
                </a:lnTo>
                <a:lnTo>
                  <a:pt x="223" y="678"/>
                </a:lnTo>
                <a:lnTo>
                  <a:pt x="231" y="672"/>
                </a:lnTo>
                <a:lnTo>
                  <a:pt x="254" y="686"/>
                </a:lnTo>
                <a:lnTo>
                  <a:pt x="300" y="759"/>
                </a:lnTo>
                <a:lnTo>
                  <a:pt x="318" y="797"/>
                </a:lnTo>
                <a:lnTo>
                  <a:pt x="329" y="805"/>
                </a:lnTo>
                <a:lnTo>
                  <a:pt x="331" y="801"/>
                </a:lnTo>
                <a:lnTo>
                  <a:pt x="339" y="813"/>
                </a:lnTo>
                <a:lnTo>
                  <a:pt x="347" y="830"/>
                </a:lnTo>
                <a:lnTo>
                  <a:pt x="347" y="836"/>
                </a:lnTo>
                <a:lnTo>
                  <a:pt x="377" y="880"/>
                </a:lnTo>
                <a:lnTo>
                  <a:pt x="425" y="963"/>
                </a:lnTo>
                <a:lnTo>
                  <a:pt x="472" y="1052"/>
                </a:lnTo>
                <a:lnTo>
                  <a:pt x="506" y="1107"/>
                </a:lnTo>
                <a:lnTo>
                  <a:pt x="608" y="1307"/>
                </a:lnTo>
                <a:lnTo>
                  <a:pt x="626" y="1344"/>
                </a:lnTo>
                <a:lnTo>
                  <a:pt x="689" y="1461"/>
                </a:lnTo>
                <a:lnTo>
                  <a:pt x="826" y="1580"/>
                </a:lnTo>
                <a:lnTo>
                  <a:pt x="878" y="1631"/>
                </a:lnTo>
                <a:lnTo>
                  <a:pt x="888" y="1647"/>
                </a:lnTo>
                <a:lnTo>
                  <a:pt x="903" y="1655"/>
                </a:lnTo>
                <a:lnTo>
                  <a:pt x="909" y="1653"/>
                </a:lnTo>
                <a:lnTo>
                  <a:pt x="910" y="1647"/>
                </a:lnTo>
                <a:lnTo>
                  <a:pt x="910" y="1639"/>
                </a:lnTo>
                <a:lnTo>
                  <a:pt x="874" y="1609"/>
                </a:lnTo>
                <a:lnTo>
                  <a:pt x="797" y="1534"/>
                </a:lnTo>
                <a:lnTo>
                  <a:pt x="695" y="1445"/>
                </a:lnTo>
                <a:lnTo>
                  <a:pt x="684" y="1427"/>
                </a:lnTo>
                <a:lnTo>
                  <a:pt x="608" y="1283"/>
                </a:lnTo>
                <a:lnTo>
                  <a:pt x="498" y="1068"/>
                </a:lnTo>
                <a:lnTo>
                  <a:pt x="457" y="1000"/>
                </a:lnTo>
                <a:lnTo>
                  <a:pt x="403" y="898"/>
                </a:lnTo>
                <a:lnTo>
                  <a:pt x="354" y="821"/>
                </a:lnTo>
                <a:lnTo>
                  <a:pt x="328" y="769"/>
                </a:lnTo>
                <a:lnTo>
                  <a:pt x="272" y="694"/>
                </a:lnTo>
                <a:lnTo>
                  <a:pt x="249" y="662"/>
                </a:lnTo>
                <a:lnTo>
                  <a:pt x="232" y="650"/>
                </a:lnTo>
                <a:lnTo>
                  <a:pt x="146" y="741"/>
                </a:lnTo>
                <a:lnTo>
                  <a:pt x="137" y="761"/>
                </a:lnTo>
                <a:lnTo>
                  <a:pt x="120" y="779"/>
                </a:lnTo>
                <a:lnTo>
                  <a:pt x="115" y="787"/>
                </a:lnTo>
                <a:lnTo>
                  <a:pt x="94" y="759"/>
                </a:lnTo>
                <a:lnTo>
                  <a:pt x="78" y="724"/>
                </a:lnTo>
                <a:lnTo>
                  <a:pt x="78" y="718"/>
                </a:lnTo>
                <a:lnTo>
                  <a:pt x="79" y="716"/>
                </a:lnTo>
                <a:lnTo>
                  <a:pt x="31" y="617"/>
                </a:lnTo>
                <a:lnTo>
                  <a:pt x="34" y="611"/>
                </a:lnTo>
                <a:lnTo>
                  <a:pt x="34" y="597"/>
                </a:lnTo>
                <a:lnTo>
                  <a:pt x="25" y="445"/>
                </a:lnTo>
                <a:lnTo>
                  <a:pt x="0" y="220"/>
                </a:lnTo>
                <a:lnTo>
                  <a:pt x="38" y="186"/>
                </a:lnTo>
                <a:lnTo>
                  <a:pt x="70" y="168"/>
                </a:lnTo>
                <a:lnTo>
                  <a:pt x="122" y="131"/>
                </a:lnTo>
                <a:lnTo>
                  <a:pt x="210" y="71"/>
                </a:lnTo>
                <a:lnTo>
                  <a:pt x="297" y="38"/>
                </a:lnTo>
                <a:lnTo>
                  <a:pt x="387" y="16"/>
                </a:lnTo>
                <a:lnTo>
                  <a:pt x="470" y="10"/>
                </a:lnTo>
                <a:lnTo>
                  <a:pt x="615" y="8"/>
                </a:lnTo>
                <a:lnTo>
                  <a:pt x="716" y="16"/>
                </a:lnTo>
                <a:lnTo>
                  <a:pt x="737" y="24"/>
                </a:lnTo>
                <a:lnTo>
                  <a:pt x="749" y="30"/>
                </a:lnTo>
                <a:lnTo>
                  <a:pt x="771" y="34"/>
                </a:lnTo>
                <a:lnTo>
                  <a:pt x="769" y="38"/>
                </a:lnTo>
                <a:lnTo>
                  <a:pt x="771" y="49"/>
                </a:lnTo>
                <a:lnTo>
                  <a:pt x="747" y="180"/>
                </a:lnTo>
                <a:lnTo>
                  <a:pt x="722" y="303"/>
                </a:lnTo>
                <a:lnTo>
                  <a:pt x="696" y="439"/>
                </a:lnTo>
                <a:lnTo>
                  <a:pt x="685" y="486"/>
                </a:lnTo>
                <a:lnTo>
                  <a:pt x="671" y="558"/>
                </a:lnTo>
                <a:lnTo>
                  <a:pt x="643" y="652"/>
                </a:lnTo>
                <a:lnTo>
                  <a:pt x="626" y="724"/>
                </a:lnTo>
                <a:lnTo>
                  <a:pt x="592" y="846"/>
                </a:lnTo>
                <a:lnTo>
                  <a:pt x="584" y="870"/>
                </a:lnTo>
                <a:lnTo>
                  <a:pt x="583" y="890"/>
                </a:lnTo>
                <a:lnTo>
                  <a:pt x="574" y="915"/>
                </a:lnTo>
                <a:lnTo>
                  <a:pt x="574" y="923"/>
                </a:lnTo>
                <a:lnTo>
                  <a:pt x="578" y="929"/>
                </a:lnTo>
                <a:lnTo>
                  <a:pt x="581" y="929"/>
                </a:lnTo>
                <a:lnTo>
                  <a:pt x="632" y="739"/>
                </a:lnTo>
                <a:lnTo>
                  <a:pt x="681" y="552"/>
                </a:lnTo>
                <a:lnTo>
                  <a:pt x="680" y="550"/>
                </a:lnTo>
                <a:lnTo>
                  <a:pt x="690" y="512"/>
                </a:lnTo>
                <a:lnTo>
                  <a:pt x="702" y="449"/>
                </a:lnTo>
                <a:lnTo>
                  <a:pt x="716" y="392"/>
                </a:lnTo>
                <a:lnTo>
                  <a:pt x="716" y="378"/>
                </a:lnTo>
                <a:lnTo>
                  <a:pt x="723" y="360"/>
                </a:lnTo>
                <a:lnTo>
                  <a:pt x="724" y="334"/>
                </a:lnTo>
                <a:lnTo>
                  <a:pt x="744" y="245"/>
                </a:lnTo>
                <a:lnTo>
                  <a:pt x="746" y="247"/>
                </a:lnTo>
                <a:lnTo>
                  <a:pt x="747" y="247"/>
                </a:lnTo>
                <a:lnTo>
                  <a:pt x="747" y="225"/>
                </a:lnTo>
                <a:lnTo>
                  <a:pt x="751" y="208"/>
                </a:lnTo>
                <a:lnTo>
                  <a:pt x="751" y="200"/>
                </a:lnTo>
                <a:lnTo>
                  <a:pt x="760" y="164"/>
                </a:lnTo>
                <a:lnTo>
                  <a:pt x="761" y="168"/>
                </a:lnTo>
                <a:lnTo>
                  <a:pt x="762" y="138"/>
                </a:lnTo>
                <a:lnTo>
                  <a:pt x="770" y="111"/>
                </a:lnTo>
                <a:lnTo>
                  <a:pt x="770" y="101"/>
                </a:lnTo>
                <a:lnTo>
                  <a:pt x="775" y="95"/>
                </a:lnTo>
                <a:lnTo>
                  <a:pt x="776" y="63"/>
                </a:lnTo>
                <a:lnTo>
                  <a:pt x="781" y="53"/>
                </a:lnTo>
                <a:lnTo>
                  <a:pt x="783" y="36"/>
                </a:lnTo>
                <a:lnTo>
                  <a:pt x="786" y="28"/>
                </a:lnTo>
                <a:lnTo>
                  <a:pt x="786" y="26"/>
                </a:lnTo>
                <a:lnTo>
                  <a:pt x="783" y="20"/>
                </a:lnTo>
                <a:lnTo>
                  <a:pt x="799" y="6"/>
                </a:lnTo>
                <a:lnTo>
                  <a:pt x="801" y="0"/>
                </a:lnTo>
                <a:lnTo>
                  <a:pt x="815" y="8"/>
                </a:lnTo>
                <a:lnTo>
                  <a:pt x="839" y="42"/>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79" name=""/>
          <p:cNvSpPr/>
          <p:nvPr/>
        </p:nvSpPr>
        <p:spPr>
          <a:xfrm>
            <a:off x="3278160" y="2533680"/>
            <a:ext cx="7920" cy="3240"/>
          </a:xfrm>
          <a:custGeom>
            <a:avLst/>
            <a:gdLst/>
            <a:ahLst/>
            <a:rect l="l" t="t" r="r" b="b"/>
            <a:pathLst>
              <a:path w="5" h="4">
                <a:moveTo>
                  <a:pt x="4" y="4"/>
                </a:moveTo>
                <a:lnTo>
                  <a:pt x="0" y="0"/>
                </a:lnTo>
                <a:lnTo>
                  <a:pt x="5" y="4"/>
                </a:lnTo>
                <a:lnTo>
                  <a:pt x="4" y="4"/>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00"/>
              </a:solidFill>
              <a:latin typeface="Times New Roman"/>
            </a:endParaRPr>
          </a:p>
        </p:txBody>
      </p:sp>
      <p:sp>
        <p:nvSpPr>
          <p:cNvPr id="280" name=""/>
          <p:cNvSpPr/>
          <p:nvPr/>
        </p:nvSpPr>
        <p:spPr>
          <a:xfrm>
            <a:off x="5181480" y="2590920"/>
            <a:ext cx="443160" cy="377640"/>
          </a:xfrm>
          <a:custGeom>
            <a:avLst/>
            <a:gdLst/>
            <a:ahLst/>
            <a:rect l="l" t="t" r="r" b="b"/>
            <a:pathLst>
              <a:path w="279" h="474">
                <a:moveTo>
                  <a:pt x="162" y="22"/>
                </a:moveTo>
                <a:lnTo>
                  <a:pt x="204" y="49"/>
                </a:lnTo>
                <a:lnTo>
                  <a:pt x="241" y="95"/>
                </a:lnTo>
                <a:lnTo>
                  <a:pt x="272" y="158"/>
                </a:lnTo>
                <a:lnTo>
                  <a:pt x="279" y="182"/>
                </a:lnTo>
                <a:lnTo>
                  <a:pt x="277" y="263"/>
                </a:lnTo>
                <a:lnTo>
                  <a:pt x="272" y="289"/>
                </a:lnTo>
                <a:lnTo>
                  <a:pt x="265" y="419"/>
                </a:lnTo>
                <a:lnTo>
                  <a:pt x="261" y="435"/>
                </a:lnTo>
                <a:lnTo>
                  <a:pt x="261" y="474"/>
                </a:lnTo>
                <a:lnTo>
                  <a:pt x="219" y="395"/>
                </a:lnTo>
                <a:lnTo>
                  <a:pt x="170" y="348"/>
                </a:lnTo>
                <a:lnTo>
                  <a:pt x="118" y="310"/>
                </a:lnTo>
                <a:lnTo>
                  <a:pt x="76" y="289"/>
                </a:lnTo>
                <a:lnTo>
                  <a:pt x="33" y="269"/>
                </a:lnTo>
                <a:lnTo>
                  <a:pt x="0" y="269"/>
                </a:lnTo>
                <a:lnTo>
                  <a:pt x="12" y="204"/>
                </a:lnTo>
                <a:lnTo>
                  <a:pt x="6" y="150"/>
                </a:lnTo>
                <a:lnTo>
                  <a:pt x="4" y="77"/>
                </a:lnTo>
                <a:lnTo>
                  <a:pt x="11" y="67"/>
                </a:lnTo>
                <a:lnTo>
                  <a:pt x="7" y="55"/>
                </a:lnTo>
                <a:lnTo>
                  <a:pt x="11" y="30"/>
                </a:lnTo>
                <a:lnTo>
                  <a:pt x="27" y="8"/>
                </a:lnTo>
                <a:lnTo>
                  <a:pt x="59" y="0"/>
                </a:lnTo>
                <a:lnTo>
                  <a:pt x="122" y="8"/>
                </a:lnTo>
                <a:lnTo>
                  <a:pt x="162" y="22"/>
                </a:lnTo>
                <a:close/>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81" name=""/>
          <p:cNvSpPr/>
          <p:nvPr/>
        </p:nvSpPr>
        <p:spPr>
          <a:xfrm>
            <a:off x="3313080" y="2733840"/>
            <a:ext cx="574560" cy="496800"/>
          </a:xfrm>
          <a:custGeom>
            <a:avLst/>
            <a:gdLst/>
            <a:ahLst/>
            <a:rect l="l" t="t" r="r" b="b"/>
            <a:pathLst>
              <a:path w="362" h="624">
                <a:moveTo>
                  <a:pt x="274" y="75"/>
                </a:moveTo>
                <a:lnTo>
                  <a:pt x="345" y="213"/>
                </a:lnTo>
                <a:lnTo>
                  <a:pt x="362" y="257"/>
                </a:lnTo>
                <a:lnTo>
                  <a:pt x="328" y="277"/>
                </a:lnTo>
                <a:lnTo>
                  <a:pt x="293" y="314"/>
                </a:lnTo>
                <a:lnTo>
                  <a:pt x="230" y="413"/>
                </a:lnTo>
                <a:lnTo>
                  <a:pt x="161" y="539"/>
                </a:lnTo>
                <a:lnTo>
                  <a:pt x="125" y="624"/>
                </a:lnTo>
                <a:lnTo>
                  <a:pt x="120" y="624"/>
                </a:lnTo>
                <a:lnTo>
                  <a:pt x="118" y="613"/>
                </a:lnTo>
                <a:lnTo>
                  <a:pt x="114" y="609"/>
                </a:lnTo>
                <a:lnTo>
                  <a:pt x="109" y="603"/>
                </a:lnTo>
                <a:lnTo>
                  <a:pt x="94" y="561"/>
                </a:lnTo>
                <a:lnTo>
                  <a:pt x="60" y="474"/>
                </a:lnTo>
                <a:lnTo>
                  <a:pt x="37" y="425"/>
                </a:lnTo>
                <a:lnTo>
                  <a:pt x="9" y="358"/>
                </a:lnTo>
                <a:lnTo>
                  <a:pt x="0" y="322"/>
                </a:lnTo>
                <a:lnTo>
                  <a:pt x="5" y="290"/>
                </a:lnTo>
                <a:lnTo>
                  <a:pt x="33" y="209"/>
                </a:lnTo>
                <a:lnTo>
                  <a:pt x="43" y="195"/>
                </a:lnTo>
                <a:lnTo>
                  <a:pt x="47" y="197"/>
                </a:lnTo>
                <a:lnTo>
                  <a:pt x="51" y="192"/>
                </a:lnTo>
                <a:lnTo>
                  <a:pt x="51" y="190"/>
                </a:lnTo>
                <a:lnTo>
                  <a:pt x="49" y="188"/>
                </a:lnTo>
                <a:lnTo>
                  <a:pt x="58" y="178"/>
                </a:lnTo>
                <a:lnTo>
                  <a:pt x="72" y="144"/>
                </a:lnTo>
                <a:lnTo>
                  <a:pt x="111" y="91"/>
                </a:lnTo>
                <a:lnTo>
                  <a:pt x="111" y="87"/>
                </a:lnTo>
                <a:lnTo>
                  <a:pt x="132" y="75"/>
                </a:lnTo>
                <a:lnTo>
                  <a:pt x="147" y="51"/>
                </a:lnTo>
                <a:lnTo>
                  <a:pt x="216" y="10"/>
                </a:lnTo>
                <a:lnTo>
                  <a:pt x="233" y="2"/>
                </a:lnTo>
                <a:lnTo>
                  <a:pt x="250" y="0"/>
                </a:lnTo>
                <a:lnTo>
                  <a:pt x="253" y="0"/>
                </a:lnTo>
                <a:lnTo>
                  <a:pt x="274" y="75"/>
                </a:lnTo>
                <a:close/>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82" name=""/>
          <p:cNvSpPr/>
          <p:nvPr/>
        </p:nvSpPr>
        <p:spPr>
          <a:xfrm>
            <a:off x="5153040" y="2811600"/>
            <a:ext cx="31680" cy="25200"/>
          </a:xfrm>
          <a:custGeom>
            <a:avLst/>
            <a:gdLst/>
            <a:ahLst/>
            <a:rect l="l" t="t" r="r" b="b"/>
            <a:pathLst>
              <a:path w="20" h="31">
                <a:moveTo>
                  <a:pt x="9" y="21"/>
                </a:moveTo>
                <a:lnTo>
                  <a:pt x="3" y="31"/>
                </a:lnTo>
                <a:lnTo>
                  <a:pt x="0" y="27"/>
                </a:lnTo>
                <a:lnTo>
                  <a:pt x="4" y="6"/>
                </a:lnTo>
                <a:lnTo>
                  <a:pt x="5" y="6"/>
                </a:lnTo>
                <a:lnTo>
                  <a:pt x="9" y="2"/>
                </a:lnTo>
                <a:lnTo>
                  <a:pt x="18" y="2"/>
                </a:lnTo>
                <a:lnTo>
                  <a:pt x="19" y="0"/>
                </a:lnTo>
                <a:lnTo>
                  <a:pt x="20" y="0"/>
                </a:lnTo>
                <a:lnTo>
                  <a:pt x="9" y="21"/>
                </a:lnTo>
                <a:close/>
              </a:path>
            </a:pathLst>
          </a:custGeom>
          <a:solidFill>
            <a:srgbClr val="ff9966"/>
          </a:solidFill>
          <a:ln w="0">
            <a:noFill/>
          </a:ln>
        </p:spPr>
        <p:style>
          <a:lnRef idx="0"/>
          <a:fillRef idx="0"/>
          <a:effectRef idx="0"/>
          <a:fontRef idx="minor"/>
        </p:style>
        <p:txBody>
          <a:bodyPr lIns="90000" rIns="90000" tIns="-21600" bIns="-21600" anchor="t">
            <a:noAutofit/>
          </a:bodyPr>
          <a:p>
            <a:endParaRPr b="0" lang="en-US" sz="2400" spc="-1" strike="noStrike">
              <a:solidFill>
                <a:srgbClr val="ffff00"/>
              </a:solidFill>
              <a:latin typeface="Times New Roman"/>
            </a:endParaRPr>
          </a:p>
        </p:txBody>
      </p:sp>
      <p:sp>
        <p:nvSpPr>
          <p:cNvPr id="283" name=""/>
          <p:cNvSpPr/>
          <p:nvPr/>
        </p:nvSpPr>
        <p:spPr>
          <a:xfrm>
            <a:off x="4836960" y="2813040"/>
            <a:ext cx="579600" cy="579600"/>
          </a:xfrm>
          <a:custGeom>
            <a:avLst/>
            <a:gdLst/>
            <a:ahLst/>
            <a:rect l="l" t="t" r="r" b="b"/>
            <a:pathLst>
              <a:path w="365" h="729">
                <a:moveTo>
                  <a:pt x="290" y="19"/>
                </a:moveTo>
                <a:lnTo>
                  <a:pt x="330" y="35"/>
                </a:lnTo>
                <a:lnTo>
                  <a:pt x="365" y="57"/>
                </a:lnTo>
                <a:lnTo>
                  <a:pt x="311" y="150"/>
                </a:lnTo>
                <a:lnTo>
                  <a:pt x="306" y="118"/>
                </a:lnTo>
                <a:lnTo>
                  <a:pt x="304" y="114"/>
                </a:lnTo>
                <a:lnTo>
                  <a:pt x="298" y="116"/>
                </a:lnTo>
                <a:lnTo>
                  <a:pt x="298" y="154"/>
                </a:lnTo>
                <a:lnTo>
                  <a:pt x="305" y="191"/>
                </a:lnTo>
                <a:lnTo>
                  <a:pt x="311" y="229"/>
                </a:lnTo>
                <a:lnTo>
                  <a:pt x="315" y="237"/>
                </a:lnTo>
                <a:lnTo>
                  <a:pt x="315" y="247"/>
                </a:lnTo>
                <a:lnTo>
                  <a:pt x="320" y="253"/>
                </a:lnTo>
                <a:lnTo>
                  <a:pt x="322" y="288"/>
                </a:lnTo>
                <a:lnTo>
                  <a:pt x="338" y="403"/>
                </a:lnTo>
                <a:lnTo>
                  <a:pt x="338" y="425"/>
                </a:lnTo>
                <a:lnTo>
                  <a:pt x="343" y="454"/>
                </a:lnTo>
                <a:lnTo>
                  <a:pt x="341" y="522"/>
                </a:lnTo>
                <a:lnTo>
                  <a:pt x="326" y="579"/>
                </a:lnTo>
                <a:lnTo>
                  <a:pt x="316" y="609"/>
                </a:lnTo>
                <a:lnTo>
                  <a:pt x="322" y="492"/>
                </a:lnTo>
                <a:lnTo>
                  <a:pt x="326" y="446"/>
                </a:lnTo>
                <a:lnTo>
                  <a:pt x="322" y="440"/>
                </a:lnTo>
                <a:lnTo>
                  <a:pt x="316" y="440"/>
                </a:lnTo>
                <a:lnTo>
                  <a:pt x="311" y="462"/>
                </a:lnTo>
                <a:lnTo>
                  <a:pt x="310" y="614"/>
                </a:lnTo>
                <a:lnTo>
                  <a:pt x="308" y="692"/>
                </a:lnTo>
                <a:lnTo>
                  <a:pt x="305" y="713"/>
                </a:lnTo>
                <a:lnTo>
                  <a:pt x="300" y="717"/>
                </a:lnTo>
                <a:lnTo>
                  <a:pt x="299" y="721"/>
                </a:lnTo>
                <a:lnTo>
                  <a:pt x="299" y="703"/>
                </a:lnTo>
                <a:lnTo>
                  <a:pt x="297" y="695"/>
                </a:lnTo>
                <a:lnTo>
                  <a:pt x="295" y="508"/>
                </a:lnTo>
                <a:lnTo>
                  <a:pt x="291" y="500"/>
                </a:lnTo>
                <a:lnTo>
                  <a:pt x="293" y="440"/>
                </a:lnTo>
                <a:lnTo>
                  <a:pt x="295" y="437"/>
                </a:lnTo>
                <a:lnTo>
                  <a:pt x="295" y="435"/>
                </a:lnTo>
                <a:lnTo>
                  <a:pt x="285" y="433"/>
                </a:lnTo>
                <a:lnTo>
                  <a:pt x="281" y="433"/>
                </a:lnTo>
                <a:lnTo>
                  <a:pt x="281" y="468"/>
                </a:lnTo>
                <a:lnTo>
                  <a:pt x="285" y="567"/>
                </a:lnTo>
                <a:lnTo>
                  <a:pt x="288" y="725"/>
                </a:lnTo>
                <a:lnTo>
                  <a:pt x="285" y="729"/>
                </a:lnTo>
                <a:lnTo>
                  <a:pt x="283" y="729"/>
                </a:lnTo>
                <a:lnTo>
                  <a:pt x="276" y="686"/>
                </a:lnTo>
                <a:lnTo>
                  <a:pt x="274" y="656"/>
                </a:lnTo>
                <a:lnTo>
                  <a:pt x="268" y="624"/>
                </a:lnTo>
                <a:lnTo>
                  <a:pt x="262" y="567"/>
                </a:lnTo>
                <a:lnTo>
                  <a:pt x="262" y="539"/>
                </a:lnTo>
                <a:lnTo>
                  <a:pt x="259" y="508"/>
                </a:lnTo>
                <a:lnTo>
                  <a:pt x="254" y="444"/>
                </a:lnTo>
                <a:lnTo>
                  <a:pt x="249" y="435"/>
                </a:lnTo>
                <a:lnTo>
                  <a:pt x="249" y="427"/>
                </a:lnTo>
                <a:lnTo>
                  <a:pt x="246" y="421"/>
                </a:lnTo>
                <a:lnTo>
                  <a:pt x="241" y="421"/>
                </a:lnTo>
                <a:lnTo>
                  <a:pt x="236" y="435"/>
                </a:lnTo>
                <a:lnTo>
                  <a:pt x="237" y="553"/>
                </a:lnTo>
                <a:lnTo>
                  <a:pt x="249" y="711"/>
                </a:lnTo>
                <a:lnTo>
                  <a:pt x="245" y="723"/>
                </a:lnTo>
                <a:lnTo>
                  <a:pt x="243" y="725"/>
                </a:lnTo>
                <a:lnTo>
                  <a:pt x="234" y="711"/>
                </a:lnTo>
                <a:lnTo>
                  <a:pt x="234" y="695"/>
                </a:lnTo>
                <a:lnTo>
                  <a:pt x="224" y="662"/>
                </a:lnTo>
                <a:lnTo>
                  <a:pt x="210" y="543"/>
                </a:lnTo>
                <a:lnTo>
                  <a:pt x="208" y="535"/>
                </a:lnTo>
                <a:lnTo>
                  <a:pt x="204" y="514"/>
                </a:lnTo>
                <a:lnTo>
                  <a:pt x="197" y="478"/>
                </a:lnTo>
                <a:lnTo>
                  <a:pt x="199" y="474"/>
                </a:lnTo>
                <a:lnTo>
                  <a:pt x="199" y="468"/>
                </a:lnTo>
                <a:lnTo>
                  <a:pt x="196" y="464"/>
                </a:lnTo>
                <a:lnTo>
                  <a:pt x="192" y="464"/>
                </a:lnTo>
                <a:lnTo>
                  <a:pt x="164" y="334"/>
                </a:lnTo>
                <a:lnTo>
                  <a:pt x="141" y="284"/>
                </a:lnTo>
                <a:lnTo>
                  <a:pt x="136" y="278"/>
                </a:lnTo>
                <a:lnTo>
                  <a:pt x="130" y="278"/>
                </a:lnTo>
                <a:lnTo>
                  <a:pt x="124" y="267"/>
                </a:lnTo>
                <a:lnTo>
                  <a:pt x="97" y="278"/>
                </a:lnTo>
                <a:lnTo>
                  <a:pt x="75" y="298"/>
                </a:lnTo>
                <a:lnTo>
                  <a:pt x="27" y="318"/>
                </a:lnTo>
                <a:lnTo>
                  <a:pt x="16" y="326"/>
                </a:lnTo>
                <a:lnTo>
                  <a:pt x="2" y="324"/>
                </a:lnTo>
                <a:lnTo>
                  <a:pt x="0" y="318"/>
                </a:lnTo>
                <a:lnTo>
                  <a:pt x="1" y="300"/>
                </a:lnTo>
                <a:lnTo>
                  <a:pt x="60" y="245"/>
                </a:lnTo>
                <a:lnTo>
                  <a:pt x="72" y="227"/>
                </a:lnTo>
                <a:lnTo>
                  <a:pt x="72" y="217"/>
                </a:lnTo>
                <a:lnTo>
                  <a:pt x="139" y="110"/>
                </a:lnTo>
                <a:lnTo>
                  <a:pt x="186" y="73"/>
                </a:lnTo>
                <a:lnTo>
                  <a:pt x="210" y="37"/>
                </a:lnTo>
                <a:lnTo>
                  <a:pt x="236" y="0"/>
                </a:lnTo>
                <a:lnTo>
                  <a:pt x="268" y="4"/>
                </a:lnTo>
                <a:lnTo>
                  <a:pt x="290" y="19"/>
                </a:lnTo>
                <a:close/>
              </a:path>
            </a:pathLst>
          </a:custGeom>
          <a:solidFill>
            <a:srgbClr val="e58d35"/>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84" name=""/>
          <p:cNvSpPr/>
          <p:nvPr/>
        </p:nvSpPr>
        <p:spPr>
          <a:xfrm>
            <a:off x="5338800" y="2865600"/>
            <a:ext cx="239760" cy="133200"/>
          </a:xfrm>
          <a:custGeom>
            <a:avLst/>
            <a:gdLst/>
            <a:ahLst/>
            <a:rect l="l" t="t" r="r" b="b"/>
            <a:pathLst>
              <a:path w="151" h="168">
                <a:moveTo>
                  <a:pt x="122" y="61"/>
                </a:moveTo>
                <a:lnTo>
                  <a:pt x="151" y="120"/>
                </a:lnTo>
                <a:lnTo>
                  <a:pt x="149" y="138"/>
                </a:lnTo>
                <a:lnTo>
                  <a:pt x="128" y="158"/>
                </a:lnTo>
                <a:lnTo>
                  <a:pt x="103" y="168"/>
                </a:lnTo>
                <a:lnTo>
                  <a:pt x="74" y="168"/>
                </a:lnTo>
                <a:lnTo>
                  <a:pt x="21" y="166"/>
                </a:lnTo>
                <a:lnTo>
                  <a:pt x="22" y="162"/>
                </a:lnTo>
                <a:lnTo>
                  <a:pt x="20" y="158"/>
                </a:lnTo>
                <a:lnTo>
                  <a:pt x="11" y="158"/>
                </a:lnTo>
                <a:lnTo>
                  <a:pt x="0" y="138"/>
                </a:lnTo>
                <a:lnTo>
                  <a:pt x="0" y="105"/>
                </a:lnTo>
                <a:lnTo>
                  <a:pt x="27" y="51"/>
                </a:lnTo>
                <a:lnTo>
                  <a:pt x="58" y="0"/>
                </a:lnTo>
                <a:lnTo>
                  <a:pt x="80" y="18"/>
                </a:lnTo>
                <a:lnTo>
                  <a:pt x="122" y="61"/>
                </a:lnTo>
                <a:close/>
              </a:path>
            </a:pathLst>
          </a:custGeom>
          <a:solidFill>
            <a:srgbClr val="e56868"/>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85" name=""/>
          <p:cNvSpPr/>
          <p:nvPr/>
        </p:nvSpPr>
        <p:spPr>
          <a:xfrm>
            <a:off x="3754440" y="2951280"/>
            <a:ext cx="542880" cy="318960"/>
          </a:xfrm>
          <a:custGeom>
            <a:avLst/>
            <a:gdLst/>
            <a:ahLst/>
            <a:rect l="l" t="t" r="r" b="b"/>
            <a:pathLst>
              <a:path w="342" h="403">
                <a:moveTo>
                  <a:pt x="102" y="21"/>
                </a:moveTo>
                <a:lnTo>
                  <a:pt x="152" y="93"/>
                </a:lnTo>
                <a:lnTo>
                  <a:pt x="169" y="106"/>
                </a:lnTo>
                <a:lnTo>
                  <a:pt x="199" y="114"/>
                </a:lnTo>
                <a:lnTo>
                  <a:pt x="245" y="154"/>
                </a:lnTo>
                <a:lnTo>
                  <a:pt x="275" y="195"/>
                </a:lnTo>
                <a:lnTo>
                  <a:pt x="316" y="225"/>
                </a:lnTo>
                <a:lnTo>
                  <a:pt x="325" y="229"/>
                </a:lnTo>
                <a:lnTo>
                  <a:pt x="341" y="241"/>
                </a:lnTo>
                <a:lnTo>
                  <a:pt x="342" y="243"/>
                </a:lnTo>
                <a:lnTo>
                  <a:pt x="326" y="268"/>
                </a:lnTo>
                <a:lnTo>
                  <a:pt x="275" y="247"/>
                </a:lnTo>
                <a:lnTo>
                  <a:pt x="267" y="237"/>
                </a:lnTo>
                <a:lnTo>
                  <a:pt x="241" y="223"/>
                </a:lnTo>
                <a:lnTo>
                  <a:pt x="226" y="223"/>
                </a:lnTo>
                <a:lnTo>
                  <a:pt x="192" y="266"/>
                </a:lnTo>
                <a:lnTo>
                  <a:pt x="183" y="278"/>
                </a:lnTo>
                <a:lnTo>
                  <a:pt x="157" y="304"/>
                </a:lnTo>
                <a:lnTo>
                  <a:pt x="149" y="324"/>
                </a:lnTo>
                <a:lnTo>
                  <a:pt x="145" y="324"/>
                </a:lnTo>
                <a:lnTo>
                  <a:pt x="136" y="342"/>
                </a:lnTo>
                <a:lnTo>
                  <a:pt x="118" y="367"/>
                </a:lnTo>
                <a:lnTo>
                  <a:pt x="112" y="381"/>
                </a:lnTo>
                <a:lnTo>
                  <a:pt x="106" y="387"/>
                </a:lnTo>
                <a:lnTo>
                  <a:pt x="103" y="397"/>
                </a:lnTo>
                <a:lnTo>
                  <a:pt x="100" y="397"/>
                </a:lnTo>
                <a:lnTo>
                  <a:pt x="97" y="403"/>
                </a:lnTo>
                <a:lnTo>
                  <a:pt x="93" y="389"/>
                </a:lnTo>
                <a:lnTo>
                  <a:pt x="88" y="350"/>
                </a:lnTo>
                <a:lnTo>
                  <a:pt x="73" y="237"/>
                </a:lnTo>
                <a:lnTo>
                  <a:pt x="62" y="205"/>
                </a:lnTo>
                <a:lnTo>
                  <a:pt x="49" y="179"/>
                </a:lnTo>
                <a:lnTo>
                  <a:pt x="12" y="110"/>
                </a:lnTo>
                <a:lnTo>
                  <a:pt x="5" y="93"/>
                </a:lnTo>
                <a:lnTo>
                  <a:pt x="0" y="85"/>
                </a:lnTo>
                <a:lnTo>
                  <a:pt x="21" y="53"/>
                </a:lnTo>
                <a:lnTo>
                  <a:pt x="59" y="15"/>
                </a:lnTo>
                <a:lnTo>
                  <a:pt x="90" y="0"/>
                </a:lnTo>
                <a:lnTo>
                  <a:pt x="97" y="6"/>
                </a:lnTo>
                <a:lnTo>
                  <a:pt x="102" y="21"/>
                </a:lnTo>
                <a:close/>
              </a:path>
            </a:pathLst>
          </a:custGeom>
          <a:solidFill>
            <a:srgbClr val="e58d35"/>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86" name=""/>
          <p:cNvSpPr/>
          <p:nvPr/>
        </p:nvSpPr>
        <p:spPr>
          <a:xfrm>
            <a:off x="3546360" y="3032280"/>
            <a:ext cx="247680" cy="182520"/>
          </a:xfrm>
          <a:custGeom>
            <a:avLst/>
            <a:gdLst/>
            <a:ahLst/>
            <a:rect l="l" t="t" r="r" b="b"/>
            <a:pathLst>
              <a:path w="156" h="230">
                <a:moveTo>
                  <a:pt x="156" y="66"/>
                </a:moveTo>
                <a:lnTo>
                  <a:pt x="156" y="70"/>
                </a:lnTo>
                <a:lnTo>
                  <a:pt x="60" y="170"/>
                </a:lnTo>
                <a:lnTo>
                  <a:pt x="0" y="230"/>
                </a:lnTo>
                <a:lnTo>
                  <a:pt x="32" y="151"/>
                </a:lnTo>
                <a:lnTo>
                  <a:pt x="81" y="66"/>
                </a:lnTo>
                <a:lnTo>
                  <a:pt x="121" y="0"/>
                </a:lnTo>
                <a:lnTo>
                  <a:pt x="123" y="0"/>
                </a:lnTo>
                <a:lnTo>
                  <a:pt x="156" y="66"/>
                </a:lnTo>
                <a:close/>
              </a:path>
            </a:pathLst>
          </a:custGeom>
          <a:solidFill>
            <a:srgbClr val="e56868"/>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87" name=""/>
          <p:cNvSpPr/>
          <p:nvPr/>
        </p:nvSpPr>
        <p:spPr>
          <a:xfrm>
            <a:off x="3747960" y="3122640"/>
            <a:ext cx="144720" cy="608040"/>
          </a:xfrm>
          <a:custGeom>
            <a:avLst/>
            <a:gdLst/>
            <a:ahLst/>
            <a:rect l="l" t="t" r="r" b="b"/>
            <a:pathLst>
              <a:path w="91" h="767">
                <a:moveTo>
                  <a:pt x="82" y="125"/>
                </a:moveTo>
                <a:lnTo>
                  <a:pt x="82" y="136"/>
                </a:lnTo>
                <a:lnTo>
                  <a:pt x="91" y="200"/>
                </a:lnTo>
                <a:lnTo>
                  <a:pt x="88" y="210"/>
                </a:lnTo>
                <a:lnTo>
                  <a:pt x="70" y="235"/>
                </a:lnTo>
                <a:lnTo>
                  <a:pt x="66" y="241"/>
                </a:lnTo>
                <a:lnTo>
                  <a:pt x="67" y="253"/>
                </a:lnTo>
                <a:lnTo>
                  <a:pt x="76" y="269"/>
                </a:lnTo>
                <a:lnTo>
                  <a:pt x="77" y="279"/>
                </a:lnTo>
                <a:lnTo>
                  <a:pt x="70" y="299"/>
                </a:lnTo>
                <a:lnTo>
                  <a:pt x="52" y="496"/>
                </a:lnTo>
                <a:lnTo>
                  <a:pt x="44" y="544"/>
                </a:lnTo>
                <a:lnTo>
                  <a:pt x="37" y="597"/>
                </a:lnTo>
                <a:lnTo>
                  <a:pt x="27" y="678"/>
                </a:lnTo>
                <a:lnTo>
                  <a:pt x="22" y="767"/>
                </a:lnTo>
                <a:lnTo>
                  <a:pt x="21" y="767"/>
                </a:lnTo>
                <a:lnTo>
                  <a:pt x="4" y="755"/>
                </a:lnTo>
                <a:lnTo>
                  <a:pt x="0" y="737"/>
                </a:lnTo>
                <a:lnTo>
                  <a:pt x="0" y="654"/>
                </a:lnTo>
                <a:lnTo>
                  <a:pt x="6" y="520"/>
                </a:lnTo>
                <a:lnTo>
                  <a:pt x="12" y="419"/>
                </a:lnTo>
                <a:lnTo>
                  <a:pt x="16" y="354"/>
                </a:lnTo>
                <a:lnTo>
                  <a:pt x="21" y="314"/>
                </a:lnTo>
                <a:lnTo>
                  <a:pt x="19" y="291"/>
                </a:lnTo>
                <a:lnTo>
                  <a:pt x="19" y="285"/>
                </a:lnTo>
                <a:lnTo>
                  <a:pt x="21" y="287"/>
                </a:lnTo>
                <a:lnTo>
                  <a:pt x="22" y="275"/>
                </a:lnTo>
                <a:lnTo>
                  <a:pt x="33" y="150"/>
                </a:lnTo>
                <a:lnTo>
                  <a:pt x="39" y="138"/>
                </a:lnTo>
                <a:lnTo>
                  <a:pt x="48" y="40"/>
                </a:lnTo>
                <a:lnTo>
                  <a:pt x="55" y="0"/>
                </a:lnTo>
                <a:lnTo>
                  <a:pt x="70" y="55"/>
                </a:lnTo>
                <a:lnTo>
                  <a:pt x="82" y="125"/>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88" name=""/>
          <p:cNvSpPr/>
          <p:nvPr/>
        </p:nvSpPr>
        <p:spPr>
          <a:xfrm>
            <a:off x="5192640" y="3122640"/>
            <a:ext cx="74520" cy="9360"/>
          </a:xfrm>
          <a:custGeom>
            <a:avLst/>
            <a:gdLst/>
            <a:ahLst/>
            <a:rect l="l" t="t" r="r" b="b"/>
            <a:pathLst>
              <a:path w="47" h="14">
                <a:moveTo>
                  <a:pt x="47" y="8"/>
                </a:moveTo>
                <a:lnTo>
                  <a:pt x="44" y="14"/>
                </a:lnTo>
                <a:lnTo>
                  <a:pt x="6" y="8"/>
                </a:lnTo>
                <a:lnTo>
                  <a:pt x="1" y="8"/>
                </a:lnTo>
                <a:lnTo>
                  <a:pt x="0" y="6"/>
                </a:lnTo>
                <a:lnTo>
                  <a:pt x="5" y="0"/>
                </a:lnTo>
                <a:lnTo>
                  <a:pt x="45" y="0"/>
                </a:lnTo>
                <a:lnTo>
                  <a:pt x="47" y="8"/>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00"/>
              </a:solidFill>
              <a:latin typeface="Times New Roman"/>
            </a:endParaRPr>
          </a:p>
        </p:txBody>
      </p:sp>
      <p:sp>
        <p:nvSpPr>
          <p:cNvPr id="289" name=""/>
          <p:cNvSpPr/>
          <p:nvPr/>
        </p:nvSpPr>
        <p:spPr>
          <a:xfrm>
            <a:off x="3706920" y="3143160"/>
            <a:ext cx="901440" cy="1351080"/>
          </a:xfrm>
          <a:custGeom>
            <a:avLst/>
            <a:gdLst/>
            <a:ahLst/>
            <a:rect l="l" t="t" r="r" b="b"/>
            <a:pathLst>
              <a:path w="568" h="1702">
                <a:moveTo>
                  <a:pt x="320" y="29"/>
                </a:moveTo>
                <a:lnTo>
                  <a:pt x="352" y="41"/>
                </a:lnTo>
                <a:lnTo>
                  <a:pt x="367" y="41"/>
                </a:lnTo>
                <a:lnTo>
                  <a:pt x="380" y="101"/>
                </a:lnTo>
                <a:lnTo>
                  <a:pt x="400" y="174"/>
                </a:lnTo>
                <a:lnTo>
                  <a:pt x="447" y="383"/>
                </a:lnTo>
                <a:lnTo>
                  <a:pt x="467" y="492"/>
                </a:lnTo>
                <a:lnTo>
                  <a:pt x="484" y="563"/>
                </a:lnTo>
                <a:lnTo>
                  <a:pt x="504" y="589"/>
                </a:lnTo>
                <a:lnTo>
                  <a:pt x="532" y="617"/>
                </a:lnTo>
                <a:lnTo>
                  <a:pt x="565" y="642"/>
                </a:lnTo>
                <a:lnTo>
                  <a:pt x="568" y="646"/>
                </a:lnTo>
                <a:lnTo>
                  <a:pt x="544" y="798"/>
                </a:lnTo>
                <a:lnTo>
                  <a:pt x="534" y="864"/>
                </a:lnTo>
                <a:lnTo>
                  <a:pt x="528" y="879"/>
                </a:lnTo>
                <a:lnTo>
                  <a:pt x="522" y="919"/>
                </a:lnTo>
                <a:lnTo>
                  <a:pt x="521" y="919"/>
                </a:lnTo>
                <a:lnTo>
                  <a:pt x="518" y="927"/>
                </a:lnTo>
                <a:lnTo>
                  <a:pt x="513" y="970"/>
                </a:lnTo>
                <a:lnTo>
                  <a:pt x="458" y="1318"/>
                </a:lnTo>
                <a:lnTo>
                  <a:pt x="445" y="1413"/>
                </a:lnTo>
                <a:lnTo>
                  <a:pt x="422" y="1575"/>
                </a:lnTo>
                <a:lnTo>
                  <a:pt x="408" y="1668"/>
                </a:lnTo>
                <a:lnTo>
                  <a:pt x="341" y="1692"/>
                </a:lnTo>
                <a:lnTo>
                  <a:pt x="324" y="1694"/>
                </a:lnTo>
                <a:lnTo>
                  <a:pt x="308" y="1702"/>
                </a:lnTo>
                <a:lnTo>
                  <a:pt x="236" y="1696"/>
                </a:lnTo>
                <a:lnTo>
                  <a:pt x="201" y="1682"/>
                </a:lnTo>
                <a:lnTo>
                  <a:pt x="147" y="1680"/>
                </a:lnTo>
                <a:lnTo>
                  <a:pt x="132" y="1672"/>
                </a:lnTo>
                <a:lnTo>
                  <a:pt x="104" y="1672"/>
                </a:lnTo>
                <a:lnTo>
                  <a:pt x="21" y="1629"/>
                </a:lnTo>
                <a:lnTo>
                  <a:pt x="0" y="1615"/>
                </a:lnTo>
                <a:lnTo>
                  <a:pt x="23" y="1332"/>
                </a:lnTo>
                <a:lnTo>
                  <a:pt x="38" y="1032"/>
                </a:lnTo>
                <a:lnTo>
                  <a:pt x="48" y="874"/>
                </a:lnTo>
                <a:lnTo>
                  <a:pt x="49" y="826"/>
                </a:lnTo>
                <a:lnTo>
                  <a:pt x="70" y="569"/>
                </a:lnTo>
                <a:lnTo>
                  <a:pt x="89" y="445"/>
                </a:lnTo>
                <a:lnTo>
                  <a:pt x="104" y="286"/>
                </a:lnTo>
                <a:lnTo>
                  <a:pt x="108" y="278"/>
                </a:lnTo>
                <a:lnTo>
                  <a:pt x="108" y="271"/>
                </a:lnTo>
                <a:lnTo>
                  <a:pt x="123" y="332"/>
                </a:lnTo>
                <a:lnTo>
                  <a:pt x="118" y="437"/>
                </a:lnTo>
                <a:lnTo>
                  <a:pt x="103" y="547"/>
                </a:lnTo>
                <a:lnTo>
                  <a:pt x="101" y="581"/>
                </a:lnTo>
                <a:lnTo>
                  <a:pt x="95" y="621"/>
                </a:lnTo>
                <a:lnTo>
                  <a:pt x="97" y="636"/>
                </a:lnTo>
                <a:lnTo>
                  <a:pt x="80" y="860"/>
                </a:lnTo>
                <a:lnTo>
                  <a:pt x="75" y="937"/>
                </a:lnTo>
                <a:lnTo>
                  <a:pt x="71" y="1028"/>
                </a:lnTo>
                <a:lnTo>
                  <a:pt x="60" y="1229"/>
                </a:lnTo>
                <a:lnTo>
                  <a:pt x="42" y="1455"/>
                </a:lnTo>
                <a:lnTo>
                  <a:pt x="37" y="1486"/>
                </a:lnTo>
                <a:lnTo>
                  <a:pt x="29" y="1583"/>
                </a:lnTo>
                <a:lnTo>
                  <a:pt x="38" y="1599"/>
                </a:lnTo>
                <a:lnTo>
                  <a:pt x="53" y="1607"/>
                </a:lnTo>
                <a:lnTo>
                  <a:pt x="58" y="1591"/>
                </a:lnTo>
                <a:lnTo>
                  <a:pt x="60" y="1552"/>
                </a:lnTo>
                <a:lnTo>
                  <a:pt x="58" y="1542"/>
                </a:lnTo>
                <a:lnTo>
                  <a:pt x="65" y="1471"/>
                </a:lnTo>
                <a:lnTo>
                  <a:pt x="65" y="1455"/>
                </a:lnTo>
                <a:lnTo>
                  <a:pt x="71" y="1382"/>
                </a:lnTo>
                <a:lnTo>
                  <a:pt x="78" y="1324"/>
                </a:lnTo>
                <a:lnTo>
                  <a:pt x="78" y="1295"/>
                </a:lnTo>
                <a:lnTo>
                  <a:pt x="81" y="1261"/>
                </a:lnTo>
                <a:lnTo>
                  <a:pt x="81" y="1229"/>
                </a:lnTo>
                <a:lnTo>
                  <a:pt x="90" y="1085"/>
                </a:lnTo>
                <a:lnTo>
                  <a:pt x="93" y="1022"/>
                </a:lnTo>
                <a:lnTo>
                  <a:pt x="108" y="846"/>
                </a:lnTo>
                <a:lnTo>
                  <a:pt x="108" y="794"/>
                </a:lnTo>
                <a:lnTo>
                  <a:pt x="111" y="787"/>
                </a:lnTo>
                <a:lnTo>
                  <a:pt x="115" y="686"/>
                </a:lnTo>
                <a:lnTo>
                  <a:pt x="129" y="547"/>
                </a:lnTo>
                <a:lnTo>
                  <a:pt x="136" y="492"/>
                </a:lnTo>
                <a:lnTo>
                  <a:pt x="140" y="484"/>
                </a:lnTo>
                <a:lnTo>
                  <a:pt x="142" y="470"/>
                </a:lnTo>
                <a:lnTo>
                  <a:pt x="148" y="452"/>
                </a:lnTo>
                <a:lnTo>
                  <a:pt x="145" y="443"/>
                </a:lnTo>
                <a:lnTo>
                  <a:pt x="145" y="431"/>
                </a:lnTo>
                <a:lnTo>
                  <a:pt x="164" y="510"/>
                </a:lnTo>
                <a:lnTo>
                  <a:pt x="233" y="848"/>
                </a:lnTo>
                <a:lnTo>
                  <a:pt x="250" y="927"/>
                </a:lnTo>
                <a:lnTo>
                  <a:pt x="261" y="982"/>
                </a:lnTo>
                <a:lnTo>
                  <a:pt x="261" y="992"/>
                </a:lnTo>
                <a:lnTo>
                  <a:pt x="267" y="1002"/>
                </a:lnTo>
                <a:lnTo>
                  <a:pt x="273" y="1002"/>
                </a:lnTo>
                <a:lnTo>
                  <a:pt x="276" y="1014"/>
                </a:lnTo>
                <a:lnTo>
                  <a:pt x="275" y="1018"/>
                </a:lnTo>
                <a:lnTo>
                  <a:pt x="278" y="1032"/>
                </a:lnTo>
                <a:lnTo>
                  <a:pt x="278" y="1061"/>
                </a:lnTo>
                <a:lnTo>
                  <a:pt x="281" y="1065"/>
                </a:lnTo>
                <a:lnTo>
                  <a:pt x="282" y="1065"/>
                </a:lnTo>
                <a:lnTo>
                  <a:pt x="286" y="1061"/>
                </a:lnTo>
                <a:lnTo>
                  <a:pt x="286" y="1051"/>
                </a:lnTo>
                <a:lnTo>
                  <a:pt x="287" y="1061"/>
                </a:lnTo>
                <a:lnTo>
                  <a:pt x="289" y="1065"/>
                </a:lnTo>
                <a:lnTo>
                  <a:pt x="289" y="1051"/>
                </a:lnTo>
                <a:lnTo>
                  <a:pt x="286" y="1046"/>
                </a:lnTo>
                <a:lnTo>
                  <a:pt x="282" y="1006"/>
                </a:lnTo>
                <a:lnTo>
                  <a:pt x="278" y="994"/>
                </a:lnTo>
                <a:lnTo>
                  <a:pt x="271" y="988"/>
                </a:lnTo>
                <a:lnTo>
                  <a:pt x="268" y="974"/>
                </a:lnTo>
                <a:lnTo>
                  <a:pt x="258" y="937"/>
                </a:lnTo>
                <a:lnTo>
                  <a:pt x="185" y="579"/>
                </a:lnTo>
                <a:lnTo>
                  <a:pt x="174" y="516"/>
                </a:lnTo>
                <a:lnTo>
                  <a:pt x="169" y="506"/>
                </a:lnTo>
                <a:lnTo>
                  <a:pt x="167" y="488"/>
                </a:lnTo>
                <a:lnTo>
                  <a:pt x="144" y="373"/>
                </a:lnTo>
                <a:lnTo>
                  <a:pt x="144" y="362"/>
                </a:lnTo>
                <a:lnTo>
                  <a:pt x="138" y="354"/>
                </a:lnTo>
                <a:lnTo>
                  <a:pt x="134" y="350"/>
                </a:lnTo>
                <a:lnTo>
                  <a:pt x="133" y="330"/>
                </a:lnTo>
                <a:lnTo>
                  <a:pt x="130" y="300"/>
                </a:lnTo>
                <a:lnTo>
                  <a:pt x="122" y="271"/>
                </a:lnTo>
                <a:lnTo>
                  <a:pt x="117" y="245"/>
                </a:lnTo>
                <a:lnTo>
                  <a:pt x="110" y="221"/>
                </a:lnTo>
                <a:lnTo>
                  <a:pt x="114" y="201"/>
                </a:lnTo>
                <a:lnTo>
                  <a:pt x="117" y="197"/>
                </a:lnTo>
                <a:lnTo>
                  <a:pt x="124" y="197"/>
                </a:lnTo>
                <a:lnTo>
                  <a:pt x="127" y="180"/>
                </a:lnTo>
                <a:lnTo>
                  <a:pt x="192" y="75"/>
                </a:lnTo>
                <a:lnTo>
                  <a:pt x="245" y="16"/>
                </a:lnTo>
                <a:lnTo>
                  <a:pt x="261" y="0"/>
                </a:lnTo>
                <a:lnTo>
                  <a:pt x="278" y="2"/>
                </a:lnTo>
                <a:lnTo>
                  <a:pt x="320" y="29"/>
                </a:lnTo>
                <a:close/>
              </a:path>
            </a:pathLst>
          </a:custGeom>
          <a:solidFill>
            <a:srgbClr val="ff9966"/>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90" name=""/>
          <p:cNvSpPr/>
          <p:nvPr/>
        </p:nvSpPr>
        <p:spPr>
          <a:xfrm>
            <a:off x="3911760" y="3425760"/>
            <a:ext cx="4680" cy="11160"/>
          </a:xfrm>
          <a:custGeom>
            <a:avLst/>
            <a:gdLst/>
            <a:ahLst/>
            <a:rect l="l" t="t" r="r" b="b"/>
            <a:pathLst>
              <a:path w="3" h="13">
                <a:moveTo>
                  <a:pt x="3" y="8"/>
                </a:moveTo>
                <a:lnTo>
                  <a:pt x="0" y="13"/>
                </a:lnTo>
                <a:lnTo>
                  <a:pt x="1" y="0"/>
                </a:lnTo>
                <a:lnTo>
                  <a:pt x="3" y="0"/>
                </a:lnTo>
                <a:lnTo>
                  <a:pt x="3" y="8"/>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ffff00"/>
              </a:solidFill>
              <a:latin typeface="Times New Roman"/>
            </a:endParaRPr>
          </a:p>
        </p:txBody>
      </p:sp>
      <p:sp>
        <p:nvSpPr>
          <p:cNvPr id="291" name=""/>
          <p:cNvSpPr/>
          <p:nvPr/>
        </p:nvSpPr>
        <p:spPr>
          <a:xfrm>
            <a:off x="3773520" y="3454560"/>
            <a:ext cx="152280" cy="942840"/>
          </a:xfrm>
          <a:custGeom>
            <a:avLst/>
            <a:gdLst/>
            <a:ahLst/>
            <a:rect l="l" t="t" r="r" b="b"/>
            <a:pathLst>
              <a:path w="96" h="1188">
                <a:moveTo>
                  <a:pt x="91" y="65"/>
                </a:moveTo>
                <a:lnTo>
                  <a:pt x="80" y="121"/>
                </a:lnTo>
                <a:lnTo>
                  <a:pt x="80" y="137"/>
                </a:lnTo>
                <a:lnTo>
                  <a:pt x="78" y="133"/>
                </a:lnTo>
                <a:lnTo>
                  <a:pt x="75" y="143"/>
                </a:lnTo>
                <a:lnTo>
                  <a:pt x="73" y="184"/>
                </a:lnTo>
                <a:lnTo>
                  <a:pt x="70" y="239"/>
                </a:lnTo>
                <a:lnTo>
                  <a:pt x="66" y="257"/>
                </a:lnTo>
                <a:lnTo>
                  <a:pt x="48" y="560"/>
                </a:lnTo>
                <a:lnTo>
                  <a:pt x="43" y="631"/>
                </a:lnTo>
                <a:lnTo>
                  <a:pt x="33" y="799"/>
                </a:lnTo>
                <a:lnTo>
                  <a:pt x="16" y="1064"/>
                </a:lnTo>
                <a:lnTo>
                  <a:pt x="6" y="1188"/>
                </a:lnTo>
                <a:lnTo>
                  <a:pt x="0" y="1184"/>
                </a:lnTo>
                <a:lnTo>
                  <a:pt x="3" y="1107"/>
                </a:lnTo>
                <a:lnTo>
                  <a:pt x="10" y="1056"/>
                </a:lnTo>
                <a:lnTo>
                  <a:pt x="9" y="1054"/>
                </a:lnTo>
                <a:lnTo>
                  <a:pt x="16" y="983"/>
                </a:lnTo>
                <a:lnTo>
                  <a:pt x="16" y="951"/>
                </a:lnTo>
                <a:lnTo>
                  <a:pt x="21" y="912"/>
                </a:lnTo>
                <a:lnTo>
                  <a:pt x="25" y="886"/>
                </a:lnTo>
                <a:lnTo>
                  <a:pt x="25" y="852"/>
                </a:lnTo>
                <a:lnTo>
                  <a:pt x="31" y="811"/>
                </a:lnTo>
                <a:lnTo>
                  <a:pt x="31" y="783"/>
                </a:lnTo>
                <a:lnTo>
                  <a:pt x="32" y="753"/>
                </a:lnTo>
                <a:lnTo>
                  <a:pt x="36" y="674"/>
                </a:lnTo>
                <a:lnTo>
                  <a:pt x="40" y="587"/>
                </a:lnTo>
                <a:lnTo>
                  <a:pt x="44" y="548"/>
                </a:lnTo>
                <a:lnTo>
                  <a:pt x="51" y="403"/>
                </a:lnTo>
                <a:lnTo>
                  <a:pt x="60" y="301"/>
                </a:lnTo>
                <a:lnTo>
                  <a:pt x="60" y="255"/>
                </a:lnTo>
                <a:lnTo>
                  <a:pt x="66" y="237"/>
                </a:lnTo>
                <a:lnTo>
                  <a:pt x="69" y="172"/>
                </a:lnTo>
                <a:lnTo>
                  <a:pt x="69" y="156"/>
                </a:lnTo>
                <a:lnTo>
                  <a:pt x="72" y="127"/>
                </a:lnTo>
                <a:lnTo>
                  <a:pt x="76" y="107"/>
                </a:lnTo>
                <a:lnTo>
                  <a:pt x="76" y="93"/>
                </a:lnTo>
                <a:lnTo>
                  <a:pt x="88" y="22"/>
                </a:lnTo>
                <a:lnTo>
                  <a:pt x="96" y="0"/>
                </a:lnTo>
                <a:lnTo>
                  <a:pt x="94" y="32"/>
                </a:lnTo>
                <a:lnTo>
                  <a:pt x="91" y="65"/>
                </a:lnTo>
                <a:close/>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92" name=""/>
          <p:cNvSpPr/>
          <p:nvPr/>
        </p:nvSpPr>
        <p:spPr>
          <a:xfrm>
            <a:off x="4552920" y="3665520"/>
            <a:ext cx="827280" cy="820800"/>
          </a:xfrm>
          <a:custGeom>
            <a:avLst/>
            <a:gdLst/>
            <a:ahLst/>
            <a:rect l="l" t="t" r="r" b="b"/>
            <a:pathLst>
              <a:path w="521" h="1034">
                <a:moveTo>
                  <a:pt x="96" y="50"/>
                </a:moveTo>
                <a:lnTo>
                  <a:pt x="160" y="97"/>
                </a:lnTo>
                <a:lnTo>
                  <a:pt x="211" y="142"/>
                </a:lnTo>
                <a:lnTo>
                  <a:pt x="269" y="174"/>
                </a:lnTo>
                <a:lnTo>
                  <a:pt x="357" y="245"/>
                </a:lnTo>
                <a:lnTo>
                  <a:pt x="426" y="283"/>
                </a:lnTo>
                <a:lnTo>
                  <a:pt x="463" y="299"/>
                </a:lnTo>
                <a:lnTo>
                  <a:pt x="468" y="299"/>
                </a:lnTo>
                <a:lnTo>
                  <a:pt x="479" y="407"/>
                </a:lnTo>
                <a:lnTo>
                  <a:pt x="479" y="423"/>
                </a:lnTo>
                <a:lnTo>
                  <a:pt x="489" y="504"/>
                </a:lnTo>
                <a:lnTo>
                  <a:pt x="491" y="518"/>
                </a:lnTo>
                <a:lnTo>
                  <a:pt x="493" y="544"/>
                </a:lnTo>
                <a:lnTo>
                  <a:pt x="495" y="550"/>
                </a:lnTo>
                <a:lnTo>
                  <a:pt x="493" y="567"/>
                </a:lnTo>
                <a:lnTo>
                  <a:pt x="498" y="577"/>
                </a:lnTo>
                <a:lnTo>
                  <a:pt x="499" y="607"/>
                </a:lnTo>
                <a:lnTo>
                  <a:pt x="501" y="660"/>
                </a:lnTo>
                <a:lnTo>
                  <a:pt x="506" y="686"/>
                </a:lnTo>
                <a:lnTo>
                  <a:pt x="505" y="696"/>
                </a:lnTo>
                <a:lnTo>
                  <a:pt x="505" y="700"/>
                </a:lnTo>
                <a:lnTo>
                  <a:pt x="509" y="763"/>
                </a:lnTo>
                <a:lnTo>
                  <a:pt x="515" y="842"/>
                </a:lnTo>
                <a:lnTo>
                  <a:pt x="515" y="870"/>
                </a:lnTo>
                <a:lnTo>
                  <a:pt x="520" y="888"/>
                </a:lnTo>
                <a:lnTo>
                  <a:pt x="521" y="890"/>
                </a:lnTo>
                <a:lnTo>
                  <a:pt x="463" y="929"/>
                </a:lnTo>
                <a:lnTo>
                  <a:pt x="435" y="945"/>
                </a:lnTo>
                <a:lnTo>
                  <a:pt x="370" y="989"/>
                </a:lnTo>
                <a:lnTo>
                  <a:pt x="296" y="1016"/>
                </a:lnTo>
                <a:lnTo>
                  <a:pt x="242" y="1026"/>
                </a:lnTo>
                <a:lnTo>
                  <a:pt x="212" y="1026"/>
                </a:lnTo>
                <a:lnTo>
                  <a:pt x="170" y="1034"/>
                </a:lnTo>
                <a:lnTo>
                  <a:pt x="118" y="1026"/>
                </a:lnTo>
                <a:lnTo>
                  <a:pt x="107" y="1018"/>
                </a:lnTo>
                <a:lnTo>
                  <a:pt x="102" y="1018"/>
                </a:lnTo>
                <a:lnTo>
                  <a:pt x="100" y="1020"/>
                </a:lnTo>
                <a:lnTo>
                  <a:pt x="91" y="971"/>
                </a:lnTo>
                <a:lnTo>
                  <a:pt x="80" y="870"/>
                </a:lnTo>
                <a:lnTo>
                  <a:pt x="77" y="838"/>
                </a:lnTo>
                <a:lnTo>
                  <a:pt x="73" y="815"/>
                </a:lnTo>
                <a:lnTo>
                  <a:pt x="72" y="781"/>
                </a:lnTo>
                <a:lnTo>
                  <a:pt x="50" y="645"/>
                </a:lnTo>
                <a:lnTo>
                  <a:pt x="31" y="504"/>
                </a:lnTo>
                <a:lnTo>
                  <a:pt x="21" y="439"/>
                </a:lnTo>
                <a:lnTo>
                  <a:pt x="15" y="374"/>
                </a:lnTo>
                <a:lnTo>
                  <a:pt x="9" y="354"/>
                </a:lnTo>
                <a:lnTo>
                  <a:pt x="6" y="324"/>
                </a:lnTo>
                <a:lnTo>
                  <a:pt x="1" y="314"/>
                </a:lnTo>
                <a:lnTo>
                  <a:pt x="0" y="255"/>
                </a:lnTo>
                <a:lnTo>
                  <a:pt x="7" y="223"/>
                </a:lnTo>
                <a:lnTo>
                  <a:pt x="14" y="184"/>
                </a:lnTo>
                <a:lnTo>
                  <a:pt x="20" y="174"/>
                </a:lnTo>
                <a:lnTo>
                  <a:pt x="39" y="44"/>
                </a:lnTo>
                <a:lnTo>
                  <a:pt x="45" y="20"/>
                </a:lnTo>
                <a:lnTo>
                  <a:pt x="47" y="16"/>
                </a:lnTo>
                <a:lnTo>
                  <a:pt x="46" y="0"/>
                </a:lnTo>
                <a:lnTo>
                  <a:pt x="78" y="28"/>
                </a:lnTo>
                <a:lnTo>
                  <a:pt x="96" y="50"/>
                </a:lnTo>
                <a:close/>
              </a:path>
            </a:pathLst>
          </a:custGeom>
          <a:solidFill>
            <a:srgbClr val="ff9966"/>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93" name=""/>
          <p:cNvSpPr/>
          <p:nvPr/>
        </p:nvSpPr>
        <p:spPr>
          <a:xfrm>
            <a:off x="4906800" y="4422600"/>
            <a:ext cx="490680" cy="1243080"/>
          </a:xfrm>
          <a:custGeom>
            <a:avLst/>
            <a:gdLst/>
            <a:ahLst/>
            <a:rect l="l" t="t" r="r" b="b"/>
            <a:pathLst>
              <a:path w="309" h="1566">
                <a:moveTo>
                  <a:pt x="225" y="18"/>
                </a:moveTo>
                <a:lnTo>
                  <a:pt x="234" y="41"/>
                </a:lnTo>
                <a:lnTo>
                  <a:pt x="234" y="111"/>
                </a:lnTo>
                <a:lnTo>
                  <a:pt x="233" y="233"/>
                </a:lnTo>
                <a:lnTo>
                  <a:pt x="234" y="370"/>
                </a:lnTo>
                <a:lnTo>
                  <a:pt x="249" y="476"/>
                </a:lnTo>
                <a:lnTo>
                  <a:pt x="253" y="484"/>
                </a:lnTo>
                <a:lnTo>
                  <a:pt x="260" y="565"/>
                </a:lnTo>
                <a:lnTo>
                  <a:pt x="264" y="583"/>
                </a:lnTo>
                <a:lnTo>
                  <a:pt x="261" y="595"/>
                </a:lnTo>
                <a:lnTo>
                  <a:pt x="262" y="611"/>
                </a:lnTo>
                <a:lnTo>
                  <a:pt x="262" y="617"/>
                </a:lnTo>
                <a:lnTo>
                  <a:pt x="268" y="623"/>
                </a:lnTo>
                <a:lnTo>
                  <a:pt x="275" y="769"/>
                </a:lnTo>
                <a:lnTo>
                  <a:pt x="277" y="876"/>
                </a:lnTo>
                <a:lnTo>
                  <a:pt x="282" y="963"/>
                </a:lnTo>
                <a:lnTo>
                  <a:pt x="283" y="1050"/>
                </a:lnTo>
                <a:lnTo>
                  <a:pt x="292" y="1174"/>
                </a:lnTo>
                <a:lnTo>
                  <a:pt x="292" y="1214"/>
                </a:lnTo>
                <a:lnTo>
                  <a:pt x="297" y="1259"/>
                </a:lnTo>
                <a:lnTo>
                  <a:pt x="297" y="1273"/>
                </a:lnTo>
                <a:lnTo>
                  <a:pt x="299" y="1277"/>
                </a:lnTo>
                <a:lnTo>
                  <a:pt x="297" y="1285"/>
                </a:lnTo>
                <a:lnTo>
                  <a:pt x="306" y="1429"/>
                </a:lnTo>
                <a:lnTo>
                  <a:pt x="307" y="1461"/>
                </a:lnTo>
                <a:lnTo>
                  <a:pt x="309" y="1485"/>
                </a:lnTo>
                <a:lnTo>
                  <a:pt x="297" y="1502"/>
                </a:lnTo>
                <a:lnTo>
                  <a:pt x="223" y="1544"/>
                </a:lnTo>
                <a:lnTo>
                  <a:pt x="175" y="1566"/>
                </a:lnTo>
                <a:lnTo>
                  <a:pt x="168" y="1512"/>
                </a:lnTo>
                <a:lnTo>
                  <a:pt x="164" y="1471"/>
                </a:lnTo>
                <a:lnTo>
                  <a:pt x="158" y="1455"/>
                </a:lnTo>
                <a:lnTo>
                  <a:pt x="156" y="1431"/>
                </a:lnTo>
                <a:lnTo>
                  <a:pt x="148" y="1384"/>
                </a:lnTo>
                <a:lnTo>
                  <a:pt x="141" y="1350"/>
                </a:lnTo>
                <a:lnTo>
                  <a:pt x="138" y="1332"/>
                </a:lnTo>
                <a:lnTo>
                  <a:pt x="134" y="1325"/>
                </a:lnTo>
                <a:lnTo>
                  <a:pt x="133" y="1299"/>
                </a:lnTo>
                <a:lnTo>
                  <a:pt x="123" y="1275"/>
                </a:lnTo>
                <a:lnTo>
                  <a:pt x="125" y="1273"/>
                </a:lnTo>
                <a:lnTo>
                  <a:pt x="104" y="1200"/>
                </a:lnTo>
                <a:lnTo>
                  <a:pt x="92" y="1139"/>
                </a:lnTo>
                <a:lnTo>
                  <a:pt x="91" y="1113"/>
                </a:lnTo>
                <a:lnTo>
                  <a:pt x="86" y="1099"/>
                </a:lnTo>
                <a:lnTo>
                  <a:pt x="86" y="1069"/>
                </a:lnTo>
                <a:lnTo>
                  <a:pt x="80" y="1054"/>
                </a:lnTo>
                <a:lnTo>
                  <a:pt x="76" y="1022"/>
                </a:lnTo>
                <a:lnTo>
                  <a:pt x="68" y="984"/>
                </a:lnTo>
                <a:lnTo>
                  <a:pt x="50" y="903"/>
                </a:lnTo>
                <a:lnTo>
                  <a:pt x="39" y="812"/>
                </a:lnTo>
                <a:lnTo>
                  <a:pt x="36" y="807"/>
                </a:lnTo>
                <a:lnTo>
                  <a:pt x="30" y="725"/>
                </a:lnTo>
                <a:lnTo>
                  <a:pt x="30" y="692"/>
                </a:lnTo>
                <a:lnTo>
                  <a:pt x="23" y="684"/>
                </a:lnTo>
                <a:lnTo>
                  <a:pt x="24" y="583"/>
                </a:lnTo>
                <a:lnTo>
                  <a:pt x="34" y="459"/>
                </a:lnTo>
                <a:lnTo>
                  <a:pt x="32" y="344"/>
                </a:lnTo>
                <a:lnTo>
                  <a:pt x="8" y="146"/>
                </a:lnTo>
                <a:lnTo>
                  <a:pt x="0" y="97"/>
                </a:lnTo>
                <a:lnTo>
                  <a:pt x="0" y="91"/>
                </a:lnTo>
                <a:lnTo>
                  <a:pt x="59" y="83"/>
                </a:lnTo>
                <a:lnTo>
                  <a:pt x="129" y="59"/>
                </a:lnTo>
                <a:lnTo>
                  <a:pt x="225" y="0"/>
                </a:lnTo>
                <a:lnTo>
                  <a:pt x="229" y="0"/>
                </a:lnTo>
                <a:lnTo>
                  <a:pt x="225" y="18"/>
                </a:lnTo>
                <a:close/>
              </a:path>
            </a:pathLst>
          </a:custGeom>
          <a:solidFill>
            <a:srgbClr val="e58d35"/>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94" name=""/>
          <p:cNvSpPr/>
          <p:nvPr/>
        </p:nvSpPr>
        <p:spPr>
          <a:xfrm>
            <a:off x="3494160" y="4444920"/>
            <a:ext cx="574560" cy="1243080"/>
          </a:xfrm>
          <a:custGeom>
            <a:avLst/>
            <a:gdLst/>
            <a:ahLst/>
            <a:rect l="l" t="t" r="r" b="b"/>
            <a:pathLst>
              <a:path w="362" h="1565">
                <a:moveTo>
                  <a:pt x="330" y="63"/>
                </a:moveTo>
                <a:lnTo>
                  <a:pt x="332" y="69"/>
                </a:lnTo>
                <a:lnTo>
                  <a:pt x="354" y="71"/>
                </a:lnTo>
                <a:lnTo>
                  <a:pt x="362" y="77"/>
                </a:lnTo>
                <a:lnTo>
                  <a:pt x="357" y="95"/>
                </a:lnTo>
                <a:lnTo>
                  <a:pt x="355" y="124"/>
                </a:lnTo>
                <a:lnTo>
                  <a:pt x="332" y="221"/>
                </a:lnTo>
                <a:lnTo>
                  <a:pt x="288" y="350"/>
                </a:lnTo>
                <a:lnTo>
                  <a:pt x="278" y="413"/>
                </a:lnTo>
                <a:lnTo>
                  <a:pt x="259" y="666"/>
                </a:lnTo>
                <a:lnTo>
                  <a:pt x="246" y="731"/>
                </a:lnTo>
                <a:lnTo>
                  <a:pt x="214" y="879"/>
                </a:lnTo>
                <a:lnTo>
                  <a:pt x="172" y="1089"/>
                </a:lnTo>
                <a:lnTo>
                  <a:pt x="157" y="1196"/>
                </a:lnTo>
                <a:lnTo>
                  <a:pt x="142" y="1350"/>
                </a:lnTo>
                <a:lnTo>
                  <a:pt x="134" y="1478"/>
                </a:lnTo>
                <a:lnTo>
                  <a:pt x="129" y="1532"/>
                </a:lnTo>
                <a:lnTo>
                  <a:pt x="124" y="1540"/>
                </a:lnTo>
                <a:lnTo>
                  <a:pt x="125" y="1559"/>
                </a:lnTo>
                <a:lnTo>
                  <a:pt x="93" y="1565"/>
                </a:lnTo>
                <a:lnTo>
                  <a:pt x="47" y="1552"/>
                </a:lnTo>
                <a:lnTo>
                  <a:pt x="8" y="1532"/>
                </a:lnTo>
                <a:lnTo>
                  <a:pt x="2" y="1494"/>
                </a:lnTo>
                <a:lnTo>
                  <a:pt x="2" y="1441"/>
                </a:lnTo>
                <a:lnTo>
                  <a:pt x="0" y="1344"/>
                </a:lnTo>
                <a:lnTo>
                  <a:pt x="7" y="976"/>
                </a:lnTo>
                <a:lnTo>
                  <a:pt x="8" y="840"/>
                </a:lnTo>
                <a:lnTo>
                  <a:pt x="13" y="812"/>
                </a:lnTo>
                <a:lnTo>
                  <a:pt x="18" y="731"/>
                </a:lnTo>
                <a:lnTo>
                  <a:pt x="17" y="727"/>
                </a:lnTo>
                <a:lnTo>
                  <a:pt x="23" y="684"/>
                </a:lnTo>
                <a:lnTo>
                  <a:pt x="23" y="652"/>
                </a:lnTo>
                <a:lnTo>
                  <a:pt x="28" y="634"/>
                </a:lnTo>
                <a:lnTo>
                  <a:pt x="51" y="437"/>
                </a:lnTo>
                <a:lnTo>
                  <a:pt x="59" y="383"/>
                </a:lnTo>
                <a:lnTo>
                  <a:pt x="77" y="298"/>
                </a:lnTo>
                <a:lnTo>
                  <a:pt x="115" y="124"/>
                </a:lnTo>
                <a:lnTo>
                  <a:pt x="134" y="0"/>
                </a:lnTo>
                <a:lnTo>
                  <a:pt x="244" y="49"/>
                </a:lnTo>
                <a:lnTo>
                  <a:pt x="330" y="63"/>
                </a:lnTo>
                <a:close/>
              </a:path>
            </a:pathLst>
          </a:custGeom>
          <a:solidFill>
            <a:srgbClr val="e58d35"/>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95" name=""/>
          <p:cNvSpPr/>
          <p:nvPr/>
        </p:nvSpPr>
        <p:spPr>
          <a:xfrm>
            <a:off x="3836880" y="4487760"/>
            <a:ext cx="30240" cy="115920"/>
          </a:xfrm>
          <a:custGeom>
            <a:avLst/>
            <a:gdLst/>
            <a:ahLst/>
            <a:rect l="l" t="t" r="r" b="b"/>
            <a:pathLst>
              <a:path w="19" h="144">
                <a:moveTo>
                  <a:pt x="8" y="91"/>
                </a:moveTo>
                <a:lnTo>
                  <a:pt x="10" y="123"/>
                </a:lnTo>
                <a:lnTo>
                  <a:pt x="14" y="127"/>
                </a:lnTo>
                <a:lnTo>
                  <a:pt x="14" y="134"/>
                </a:lnTo>
                <a:lnTo>
                  <a:pt x="10" y="144"/>
                </a:lnTo>
                <a:lnTo>
                  <a:pt x="4" y="144"/>
                </a:lnTo>
                <a:lnTo>
                  <a:pt x="0" y="127"/>
                </a:lnTo>
                <a:lnTo>
                  <a:pt x="4" y="40"/>
                </a:lnTo>
                <a:lnTo>
                  <a:pt x="13" y="0"/>
                </a:lnTo>
                <a:lnTo>
                  <a:pt x="19" y="2"/>
                </a:lnTo>
                <a:lnTo>
                  <a:pt x="8" y="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96" name=""/>
          <p:cNvSpPr/>
          <p:nvPr/>
        </p:nvSpPr>
        <p:spPr>
          <a:xfrm>
            <a:off x="5043600" y="4489560"/>
            <a:ext cx="56880" cy="118800"/>
          </a:xfrm>
          <a:custGeom>
            <a:avLst/>
            <a:gdLst/>
            <a:ahLst/>
            <a:rect l="l" t="t" r="r" b="b"/>
            <a:pathLst>
              <a:path w="36" h="148">
                <a:moveTo>
                  <a:pt x="18" y="65"/>
                </a:moveTo>
                <a:lnTo>
                  <a:pt x="36" y="136"/>
                </a:lnTo>
                <a:lnTo>
                  <a:pt x="35" y="148"/>
                </a:lnTo>
                <a:lnTo>
                  <a:pt x="32" y="148"/>
                </a:lnTo>
                <a:lnTo>
                  <a:pt x="14" y="83"/>
                </a:lnTo>
                <a:lnTo>
                  <a:pt x="12" y="65"/>
                </a:lnTo>
                <a:lnTo>
                  <a:pt x="4" y="26"/>
                </a:lnTo>
                <a:lnTo>
                  <a:pt x="0" y="6"/>
                </a:lnTo>
                <a:lnTo>
                  <a:pt x="4" y="0"/>
                </a:lnTo>
                <a:lnTo>
                  <a:pt x="9" y="0"/>
                </a:lnTo>
                <a:lnTo>
                  <a:pt x="18" y="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97" name=""/>
          <p:cNvSpPr/>
          <p:nvPr/>
        </p:nvSpPr>
        <p:spPr>
          <a:xfrm>
            <a:off x="5092560" y="4971960"/>
            <a:ext cx="86040" cy="282600"/>
          </a:xfrm>
          <a:custGeom>
            <a:avLst/>
            <a:gdLst/>
            <a:ahLst/>
            <a:rect l="l" t="t" r="r" b="b"/>
            <a:pathLst>
              <a:path w="54" h="356">
                <a:moveTo>
                  <a:pt x="6" y="16"/>
                </a:moveTo>
                <a:lnTo>
                  <a:pt x="10" y="24"/>
                </a:lnTo>
                <a:lnTo>
                  <a:pt x="17" y="99"/>
                </a:lnTo>
                <a:lnTo>
                  <a:pt x="16" y="101"/>
                </a:lnTo>
                <a:lnTo>
                  <a:pt x="24" y="132"/>
                </a:lnTo>
                <a:lnTo>
                  <a:pt x="21" y="146"/>
                </a:lnTo>
                <a:lnTo>
                  <a:pt x="26" y="154"/>
                </a:lnTo>
                <a:lnTo>
                  <a:pt x="28" y="184"/>
                </a:lnTo>
                <a:lnTo>
                  <a:pt x="32" y="211"/>
                </a:lnTo>
                <a:lnTo>
                  <a:pt x="32" y="213"/>
                </a:lnTo>
                <a:lnTo>
                  <a:pt x="35" y="219"/>
                </a:lnTo>
                <a:lnTo>
                  <a:pt x="35" y="235"/>
                </a:lnTo>
                <a:lnTo>
                  <a:pt x="41" y="253"/>
                </a:lnTo>
                <a:lnTo>
                  <a:pt x="41" y="275"/>
                </a:lnTo>
                <a:lnTo>
                  <a:pt x="46" y="285"/>
                </a:lnTo>
                <a:lnTo>
                  <a:pt x="54" y="350"/>
                </a:lnTo>
                <a:lnTo>
                  <a:pt x="51" y="356"/>
                </a:lnTo>
                <a:lnTo>
                  <a:pt x="48" y="356"/>
                </a:lnTo>
                <a:lnTo>
                  <a:pt x="32" y="245"/>
                </a:lnTo>
                <a:lnTo>
                  <a:pt x="17" y="144"/>
                </a:lnTo>
                <a:lnTo>
                  <a:pt x="4" y="39"/>
                </a:lnTo>
                <a:lnTo>
                  <a:pt x="0" y="0"/>
                </a:lnTo>
                <a:lnTo>
                  <a:pt x="4" y="14"/>
                </a:lnTo>
                <a:lnTo>
                  <a:pt x="6"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98" name=""/>
          <p:cNvSpPr/>
          <p:nvPr/>
        </p:nvSpPr>
        <p:spPr>
          <a:xfrm>
            <a:off x="5111640" y="5610240"/>
            <a:ext cx="327240" cy="158760"/>
          </a:xfrm>
          <a:custGeom>
            <a:avLst/>
            <a:gdLst/>
            <a:ahLst/>
            <a:rect l="l" t="t" r="r" b="b"/>
            <a:pathLst>
              <a:path w="206" h="200">
                <a:moveTo>
                  <a:pt x="206" y="18"/>
                </a:moveTo>
                <a:lnTo>
                  <a:pt x="206" y="80"/>
                </a:lnTo>
                <a:lnTo>
                  <a:pt x="186" y="159"/>
                </a:lnTo>
                <a:lnTo>
                  <a:pt x="182" y="188"/>
                </a:lnTo>
                <a:lnTo>
                  <a:pt x="105" y="200"/>
                </a:lnTo>
                <a:lnTo>
                  <a:pt x="104" y="198"/>
                </a:lnTo>
                <a:lnTo>
                  <a:pt x="101" y="198"/>
                </a:lnTo>
                <a:lnTo>
                  <a:pt x="135" y="129"/>
                </a:lnTo>
                <a:lnTo>
                  <a:pt x="149" y="86"/>
                </a:lnTo>
                <a:lnTo>
                  <a:pt x="149" y="80"/>
                </a:lnTo>
                <a:lnTo>
                  <a:pt x="139" y="80"/>
                </a:lnTo>
                <a:lnTo>
                  <a:pt x="125" y="101"/>
                </a:lnTo>
                <a:lnTo>
                  <a:pt x="29" y="180"/>
                </a:lnTo>
                <a:lnTo>
                  <a:pt x="14" y="178"/>
                </a:lnTo>
                <a:lnTo>
                  <a:pt x="9" y="169"/>
                </a:lnTo>
                <a:lnTo>
                  <a:pt x="24" y="135"/>
                </a:lnTo>
                <a:lnTo>
                  <a:pt x="26" y="123"/>
                </a:lnTo>
                <a:lnTo>
                  <a:pt x="5" y="103"/>
                </a:lnTo>
                <a:lnTo>
                  <a:pt x="0" y="86"/>
                </a:lnTo>
                <a:lnTo>
                  <a:pt x="5" y="60"/>
                </a:lnTo>
                <a:lnTo>
                  <a:pt x="6" y="58"/>
                </a:lnTo>
                <a:lnTo>
                  <a:pt x="6" y="54"/>
                </a:lnTo>
                <a:lnTo>
                  <a:pt x="14" y="78"/>
                </a:lnTo>
                <a:lnTo>
                  <a:pt x="24" y="89"/>
                </a:lnTo>
                <a:lnTo>
                  <a:pt x="37" y="91"/>
                </a:lnTo>
                <a:lnTo>
                  <a:pt x="41" y="97"/>
                </a:lnTo>
                <a:lnTo>
                  <a:pt x="94" y="68"/>
                </a:lnTo>
                <a:lnTo>
                  <a:pt x="152" y="36"/>
                </a:lnTo>
                <a:lnTo>
                  <a:pt x="192" y="8"/>
                </a:lnTo>
                <a:lnTo>
                  <a:pt x="194" y="0"/>
                </a:lnTo>
                <a:lnTo>
                  <a:pt x="201" y="0"/>
                </a:lnTo>
                <a:lnTo>
                  <a:pt x="206" y="18"/>
                </a:lnTo>
                <a:close/>
              </a:path>
            </a:pathLst>
          </a:custGeom>
          <a:solidFill>
            <a:srgbClr val="ff7272"/>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99" name=""/>
          <p:cNvSpPr/>
          <p:nvPr/>
        </p:nvSpPr>
        <p:spPr>
          <a:xfrm>
            <a:off x="3411360" y="5621400"/>
            <a:ext cx="338400" cy="228600"/>
          </a:xfrm>
          <a:custGeom>
            <a:avLst/>
            <a:gdLst/>
            <a:ahLst/>
            <a:rect l="l" t="t" r="r" b="b"/>
            <a:pathLst>
              <a:path w="213" h="289">
                <a:moveTo>
                  <a:pt x="34" y="12"/>
                </a:moveTo>
                <a:lnTo>
                  <a:pt x="36" y="38"/>
                </a:lnTo>
                <a:lnTo>
                  <a:pt x="49" y="66"/>
                </a:lnTo>
                <a:lnTo>
                  <a:pt x="54" y="70"/>
                </a:lnTo>
                <a:lnTo>
                  <a:pt x="80" y="77"/>
                </a:lnTo>
                <a:lnTo>
                  <a:pt x="122" y="93"/>
                </a:lnTo>
                <a:lnTo>
                  <a:pt x="161" y="101"/>
                </a:lnTo>
                <a:lnTo>
                  <a:pt x="199" y="89"/>
                </a:lnTo>
                <a:lnTo>
                  <a:pt x="207" y="83"/>
                </a:lnTo>
                <a:lnTo>
                  <a:pt x="209" y="83"/>
                </a:lnTo>
                <a:lnTo>
                  <a:pt x="213" y="107"/>
                </a:lnTo>
                <a:lnTo>
                  <a:pt x="212" y="139"/>
                </a:lnTo>
                <a:lnTo>
                  <a:pt x="168" y="192"/>
                </a:lnTo>
                <a:lnTo>
                  <a:pt x="140" y="216"/>
                </a:lnTo>
                <a:lnTo>
                  <a:pt x="140" y="230"/>
                </a:lnTo>
                <a:lnTo>
                  <a:pt x="164" y="230"/>
                </a:lnTo>
                <a:lnTo>
                  <a:pt x="184" y="214"/>
                </a:lnTo>
                <a:lnTo>
                  <a:pt x="192" y="204"/>
                </a:lnTo>
                <a:lnTo>
                  <a:pt x="197" y="204"/>
                </a:lnTo>
                <a:lnTo>
                  <a:pt x="197" y="230"/>
                </a:lnTo>
                <a:lnTo>
                  <a:pt x="190" y="255"/>
                </a:lnTo>
                <a:lnTo>
                  <a:pt x="178" y="265"/>
                </a:lnTo>
                <a:lnTo>
                  <a:pt x="177" y="273"/>
                </a:lnTo>
                <a:lnTo>
                  <a:pt x="162" y="285"/>
                </a:lnTo>
                <a:lnTo>
                  <a:pt x="140" y="289"/>
                </a:lnTo>
                <a:lnTo>
                  <a:pt x="137" y="289"/>
                </a:lnTo>
                <a:lnTo>
                  <a:pt x="131" y="228"/>
                </a:lnTo>
                <a:lnTo>
                  <a:pt x="118" y="176"/>
                </a:lnTo>
                <a:lnTo>
                  <a:pt x="102" y="168"/>
                </a:lnTo>
                <a:lnTo>
                  <a:pt x="58" y="176"/>
                </a:lnTo>
                <a:lnTo>
                  <a:pt x="41" y="190"/>
                </a:lnTo>
                <a:lnTo>
                  <a:pt x="12" y="196"/>
                </a:lnTo>
                <a:lnTo>
                  <a:pt x="3" y="204"/>
                </a:lnTo>
                <a:lnTo>
                  <a:pt x="0" y="204"/>
                </a:lnTo>
                <a:lnTo>
                  <a:pt x="0" y="184"/>
                </a:lnTo>
                <a:lnTo>
                  <a:pt x="21" y="119"/>
                </a:lnTo>
                <a:lnTo>
                  <a:pt x="27" y="107"/>
                </a:lnTo>
                <a:lnTo>
                  <a:pt x="41" y="137"/>
                </a:lnTo>
                <a:lnTo>
                  <a:pt x="73" y="158"/>
                </a:lnTo>
                <a:lnTo>
                  <a:pt x="80" y="147"/>
                </a:lnTo>
                <a:lnTo>
                  <a:pt x="74" y="137"/>
                </a:lnTo>
                <a:lnTo>
                  <a:pt x="49" y="119"/>
                </a:lnTo>
                <a:lnTo>
                  <a:pt x="23" y="70"/>
                </a:lnTo>
                <a:lnTo>
                  <a:pt x="17" y="46"/>
                </a:lnTo>
                <a:lnTo>
                  <a:pt x="15" y="46"/>
                </a:lnTo>
                <a:lnTo>
                  <a:pt x="13" y="48"/>
                </a:lnTo>
                <a:lnTo>
                  <a:pt x="13" y="30"/>
                </a:lnTo>
                <a:lnTo>
                  <a:pt x="28" y="8"/>
                </a:lnTo>
                <a:lnTo>
                  <a:pt x="37" y="0"/>
                </a:lnTo>
                <a:lnTo>
                  <a:pt x="41" y="0"/>
                </a:lnTo>
                <a:lnTo>
                  <a:pt x="34" y="12"/>
                </a:lnTo>
                <a:close/>
              </a:path>
            </a:pathLst>
          </a:custGeom>
          <a:solidFill>
            <a:srgbClr val="ff7272"/>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00" name=""/>
          <p:cNvSpPr/>
          <p:nvPr/>
        </p:nvSpPr>
        <p:spPr>
          <a:xfrm>
            <a:off x="5430960" y="5621400"/>
            <a:ext cx="153720" cy="187200"/>
          </a:xfrm>
          <a:custGeom>
            <a:avLst/>
            <a:gdLst/>
            <a:ahLst/>
            <a:rect l="l" t="t" r="r" b="b"/>
            <a:pathLst>
              <a:path w="97" h="236">
                <a:moveTo>
                  <a:pt x="97" y="24"/>
                </a:moveTo>
                <a:lnTo>
                  <a:pt x="89" y="97"/>
                </a:lnTo>
                <a:lnTo>
                  <a:pt x="87" y="137"/>
                </a:lnTo>
                <a:lnTo>
                  <a:pt x="65" y="202"/>
                </a:lnTo>
                <a:lnTo>
                  <a:pt x="57" y="216"/>
                </a:lnTo>
                <a:lnTo>
                  <a:pt x="51" y="216"/>
                </a:lnTo>
                <a:lnTo>
                  <a:pt x="46" y="230"/>
                </a:lnTo>
                <a:lnTo>
                  <a:pt x="41" y="236"/>
                </a:lnTo>
                <a:lnTo>
                  <a:pt x="58" y="151"/>
                </a:lnTo>
                <a:lnTo>
                  <a:pt x="63" y="141"/>
                </a:lnTo>
                <a:lnTo>
                  <a:pt x="65" y="111"/>
                </a:lnTo>
                <a:lnTo>
                  <a:pt x="65" y="101"/>
                </a:lnTo>
                <a:lnTo>
                  <a:pt x="61" y="95"/>
                </a:lnTo>
                <a:lnTo>
                  <a:pt x="59" y="93"/>
                </a:lnTo>
                <a:lnTo>
                  <a:pt x="56" y="93"/>
                </a:lnTo>
                <a:lnTo>
                  <a:pt x="43" y="123"/>
                </a:lnTo>
                <a:lnTo>
                  <a:pt x="23" y="236"/>
                </a:lnTo>
                <a:lnTo>
                  <a:pt x="14" y="214"/>
                </a:lnTo>
                <a:lnTo>
                  <a:pt x="7" y="182"/>
                </a:lnTo>
                <a:lnTo>
                  <a:pt x="0" y="172"/>
                </a:lnTo>
                <a:lnTo>
                  <a:pt x="16" y="64"/>
                </a:lnTo>
                <a:lnTo>
                  <a:pt x="23" y="38"/>
                </a:lnTo>
                <a:lnTo>
                  <a:pt x="35" y="10"/>
                </a:lnTo>
                <a:lnTo>
                  <a:pt x="38" y="0"/>
                </a:lnTo>
                <a:lnTo>
                  <a:pt x="61" y="4"/>
                </a:lnTo>
                <a:lnTo>
                  <a:pt x="97" y="24"/>
                </a:lnTo>
                <a:close/>
              </a:path>
            </a:pathLst>
          </a:custGeom>
          <a:solidFill>
            <a:srgbClr val="bababa"/>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01" name=""/>
          <p:cNvSpPr/>
          <p:nvPr/>
        </p:nvSpPr>
        <p:spPr>
          <a:xfrm>
            <a:off x="5143680" y="5627520"/>
            <a:ext cx="21960" cy="38160"/>
          </a:xfrm>
          <a:custGeom>
            <a:avLst/>
            <a:gdLst/>
            <a:ahLst/>
            <a:rect l="l" t="t" r="r" b="b"/>
            <a:pathLst>
              <a:path w="14" h="48">
                <a:moveTo>
                  <a:pt x="14" y="38"/>
                </a:moveTo>
                <a:lnTo>
                  <a:pt x="14" y="48"/>
                </a:lnTo>
                <a:lnTo>
                  <a:pt x="3" y="48"/>
                </a:lnTo>
                <a:lnTo>
                  <a:pt x="0" y="24"/>
                </a:lnTo>
                <a:lnTo>
                  <a:pt x="2" y="6"/>
                </a:lnTo>
                <a:lnTo>
                  <a:pt x="6" y="0"/>
                </a:lnTo>
                <a:lnTo>
                  <a:pt x="9" y="0"/>
                </a:lnTo>
                <a:lnTo>
                  <a:pt x="14" y="38"/>
                </a:lnTo>
                <a:close/>
              </a:path>
            </a:pathLst>
          </a:custGeom>
          <a:solidFill>
            <a:srgbClr val="d66060"/>
          </a:solidFill>
          <a:ln w="0">
            <a:noFill/>
          </a:ln>
        </p:spPr>
        <p:style>
          <a:lnRef idx="0"/>
          <a:fillRef idx="0"/>
          <a:effectRef idx="0"/>
          <a:fontRef idx="minor"/>
        </p:style>
        <p:txBody>
          <a:bodyPr lIns="90000" rIns="90000" tIns="-8640" bIns="-8640" anchor="t">
            <a:noAutofit/>
          </a:bodyPr>
          <a:p>
            <a:endParaRPr b="0" lang="en-US" sz="2400" spc="-1" strike="noStrike">
              <a:solidFill>
                <a:srgbClr val="ffff00"/>
              </a:solidFill>
              <a:latin typeface="Times New Roman"/>
            </a:endParaRPr>
          </a:p>
        </p:txBody>
      </p:sp>
      <p:sp>
        <p:nvSpPr>
          <p:cNvPr id="302" name=""/>
          <p:cNvSpPr/>
          <p:nvPr/>
        </p:nvSpPr>
        <p:spPr>
          <a:xfrm>
            <a:off x="3710160" y="5659560"/>
            <a:ext cx="26640" cy="21960"/>
          </a:xfrm>
          <a:custGeom>
            <a:avLst/>
            <a:gdLst/>
            <a:ahLst/>
            <a:rect l="l" t="t" r="r" b="b"/>
            <a:pathLst>
              <a:path w="17" h="27">
                <a:moveTo>
                  <a:pt x="17" y="10"/>
                </a:moveTo>
                <a:lnTo>
                  <a:pt x="17" y="16"/>
                </a:lnTo>
                <a:lnTo>
                  <a:pt x="3" y="27"/>
                </a:lnTo>
                <a:lnTo>
                  <a:pt x="0" y="27"/>
                </a:lnTo>
                <a:lnTo>
                  <a:pt x="2" y="12"/>
                </a:lnTo>
                <a:lnTo>
                  <a:pt x="6" y="0"/>
                </a:lnTo>
                <a:lnTo>
                  <a:pt x="11" y="0"/>
                </a:lnTo>
                <a:lnTo>
                  <a:pt x="17" y="10"/>
                </a:lnTo>
                <a:close/>
              </a:path>
            </a:pathLst>
          </a:custGeom>
          <a:solidFill>
            <a:srgbClr val="d66060"/>
          </a:solidFill>
          <a:ln w="0">
            <a:noFill/>
          </a:ln>
        </p:spPr>
        <p:style>
          <a:lnRef idx="0"/>
          <a:fillRef idx="0"/>
          <a:effectRef idx="0"/>
          <a:fontRef idx="minor"/>
        </p:style>
        <p:txBody>
          <a:bodyPr lIns="90000" rIns="90000" tIns="-24840" bIns="-24840" anchor="t">
            <a:noAutofit/>
          </a:bodyPr>
          <a:p>
            <a:endParaRPr b="0" lang="en-US" sz="2400" spc="-1" strike="noStrike">
              <a:solidFill>
                <a:srgbClr val="ffff00"/>
              </a:solidFill>
              <a:latin typeface="Times New Roman"/>
            </a:endParaRPr>
          </a:p>
        </p:txBody>
      </p:sp>
      <p:sp>
        <p:nvSpPr>
          <p:cNvPr id="303" name=""/>
          <p:cNvSpPr/>
          <p:nvPr/>
        </p:nvSpPr>
        <p:spPr>
          <a:xfrm>
            <a:off x="5157720" y="5703840"/>
            <a:ext cx="154080" cy="68400"/>
          </a:xfrm>
          <a:custGeom>
            <a:avLst/>
            <a:gdLst/>
            <a:ahLst/>
            <a:rect l="l" t="t" r="r" b="b"/>
            <a:pathLst>
              <a:path w="97" h="87">
                <a:moveTo>
                  <a:pt x="62" y="71"/>
                </a:moveTo>
                <a:lnTo>
                  <a:pt x="60" y="79"/>
                </a:lnTo>
                <a:lnTo>
                  <a:pt x="19" y="81"/>
                </a:lnTo>
                <a:lnTo>
                  <a:pt x="6" y="87"/>
                </a:lnTo>
                <a:lnTo>
                  <a:pt x="0" y="87"/>
                </a:lnTo>
                <a:lnTo>
                  <a:pt x="17" y="65"/>
                </a:lnTo>
                <a:lnTo>
                  <a:pt x="29" y="61"/>
                </a:lnTo>
                <a:lnTo>
                  <a:pt x="75" y="20"/>
                </a:lnTo>
                <a:lnTo>
                  <a:pt x="97" y="0"/>
                </a:lnTo>
                <a:lnTo>
                  <a:pt x="87" y="34"/>
                </a:lnTo>
                <a:lnTo>
                  <a:pt x="62" y="71"/>
                </a:lnTo>
                <a:close/>
              </a:path>
            </a:pathLst>
          </a:custGeom>
          <a:solidFill>
            <a:srgbClr val="d66060"/>
          </a:solidFill>
          <a:ln w="0">
            <a:noFill/>
          </a:ln>
        </p:spPr>
        <p:style>
          <a:lnRef idx="0"/>
          <a:fillRef idx="0"/>
          <a:effectRef idx="0"/>
          <a:fontRef idx="minor"/>
        </p:style>
        <p:txBody>
          <a:bodyPr lIns="90000" rIns="90000" tIns="21600" bIns="21600" anchor="t">
            <a:noAutofit/>
          </a:bodyPr>
          <a:p>
            <a:endParaRPr b="0" lang="en-US" sz="2400" spc="-1" strike="noStrike">
              <a:solidFill>
                <a:srgbClr val="ffff00"/>
              </a:solidFill>
              <a:latin typeface="Times New Roman"/>
            </a:endParaRPr>
          </a:p>
        </p:txBody>
      </p:sp>
      <p:sp>
        <p:nvSpPr>
          <p:cNvPr id="304" name=""/>
          <p:cNvSpPr/>
          <p:nvPr/>
        </p:nvSpPr>
        <p:spPr>
          <a:xfrm>
            <a:off x="5499000" y="5716440"/>
            <a:ext cx="14400" cy="46080"/>
          </a:xfrm>
          <a:custGeom>
            <a:avLst/>
            <a:gdLst/>
            <a:ahLst/>
            <a:rect l="l" t="t" r="r" b="b"/>
            <a:pathLst>
              <a:path w="9" h="57">
                <a:moveTo>
                  <a:pt x="2" y="53"/>
                </a:moveTo>
                <a:lnTo>
                  <a:pt x="2" y="55"/>
                </a:lnTo>
                <a:lnTo>
                  <a:pt x="0" y="57"/>
                </a:lnTo>
                <a:lnTo>
                  <a:pt x="9" y="0"/>
                </a:lnTo>
                <a:lnTo>
                  <a:pt x="9" y="20"/>
                </a:lnTo>
                <a:lnTo>
                  <a:pt x="2" y="53"/>
                </a:lnTo>
                <a:close/>
              </a:path>
            </a:pathLst>
          </a:custGeom>
          <a:solidFill>
            <a:srgbClr val="4c4c4c"/>
          </a:solidFill>
          <a:ln w="0">
            <a:noFill/>
          </a:ln>
        </p:spPr>
        <p:style>
          <a:lnRef idx="0"/>
          <a:fillRef idx="0"/>
          <a:effectRef idx="0"/>
          <a:fontRef idx="minor"/>
        </p:style>
        <p:txBody>
          <a:bodyPr lIns="90000" rIns="90000" tIns="-720" bIns="-720" anchor="t">
            <a:noAutofit/>
          </a:bodyPr>
          <a:p>
            <a:endParaRPr b="0" lang="en-US" sz="2400" spc="-1" strike="noStrike">
              <a:solidFill>
                <a:srgbClr val="ffff00"/>
              </a:solidFill>
              <a:latin typeface="Times New Roman"/>
            </a:endParaRPr>
          </a:p>
        </p:txBody>
      </p:sp>
      <p:sp>
        <p:nvSpPr>
          <p:cNvPr id="305" name=""/>
          <p:cNvSpPr/>
          <p:nvPr/>
        </p:nvSpPr>
        <p:spPr>
          <a:xfrm>
            <a:off x="3370320" y="5772240"/>
            <a:ext cx="237960" cy="101520"/>
          </a:xfrm>
          <a:custGeom>
            <a:avLst/>
            <a:gdLst/>
            <a:ahLst/>
            <a:rect l="l" t="t" r="r" b="b"/>
            <a:pathLst>
              <a:path w="150" h="129">
                <a:moveTo>
                  <a:pt x="147" y="48"/>
                </a:moveTo>
                <a:lnTo>
                  <a:pt x="150" y="81"/>
                </a:lnTo>
                <a:lnTo>
                  <a:pt x="149" y="119"/>
                </a:lnTo>
                <a:lnTo>
                  <a:pt x="113" y="111"/>
                </a:lnTo>
                <a:lnTo>
                  <a:pt x="104" y="117"/>
                </a:lnTo>
                <a:lnTo>
                  <a:pt x="97" y="117"/>
                </a:lnTo>
                <a:lnTo>
                  <a:pt x="70" y="52"/>
                </a:lnTo>
                <a:lnTo>
                  <a:pt x="69" y="50"/>
                </a:lnTo>
                <a:lnTo>
                  <a:pt x="67" y="50"/>
                </a:lnTo>
                <a:lnTo>
                  <a:pt x="67" y="65"/>
                </a:lnTo>
                <a:lnTo>
                  <a:pt x="78" y="93"/>
                </a:lnTo>
                <a:lnTo>
                  <a:pt x="84" y="121"/>
                </a:lnTo>
                <a:lnTo>
                  <a:pt x="70" y="117"/>
                </a:lnTo>
                <a:lnTo>
                  <a:pt x="32" y="87"/>
                </a:lnTo>
                <a:lnTo>
                  <a:pt x="31" y="87"/>
                </a:lnTo>
                <a:lnTo>
                  <a:pt x="26" y="95"/>
                </a:lnTo>
                <a:lnTo>
                  <a:pt x="43" y="117"/>
                </a:lnTo>
                <a:lnTo>
                  <a:pt x="46" y="117"/>
                </a:lnTo>
                <a:lnTo>
                  <a:pt x="47" y="119"/>
                </a:lnTo>
                <a:lnTo>
                  <a:pt x="32" y="129"/>
                </a:lnTo>
                <a:lnTo>
                  <a:pt x="18" y="123"/>
                </a:lnTo>
                <a:lnTo>
                  <a:pt x="3" y="91"/>
                </a:lnTo>
                <a:lnTo>
                  <a:pt x="0" y="69"/>
                </a:lnTo>
                <a:lnTo>
                  <a:pt x="3" y="55"/>
                </a:lnTo>
                <a:lnTo>
                  <a:pt x="30" y="32"/>
                </a:lnTo>
                <a:lnTo>
                  <a:pt x="67" y="14"/>
                </a:lnTo>
                <a:lnTo>
                  <a:pt x="110" y="0"/>
                </a:lnTo>
                <a:lnTo>
                  <a:pt x="134" y="2"/>
                </a:lnTo>
                <a:lnTo>
                  <a:pt x="147" y="48"/>
                </a:lnTo>
                <a:close/>
              </a:path>
            </a:pathLst>
          </a:custGeom>
          <a:solidFill>
            <a:srgbClr val="bababa"/>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06" name=""/>
          <p:cNvSpPr/>
          <p:nvPr/>
        </p:nvSpPr>
        <p:spPr>
          <a:xfrm>
            <a:off x="5176800" y="5775480"/>
            <a:ext cx="290520" cy="66600"/>
          </a:xfrm>
          <a:custGeom>
            <a:avLst/>
            <a:gdLst/>
            <a:ahLst/>
            <a:rect l="l" t="t" r="r" b="b"/>
            <a:pathLst>
              <a:path w="183" h="83">
                <a:moveTo>
                  <a:pt x="158" y="10"/>
                </a:moveTo>
                <a:lnTo>
                  <a:pt x="169" y="46"/>
                </a:lnTo>
                <a:lnTo>
                  <a:pt x="183" y="69"/>
                </a:lnTo>
                <a:lnTo>
                  <a:pt x="180" y="83"/>
                </a:lnTo>
                <a:lnTo>
                  <a:pt x="154" y="59"/>
                </a:lnTo>
                <a:lnTo>
                  <a:pt x="144" y="48"/>
                </a:lnTo>
                <a:lnTo>
                  <a:pt x="96" y="34"/>
                </a:lnTo>
                <a:lnTo>
                  <a:pt x="69" y="34"/>
                </a:lnTo>
                <a:lnTo>
                  <a:pt x="60" y="40"/>
                </a:lnTo>
                <a:lnTo>
                  <a:pt x="37" y="40"/>
                </a:lnTo>
                <a:lnTo>
                  <a:pt x="17" y="48"/>
                </a:lnTo>
                <a:lnTo>
                  <a:pt x="12" y="53"/>
                </a:lnTo>
                <a:lnTo>
                  <a:pt x="10" y="53"/>
                </a:lnTo>
                <a:lnTo>
                  <a:pt x="0" y="26"/>
                </a:lnTo>
                <a:lnTo>
                  <a:pt x="0" y="16"/>
                </a:lnTo>
                <a:lnTo>
                  <a:pt x="20" y="8"/>
                </a:lnTo>
                <a:lnTo>
                  <a:pt x="102" y="6"/>
                </a:lnTo>
                <a:lnTo>
                  <a:pt x="111" y="0"/>
                </a:lnTo>
                <a:lnTo>
                  <a:pt x="148" y="0"/>
                </a:lnTo>
                <a:lnTo>
                  <a:pt x="158" y="10"/>
                </a:lnTo>
                <a:close/>
              </a:path>
            </a:pathLst>
          </a:custGeom>
          <a:solidFill>
            <a:srgbClr val="2119e5"/>
          </a:solidFill>
          <a:ln w="0">
            <a:noFill/>
          </a:ln>
        </p:spPr>
        <p:style>
          <a:lnRef idx="0"/>
          <a:fillRef idx="0"/>
          <a:effectRef idx="0"/>
          <a:fontRef idx="minor"/>
        </p:style>
        <p:txBody>
          <a:bodyPr lIns="90000" rIns="90000" tIns="19800" bIns="19800" anchor="t">
            <a:noAutofit/>
          </a:bodyPr>
          <a:p>
            <a:endParaRPr b="0" lang="en-US" sz="2400" spc="-1" strike="noStrike">
              <a:solidFill>
                <a:srgbClr val="ffff00"/>
              </a:solidFill>
              <a:latin typeface="Times New Roman"/>
            </a:endParaRPr>
          </a:p>
        </p:txBody>
      </p:sp>
      <p:sp>
        <p:nvSpPr>
          <p:cNvPr id="307" name=""/>
          <p:cNvSpPr/>
          <p:nvPr/>
        </p:nvSpPr>
        <p:spPr>
          <a:xfrm>
            <a:off x="5548320" y="5780160"/>
            <a:ext cx="6480" cy="7920"/>
          </a:xfrm>
          <a:custGeom>
            <a:avLst/>
            <a:gdLst/>
            <a:ahLst/>
            <a:rect l="l" t="t" r="r" b="b"/>
            <a:pathLst>
              <a:path w="4" h="10">
                <a:moveTo>
                  <a:pt x="4" y="0"/>
                </a:moveTo>
                <a:lnTo>
                  <a:pt x="0" y="10"/>
                </a:lnTo>
                <a:lnTo>
                  <a:pt x="4" y="0"/>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ffff00"/>
              </a:solidFill>
              <a:latin typeface="Times New Roman"/>
            </a:endParaRPr>
          </a:p>
        </p:txBody>
      </p:sp>
      <p:sp>
        <p:nvSpPr>
          <p:cNvPr id="308" name=""/>
          <p:cNvSpPr/>
          <p:nvPr/>
        </p:nvSpPr>
        <p:spPr>
          <a:xfrm>
            <a:off x="5502240" y="5810400"/>
            <a:ext cx="28440" cy="20520"/>
          </a:xfrm>
          <a:custGeom>
            <a:avLst/>
            <a:gdLst/>
            <a:ahLst/>
            <a:rect l="l" t="t" r="r" b="b"/>
            <a:pathLst>
              <a:path w="18" h="25">
                <a:moveTo>
                  <a:pt x="18" y="7"/>
                </a:moveTo>
                <a:lnTo>
                  <a:pt x="3" y="25"/>
                </a:lnTo>
                <a:lnTo>
                  <a:pt x="0" y="25"/>
                </a:lnTo>
                <a:lnTo>
                  <a:pt x="0" y="17"/>
                </a:lnTo>
                <a:lnTo>
                  <a:pt x="16" y="0"/>
                </a:lnTo>
                <a:lnTo>
                  <a:pt x="18" y="0"/>
                </a:lnTo>
                <a:lnTo>
                  <a:pt x="18" y="7"/>
                </a:lnTo>
                <a:close/>
              </a:path>
            </a:pathLst>
          </a:custGeom>
          <a:solidFill>
            <a:srgbClr val="4c4c4c"/>
          </a:solidFill>
          <a:ln w="0">
            <a:noFill/>
          </a:ln>
        </p:spPr>
        <p:style>
          <a:lnRef idx="0"/>
          <a:fillRef idx="0"/>
          <a:effectRef idx="0"/>
          <a:fontRef idx="minor"/>
        </p:style>
        <p:txBody>
          <a:bodyPr lIns="90000" rIns="90000" tIns="-26280" bIns="-26280" anchor="t">
            <a:noAutofit/>
          </a:bodyPr>
          <a:p>
            <a:endParaRPr b="0" lang="en-US" sz="2400" spc="-1" strike="noStrike">
              <a:solidFill>
                <a:srgbClr val="ffff00"/>
              </a:solidFill>
              <a:latin typeface="Times New Roman"/>
            </a:endParaRPr>
          </a:p>
        </p:txBody>
      </p:sp>
      <p:sp>
        <p:nvSpPr>
          <p:cNvPr id="309" name=""/>
          <p:cNvSpPr/>
          <p:nvPr/>
        </p:nvSpPr>
        <p:spPr>
          <a:xfrm>
            <a:off x="5181480" y="5818320"/>
            <a:ext cx="568440" cy="258480"/>
          </a:xfrm>
          <a:custGeom>
            <a:avLst/>
            <a:gdLst/>
            <a:ahLst/>
            <a:rect l="l" t="t" r="r" b="b"/>
            <a:pathLst>
              <a:path w="358" h="327">
                <a:moveTo>
                  <a:pt x="52" y="10"/>
                </a:moveTo>
                <a:lnTo>
                  <a:pt x="36" y="38"/>
                </a:lnTo>
                <a:lnTo>
                  <a:pt x="34" y="91"/>
                </a:lnTo>
                <a:lnTo>
                  <a:pt x="47" y="139"/>
                </a:lnTo>
                <a:lnTo>
                  <a:pt x="66" y="159"/>
                </a:lnTo>
                <a:lnTo>
                  <a:pt x="116" y="159"/>
                </a:lnTo>
                <a:lnTo>
                  <a:pt x="135" y="135"/>
                </a:lnTo>
                <a:lnTo>
                  <a:pt x="141" y="117"/>
                </a:lnTo>
                <a:lnTo>
                  <a:pt x="138" y="44"/>
                </a:lnTo>
                <a:lnTo>
                  <a:pt x="127" y="12"/>
                </a:lnTo>
                <a:lnTo>
                  <a:pt x="126" y="10"/>
                </a:lnTo>
                <a:lnTo>
                  <a:pt x="140" y="12"/>
                </a:lnTo>
                <a:lnTo>
                  <a:pt x="161" y="36"/>
                </a:lnTo>
                <a:lnTo>
                  <a:pt x="164" y="42"/>
                </a:lnTo>
                <a:lnTo>
                  <a:pt x="150" y="70"/>
                </a:lnTo>
                <a:lnTo>
                  <a:pt x="151" y="85"/>
                </a:lnTo>
                <a:lnTo>
                  <a:pt x="162" y="95"/>
                </a:lnTo>
                <a:lnTo>
                  <a:pt x="173" y="95"/>
                </a:lnTo>
                <a:lnTo>
                  <a:pt x="178" y="119"/>
                </a:lnTo>
                <a:lnTo>
                  <a:pt x="191" y="137"/>
                </a:lnTo>
                <a:lnTo>
                  <a:pt x="205" y="131"/>
                </a:lnTo>
                <a:lnTo>
                  <a:pt x="214" y="121"/>
                </a:lnTo>
                <a:lnTo>
                  <a:pt x="210" y="143"/>
                </a:lnTo>
                <a:lnTo>
                  <a:pt x="213" y="168"/>
                </a:lnTo>
                <a:lnTo>
                  <a:pt x="222" y="182"/>
                </a:lnTo>
                <a:lnTo>
                  <a:pt x="240" y="176"/>
                </a:lnTo>
                <a:lnTo>
                  <a:pt x="250" y="165"/>
                </a:lnTo>
                <a:lnTo>
                  <a:pt x="259" y="165"/>
                </a:lnTo>
                <a:lnTo>
                  <a:pt x="265" y="172"/>
                </a:lnTo>
                <a:lnTo>
                  <a:pt x="258" y="198"/>
                </a:lnTo>
                <a:lnTo>
                  <a:pt x="259" y="222"/>
                </a:lnTo>
                <a:lnTo>
                  <a:pt x="273" y="240"/>
                </a:lnTo>
                <a:lnTo>
                  <a:pt x="291" y="236"/>
                </a:lnTo>
                <a:lnTo>
                  <a:pt x="299" y="226"/>
                </a:lnTo>
                <a:lnTo>
                  <a:pt x="321" y="248"/>
                </a:lnTo>
                <a:lnTo>
                  <a:pt x="336" y="253"/>
                </a:lnTo>
                <a:lnTo>
                  <a:pt x="342" y="263"/>
                </a:lnTo>
                <a:lnTo>
                  <a:pt x="358" y="265"/>
                </a:lnTo>
                <a:lnTo>
                  <a:pt x="358" y="269"/>
                </a:lnTo>
                <a:lnTo>
                  <a:pt x="356" y="283"/>
                </a:lnTo>
                <a:lnTo>
                  <a:pt x="343" y="313"/>
                </a:lnTo>
                <a:lnTo>
                  <a:pt x="298" y="327"/>
                </a:lnTo>
                <a:lnTo>
                  <a:pt x="287" y="321"/>
                </a:lnTo>
                <a:lnTo>
                  <a:pt x="240" y="321"/>
                </a:lnTo>
                <a:lnTo>
                  <a:pt x="192" y="311"/>
                </a:lnTo>
                <a:lnTo>
                  <a:pt x="179" y="311"/>
                </a:lnTo>
                <a:lnTo>
                  <a:pt x="135" y="305"/>
                </a:lnTo>
                <a:lnTo>
                  <a:pt x="111" y="301"/>
                </a:lnTo>
                <a:lnTo>
                  <a:pt x="74" y="283"/>
                </a:lnTo>
                <a:lnTo>
                  <a:pt x="42" y="244"/>
                </a:lnTo>
                <a:lnTo>
                  <a:pt x="34" y="157"/>
                </a:lnTo>
                <a:lnTo>
                  <a:pt x="14" y="95"/>
                </a:lnTo>
                <a:lnTo>
                  <a:pt x="0" y="76"/>
                </a:lnTo>
                <a:lnTo>
                  <a:pt x="1" y="54"/>
                </a:lnTo>
                <a:lnTo>
                  <a:pt x="8" y="20"/>
                </a:lnTo>
                <a:lnTo>
                  <a:pt x="20" y="8"/>
                </a:lnTo>
                <a:lnTo>
                  <a:pt x="41" y="0"/>
                </a:lnTo>
                <a:lnTo>
                  <a:pt x="54" y="0"/>
                </a:lnTo>
                <a:lnTo>
                  <a:pt x="52" y="10"/>
                </a:lnTo>
                <a:close/>
              </a:path>
            </a:pathLst>
          </a:custGeom>
          <a:solidFill>
            <a:srgbClr val="bababa"/>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10" name=""/>
          <p:cNvSpPr/>
          <p:nvPr/>
        </p:nvSpPr>
        <p:spPr>
          <a:xfrm>
            <a:off x="5253120" y="5818320"/>
            <a:ext cx="133200" cy="110880"/>
          </a:xfrm>
          <a:custGeom>
            <a:avLst/>
            <a:gdLst/>
            <a:ahLst/>
            <a:rect l="l" t="t" r="r" b="b"/>
            <a:pathLst>
              <a:path w="84" h="141">
                <a:moveTo>
                  <a:pt x="80" y="34"/>
                </a:moveTo>
                <a:lnTo>
                  <a:pt x="84" y="52"/>
                </a:lnTo>
                <a:lnTo>
                  <a:pt x="84" y="103"/>
                </a:lnTo>
                <a:lnTo>
                  <a:pt x="82" y="119"/>
                </a:lnTo>
                <a:lnTo>
                  <a:pt x="65" y="141"/>
                </a:lnTo>
                <a:lnTo>
                  <a:pt x="22" y="139"/>
                </a:lnTo>
                <a:lnTo>
                  <a:pt x="12" y="129"/>
                </a:lnTo>
                <a:lnTo>
                  <a:pt x="0" y="85"/>
                </a:lnTo>
                <a:lnTo>
                  <a:pt x="2" y="50"/>
                </a:lnTo>
                <a:lnTo>
                  <a:pt x="5" y="38"/>
                </a:lnTo>
                <a:lnTo>
                  <a:pt x="26" y="10"/>
                </a:lnTo>
                <a:lnTo>
                  <a:pt x="36" y="4"/>
                </a:lnTo>
                <a:lnTo>
                  <a:pt x="44" y="0"/>
                </a:lnTo>
                <a:lnTo>
                  <a:pt x="60" y="6"/>
                </a:lnTo>
                <a:lnTo>
                  <a:pt x="80" y="34"/>
                </a:lnTo>
                <a:close/>
              </a:path>
            </a:pathLst>
          </a:custGeom>
          <a:solidFill>
            <a:srgbClr val="2119e5"/>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11" name=""/>
          <p:cNvSpPr/>
          <p:nvPr/>
        </p:nvSpPr>
        <p:spPr>
          <a:xfrm>
            <a:off x="5522760" y="5837400"/>
            <a:ext cx="27000" cy="9360"/>
          </a:xfrm>
          <a:custGeom>
            <a:avLst/>
            <a:gdLst/>
            <a:ahLst/>
            <a:rect l="l" t="t" r="r" b="b"/>
            <a:pathLst>
              <a:path w="17" h="12">
                <a:moveTo>
                  <a:pt x="12" y="6"/>
                </a:moveTo>
                <a:lnTo>
                  <a:pt x="17" y="2"/>
                </a:lnTo>
                <a:lnTo>
                  <a:pt x="10" y="12"/>
                </a:lnTo>
                <a:lnTo>
                  <a:pt x="0" y="0"/>
                </a:lnTo>
                <a:lnTo>
                  <a:pt x="7" y="0"/>
                </a:lnTo>
                <a:lnTo>
                  <a:pt x="12" y="6"/>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ffff00"/>
              </a:solidFill>
              <a:latin typeface="Times New Roman"/>
            </a:endParaRPr>
          </a:p>
        </p:txBody>
      </p:sp>
      <p:sp>
        <p:nvSpPr>
          <p:cNvPr id="312" name=""/>
          <p:cNvSpPr/>
          <p:nvPr/>
        </p:nvSpPr>
        <p:spPr>
          <a:xfrm>
            <a:off x="3633840" y="5850000"/>
            <a:ext cx="66600" cy="19080"/>
          </a:xfrm>
          <a:custGeom>
            <a:avLst/>
            <a:gdLst/>
            <a:ahLst/>
            <a:rect l="l" t="t" r="r" b="b"/>
            <a:pathLst>
              <a:path w="42" h="24">
                <a:moveTo>
                  <a:pt x="21" y="24"/>
                </a:moveTo>
                <a:lnTo>
                  <a:pt x="0" y="22"/>
                </a:lnTo>
                <a:lnTo>
                  <a:pt x="27" y="12"/>
                </a:lnTo>
                <a:lnTo>
                  <a:pt x="41" y="0"/>
                </a:lnTo>
                <a:lnTo>
                  <a:pt x="42" y="18"/>
                </a:lnTo>
                <a:lnTo>
                  <a:pt x="21" y="24"/>
                </a:lnTo>
                <a:close/>
              </a:path>
            </a:pathLst>
          </a:custGeom>
          <a:solidFill>
            <a:srgbClr val="2119e5"/>
          </a:solidFill>
          <a:ln w="0">
            <a:noFill/>
          </a:ln>
        </p:spPr>
        <p:style>
          <a:lnRef idx="0"/>
          <a:fillRef idx="0"/>
          <a:effectRef idx="0"/>
          <a:fontRef idx="minor"/>
        </p:style>
        <p:txBody>
          <a:bodyPr lIns="90000" rIns="90000" tIns="-27720" bIns="-27720" anchor="t">
            <a:noAutofit/>
          </a:bodyPr>
          <a:p>
            <a:endParaRPr b="0" lang="en-US" sz="2400" spc="-1" strike="noStrike">
              <a:solidFill>
                <a:srgbClr val="ffff00"/>
              </a:solidFill>
              <a:latin typeface="Times New Roman"/>
            </a:endParaRPr>
          </a:p>
        </p:txBody>
      </p:sp>
      <p:sp>
        <p:nvSpPr>
          <p:cNvPr id="313" name=""/>
          <p:cNvSpPr/>
          <p:nvPr/>
        </p:nvSpPr>
        <p:spPr>
          <a:xfrm>
            <a:off x="5489640" y="5851440"/>
            <a:ext cx="25200" cy="15840"/>
          </a:xfrm>
          <a:custGeom>
            <a:avLst/>
            <a:gdLst/>
            <a:ahLst/>
            <a:rect l="l" t="t" r="r" b="b"/>
            <a:pathLst>
              <a:path w="16" h="20">
                <a:moveTo>
                  <a:pt x="16" y="8"/>
                </a:moveTo>
                <a:lnTo>
                  <a:pt x="12" y="20"/>
                </a:lnTo>
                <a:lnTo>
                  <a:pt x="0" y="20"/>
                </a:lnTo>
                <a:lnTo>
                  <a:pt x="8" y="0"/>
                </a:lnTo>
                <a:lnTo>
                  <a:pt x="14" y="2"/>
                </a:lnTo>
                <a:lnTo>
                  <a:pt x="16" y="8"/>
                </a:lnTo>
                <a:close/>
              </a:path>
            </a:pathLst>
          </a:custGeom>
          <a:solidFill>
            <a:srgbClr val="2119e5"/>
          </a:solidFill>
          <a:ln w="0">
            <a:noFill/>
          </a:ln>
        </p:spPr>
        <p:style>
          <a:lnRef idx="0"/>
          <a:fillRef idx="0"/>
          <a:effectRef idx="0"/>
          <a:fontRef idx="minor"/>
        </p:style>
        <p:txBody>
          <a:bodyPr lIns="90000" rIns="90000" tIns="-30960" bIns="-30960" anchor="t">
            <a:noAutofit/>
          </a:bodyPr>
          <a:p>
            <a:endParaRPr b="0" lang="en-US" sz="2400" spc="-1" strike="noStrike">
              <a:solidFill>
                <a:srgbClr val="ffff00"/>
              </a:solidFill>
              <a:latin typeface="Times New Roman"/>
            </a:endParaRPr>
          </a:p>
        </p:txBody>
      </p:sp>
      <p:sp>
        <p:nvSpPr>
          <p:cNvPr id="314" name=""/>
          <p:cNvSpPr/>
          <p:nvPr/>
        </p:nvSpPr>
        <p:spPr>
          <a:xfrm>
            <a:off x="5452920" y="5865840"/>
            <a:ext cx="19080" cy="11160"/>
          </a:xfrm>
          <a:custGeom>
            <a:avLst/>
            <a:gdLst/>
            <a:ahLst/>
            <a:rect l="l" t="t" r="r" b="b"/>
            <a:pathLst>
              <a:path w="12" h="14">
                <a:moveTo>
                  <a:pt x="1" y="8"/>
                </a:moveTo>
                <a:lnTo>
                  <a:pt x="0" y="4"/>
                </a:lnTo>
                <a:lnTo>
                  <a:pt x="5" y="0"/>
                </a:lnTo>
                <a:lnTo>
                  <a:pt x="12" y="14"/>
                </a:lnTo>
                <a:lnTo>
                  <a:pt x="1" y="8"/>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ffff00"/>
              </a:solidFill>
              <a:latin typeface="Times New Roman"/>
            </a:endParaRPr>
          </a:p>
        </p:txBody>
      </p:sp>
      <p:sp>
        <p:nvSpPr>
          <p:cNvPr id="315" name=""/>
          <p:cNvSpPr/>
          <p:nvPr/>
        </p:nvSpPr>
        <p:spPr>
          <a:xfrm>
            <a:off x="5513400" y="5872320"/>
            <a:ext cx="36360" cy="39600"/>
          </a:xfrm>
          <a:custGeom>
            <a:avLst/>
            <a:gdLst/>
            <a:ahLst/>
            <a:rect l="l" t="t" r="r" b="b"/>
            <a:pathLst>
              <a:path w="23" h="49">
                <a:moveTo>
                  <a:pt x="7" y="49"/>
                </a:moveTo>
                <a:lnTo>
                  <a:pt x="6" y="39"/>
                </a:lnTo>
                <a:lnTo>
                  <a:pt x="0" y="37"/>
                </a:lnTo>
                <a:lnTo>
                  <a:pt x="23" y="0"/>
                </a:lnTo>
                <a:lnTo>
                  <a:pt x="12" y="43"/>
                </a:lnTo>
                <a:lnTo>
                  <a:pt x="7" y="49"/>
                </a:lnTo>
                <a:close/>
              </a:path>
            </a:pathLst>
          </a:custGeom>
          <a:solidFill>
            <a:srgbClr val="2119e5"/>
          </a:solidFill>
          <a:ln w="0">
            <a:noFill/>
          </a:ln>
        </p:spPr>
        <p:style>
          <a:lnRef idx="0"/>
          <a:fillRef idx="0"/>
          <a:effectRef idx="0"/>
          <a:fontRef idx="minor"/>
        </p:style>
        <p:txBody>
          <a:bodyPr lIns="90000" rIns="90000" tIns="-7200" bIns="-7200" anchor="t">
            <a:noAutofit/>
          </a:bodyPr>
          <a:p>
            <a:endParaRPr b="0" lang="en-US" sz="2400" spc="-1" strike="noStrike">
              <a:solidFill>
                <a:srgbClr val="ffff00"/>
              </a:solidFill>
              <a:latin typeface="Times New Roman"/>
            </a:endParaRPr>
          </a:p>
        </p:txBody>
      </p:sp>
      <p:sp>
        <p:nvSpPr>
          <p:cNvPr id="316" name=""/>
          <p:cNvSpPr/>
          <p:nvPr/>
        </p:nvSpPr>
        <p:spPr>
          <a:xfrm>
            <a:off x="5559480" y="5872320"/>
            <a:ext cx="12600" cy="17280"/>
          </a:xfrm>
          <a:custGeom>
            <a:avLst/>
            <a:gdLst/>
            <a:ahLst/>
            <a:rect l="l" t="t" r="r" b="b"/>
            <a:pathLst>
              <a:path w="8" h="21">
                <a:moveTo>
                  <a:pt x="0" y="21"/>
                </a:moveTo>
                <a:lnTo>
                  <a:pt x="8" y="0"/>
                </a:lnTo>
                <a:lnTo>
                  <a:pt x="5" y="13"/>
                </a:lnTo>
                <a:lnTo>
                  <a:pt x="0" y="21"/>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ffff00"/>
              </a:solidFill>
              <a:latin typeface="Times New Roman"/>
            </a:endParaRPr>
          </a:p>
        </p:txBody>
      </p:sp>
      <p:sp>
        <p:nvSpPr>
          <p:cNvPr id="317" name=""/>
          <p:cNvSpPr/>
          <p:nvPr/>
        </p:nvSpPr>
        <p:spPr>
          <a:xfrm>
            <a:off x="3195720" y="6066000"/>
            <a:ext cx="365040" cy="174600"/>
          </a:xfrm>
          <a:custGeom>
            <a:avLst/>
            <a:gdLst/>
            <a:ahLst/>
            <a:rect l="l" t="t" r="r" b="b"/>
            <a:pathLst>
              <a:path w="230" h="219">
                <a:moveTo>
                  <a:pt x="230" y="160"/>
                </a:moveTo>
                <a:lnTo>
                  <a:pt x="215" y="199"/>
                </a:lnTo>
                <a:lnTo>
                  <a:pt x="207" y="205"/>
                </a:lnTo>
                <a:lnTo>
                  <a:pt x="199" y="209"/>
                </a:lnTo>
                <a:lnTo>
                  <a:pt x="191" y="213"/>
                </a:lnTo>
                <a:lnTo>
                  <a:pt x="183" y="219"/>
                </a:lnTo>
                <a:lnTo>
                  <a:pt x="79" y="205"/>
                </a:lnTo>
                <a:lnTo>
                  <a:pt x="60" y="196"/>
                </a:lnTo>
                <a:lnTo>
                  <a:pt x="43" y="186"/>
                </a:lnTo>
                <a:lnTo>
                  <a:pt x="25" y="178"/>
                </a:lnTo>
                <a:lnTo>
                  <a:pt x="16" y="176"/>
                </a:lnTo>
                <a:lnTo>
                  <a:pt x="6" y="172"/>
                </a:lnTo>
                <a:lnTo>
                  <a:pt x="4" y="162"/>
                </a:lnTo>
                <a:lnTo>
                  <a:pt x="1" y="150"/>
                </a:lnTo>
                <a:lnTo>
                  <a:pt x="0" y="138"/>
                </a:lnTo>
                <a:lnTo>
                  <a:pt x="0" y="126"/>
                </a:lnTo>
                <a:lnTo>
                  <a:pt x="1" y="114"/>
                </a:lnTo>
                <a:lnTo>
                  <a:pt x="2" y="103"/>
                </a:lnTo>
                <a:lnTo>
                  <a:pt x="4" y="91"/>
                </a:lnTo>
                <a:lnTo>
                  <a:pt x="6" y="79"/>
                </a:lnTo>
                <a:lnTo>
                  <a:pt x="13" y="57"/>
                </a:lnTo>
                <a:lnTo>
                  <a:pt x="21" y="37"/>
                </a:lnTo>
                <a:lnTo>
                  <a:pt x="30" y="18"/>
                </a:lnTo>
                <a:lnTo>
                  <a:pt x="40" y="4"/>
                </a:lnTo>
                <a:lnTo>
                  <a:pt x="53" y="2"/>
                </a:lnTo>
                <a:lnTo>
                  <a:pt x="67" y="0"/>
                </a:lnTo>
                <a:lnTo>
                  <a:pt x="81" y="0"/>
                </a:lnTo>
                <a:lnTo>
                  <a:pt x="96" y="4"/>
                </a:lnTo>
                <a:lnTo>
                  <a:pt x="110" y="8"/>
                </a:lnTo>
                <a:lnTo>
                  <a:pt x="124" y="16"/>
                </a:lnTo>
                <a:lnTo>
                  <a:pt x="129" y="20"/>
                </a:lnTo>
                <a:lnTo>
                  <a:pt x="135" y="26"/>
                </a:lnTo>
                <a:lnTo>
                  <a:pt x="141" y="31"/>
                </a:lnTo>
                <a:lnTo>
                  <a:pt x="146" y="39"/>
                </a:lnTo>
                <a:lnTo>
                  <a:pt x="155" y="39"/>
                </a:lnTo>
                <a:lnTo>
                  <a:pt x="199" y="79"/>
                </a:lnTo>
                <a:lnTo>
                  <a:pt x="203" y="91"/>
                </a:lnTo>
                <a:lnTo>
                  <a:pt x="214" y="114"/>
                </a:lnTo>
                <a:lnTo>
                  <a:pt x="218" y="124"/>
                </a:lnTo>
                <a:lnTo>
                  <a:pt x="220" y="128"/>
                </a:lnTo>
                <a:lnTo>
                  <a:pt x="222" y="132"/>
                </a:lnTo>
                <a:lnTo>
                  <a:pt x="222" y="138"/>
                </a:lnTo>
                <a:lnTo>
                  <a:pt x="223" y="142"/>
                </a:lnTo>
                <a:lnTo>
                  <a:pt x="225" y="154"/>
                </a:lnTo>
                <a:lnTo>
                  <a:pt x="228" y="158"/>
                </a:lnTo>
                <a:lnTo>
                  <a:pt x="230" y="160"/>
                </a:lnTo>
                <a:close/>
              </a:path>
            </a:pathLst>
          </a:custGeom>
          <a:solidFill>
            <a:srgbClr val="515151"/>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18" name=""/>
          <p:cNvSpPr/>
          <p:nvPr/>
        </p:nvSpPr>
        <p:spPr>
          <a:xfrm>
            <a:off x="3522600" y="5950080"/>
            <a:ext cx="193680" cy="228600"/>
          </a:xfrm>
          <a:custGeom>
            <a:avLst/>
            <a:gdLst/>
            <a:ahLst/>
            <a:rect l="l" t="t" r="r" b="b"/>
            <a:pathLst>
              <a:path w="122" h="288">
                <a:moveTo>
                  <a:pt x="48" y="138"/>
                </a:moveTo>
                <a:lnTo>
                  <a:pt x="55" y="130"/>
                </a:lnTo>
                <a:lnTo>
                  <a:pt x="61" y="122"/>
                </a:lnTo>
                <a:lnTo>
                  <a:pt x="74" y="100"/>
                </a:lnTo>
                <a:lnTo>
                  <a:pt x="85" y="79"/>
                </a:lnTo>
                <a:lnTo>
                  <a:pt x="90" y="69"/>
                </a:lnTo>
                <a:lnTo>
                  <a:pt x="93" y="57"/>
                </a:lnTo>
                <a:lnTo>
                  <a:pt x="97" y="53"/>
                </a:lnTo>
                <a:lnTo>
                  <a:pt x="99" y="47"/>
                </a:lnTo>
                <a:lnTo>
                  <a:pt x="104" y="31"/>
                </a:lnTo>
                <a:lnTo>
                  <a:pt x="109" y="13"/>
                </a:lnTo>
                <a:lnTo>
                  <a:pt x="112" y="5"/>
                </a:lnTo>
                <a:lnTo>
                  <a:pt x="115" y="0"/>
                </a:lnTo>
                <a:lnTo>
                  <a:pt x="116" y="0"/>
                </a:lnTo>
                <a:lnTo>
                  <a:pt x="119" y="13"/>
                </a:lnTo>
                <a:lnTo>
                  <a:pt x="120" y="27"/>
                </a:lnTo>
                <a:lnTo>
                  <a:pt x="122" y="37"/>
                </a:lnTo>
                <a:lnTo>
                  <a:pt x="122" y="45"/>
                </a:lnTo>
                <a:lnTo>
                  <a:pt x="121" y="53"/>
                </a:lnTo>
                <a:lnTo>
                  <a:pt x="119" y="61"/>
                </a:lnTo>
                <a:lnTo>
                  <a:pt x="116" y="71"/>
                </a:lnTo>
                <a:lnTo>
                  <a:pt x="113" y="75"/>
                </a:lnTo>
                <a:lnTo>
                  <a:pt x="111" y="81"/>
                </a:lnTo>
                <a:lnTo>
                  <a:pt x="31" y="288"/>
                </a:lnTo>
                <a:lnTo>
                  <a:pt x="30" y="286"/>
                </a:lnTo>
                <a:lnTo>
                  <a:pt x="29" y="280"/>
                </a:lnTo>
                <a:lnTo>
                  <a:pt x="25" y="270"/>
                </a:lnTo>
                <a:lnTo>
                  <a:pt x="23" y="258"/>
                </a:lnTo>
                <a:lnTo>
                  <a:pt x="23" y="255"/>
                </a:lnTo>
                <a:lnTo>
                  <a:pt x="22" y="251"/>
                </a:lnTo>
                <a:lnTo>
                  <a:pt x="0" y="219"/>
                </a:lnTo>
                <a:lnTo>
                  <a:pt x="12" y="201"/>
                </a:lnTo>
                <a:lnTo>
                  <a:pt x="19" y="193"/>
                </a:lnTo>
                <a:lnTo>
                  <a:pt x="27" y="183"/>
                </a:lnTo>
                <a:lnTo>
                  <a:pt x="33" y="173"/>
                </a:lnTo>
                <a:lnTo>
                  <a:pt x="39" y="164"/>
                </a:lnTo>
                <a:lnTo>
                  <a:pt x="45" y="152"/>
                </a:lnTo>
                <a:lnTo>
                  <a:pt x="48" y="138"/>
                </a:lnTo>
                <a:close/>
              </a:path>
            </a:pathLst>
          </a:custGeom>
          <a:solidFill>
            <a:srgbClr val="6b6b6b"/>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19" name=""/>
          <p:cNvSpPr/>
          <p:nvPr/>
        </p:nvSpPr>
        <p:spPr>
          <a:xfrm>
            <a:off x="3441600" y="5877000"/>
            <a:ext cx="258840" cy="236520"/>
          </a:xfrm>
          <a:custGeom>
            <a:avLst/>
            <a:gdLst/>
            <a:ahLst/>
            <a:rect l="l" t="t" r="r" b="b"/>
            <a:pathLst>
              <a:path w="163" h="296">
                <a:moveTo>
                  <a:pt x="108" y="13"/>
                </a:moveTo>
                <a:lnTo>
                  <a:pt x="159" y="4"/>
                </a:lnTo>
                <a:lnTo>
                  <a:pt x="162" y="0"/>
                </a:lnTo>
                <a:lnTo>
                  <a:pt x="163" y="0"/>
                </a:lnTo>
                <a:lnTo>
                  <a:pt x="163" y="53"/>
                </a:lnTo>
                <a:lnTo>
                  <a:pt x="148" y="108"/>
                </a:lnTo>
                <a:lnTo>
                  <a:pt x="136" y="132"/>
                </a:lnTo>
                <a:lnTo>
                  <a:pt x="127" y="156"/>
                </a:lnTo>
                <a:lnTo>
                  <a:pt x="125" y="158"/>
                </a:lnTo>
                <a:lnTo>
                  <a:pt x="122" y="162"/>
                </a:lnTo>
                <a:lnTo>
                  <a:pt x="120" y="166"/>
                </a:lnTo>
                <a:lnTo>
                  <a:pt x="117" y="170"/>
                </a:lnTo>
                <a:lnTo>
                  <a:pt x="103" y="193"/>
                </a:lnTo>
                <a:lnTo>
                  <a:pt x="96" y="205"/>
                </a:lnTo>
                <a:lnTo>
                  <a:pt x="90" y="215"/>
                </a:lnTo>
                <a:lnTo>
                  <a:pt x="88" y="221"/>
                </a:lnTo>
                <a:lnTo>
                  <a:pt x="85" y="225"/>
                </a:lnTo>
                <a:lnTo>
                  <a:pt x="84" y="227"/>
                </a:lnTo>
                <a:lnTo>
                  <a:pt x="84" y="231"/>
                </a:lnTo>
                <a:lnTo>
                  <a:pt x="83" y="233"/>
                </a:lnTo>
                <a:lnTo>
                  <a:pt x="82" y="237"/>
                </a:lnTo>
                <a:lnTo>
                  <a:pt x="80" y="241"/>
                </a:lnTo>
                <a:lnTo>
                  <a:pt x="77" y="245"/>
                </a:lnTo>
                <a:lnTo>
                  <a:pt x="70" y="253"/>
                </a:lnTo>
                <a:lnTo>
                  <a:pt x="63" y="264"/>
                </a:lnTo>
                <a:lnTo>
                  <a:pt x="56" y="274"/>
                </a:lnTo>
                <a:lnTo>
                  <a:pt x="50" y="282"/>
                </a:lnTo>
                <a:lnTo>
                  <a:pt x="44" y="290"/>
                </a:lnTo>
                <a:lnTo>
                  <a:pt x="41" y="294"/>
                </a:lnTo>
                <a:lnTo>
                  <a:pt x="40" y="296"/>
                </a:lnTo>
                <a:lnTo>
                  <a:pt x="0" y="261"/>
                </a:lnTo>
                <a:lnTo>
                  <a:pt x="4" y="245"/>
                </a:lnTo>
                <a:lnTo>
                  <a:pt x="8" y="231"/>
                </a:lnTo>
                <a:lnTo>
                  <a:pt x="13" y="219"/>
                </a:lnTo>
                <a:lnTo>
                  <a:pt x="17" y="207"/>
                </a:lnTo>
                <a:lnTo>
                  <a:pt x="22" y="199"/>
                </a:lnTo>
                <a:lnTo>
                  <a:pt x="29" y="191"/>
                </a:lnTo>
                <a:lnTo>
                  <a:pt x="36" y="185"/>
                </a:lnTo>
                <a:lnTo>
                  <a:pt x="41" y="181"/>
                </a:lnTo>
                <a:lnTo>
                  <a:pt x="46" y="179"/>
                </a:lnTo>
                <a:lnTo>
                  <a:pt x="56" y="160"/>
                </a:lnTo>
                <a:lnTo>
                  <a:pt x="54" y="138"/>
                </a:lnTo>
                <a:lnTo>
                  <a:pt x="41" y="124"/>
                </a:lnTo>
                <a:lnTo>
                  <a:pt x="62" y="53"/>
                </a:lnTo>
                <a:lnTo>
                  <a:pt x="67" y="55"/>
                </a:lnTo>
                <a:lnTo>
                  <a:pt x="70" y="87"/>
                </a:lnTo>
                <a:lnTo>
                  <a:pt x="75" y="85"/>
                </a:lnTo>
                <a:lnTo>
                  <a:pt x="80" y="83"/>
                </a:lnTo>
                <a:lnTo>
                  <a:pt x="84" y="81"/>
                </a:lnTo>
                <a:lnTo>
                  <a:pt x="86" y="77"/>
                </a:lnTo>
                <a:lnTo>
                  <a:pt x="90" y="71"/>
                </a:lnTo>
                <a:lnTo>
                  <a:pt x="92" y="65"/>
                </a:lnTo>
                <a:lnTo>
                  <a:pt x="98" y="51"/>
                </a:lnTo>
                <a:lnTo>
                  <a:pt x="96" y="43"/>
                </a:lnTo>
                <a:lnTo>
                  <a:pt x="93" y="37"/>
                </a:lnTo>
                <a:lnTo>
                  <a:pt x="91" y="31"/>
                </a:lnTo>
                <a:lnTo>
                  <a:pt x="89" y="27"/>
                </a:lnTo>
                <a:lnTo>
                  <a:pt x="85" y="23"/>
                </a:lnTo>
                <a:lnTo>
                  <a:pt x="81" y="21"/>
                </a:lnTo>
                <a:lnTo>
                  <a:pt x="76" y="21"/>
                </a:lnTo>
                <a:lnTo>
                  <a:pt x="71" y="19"/>
                </a:lnTo>
                <a:lnTo>
                  <a:pt x="73" y="4"/>
                </a:lnTo>
                <a:lnTo>
                  <a:pt x="77" y="0"/>
                </a:lnTo>
                <a:lnTo>
                  <a:pt x="82" y="0"/>
                </a:lnTo>
                <a:lnTo>
                  <a:pt x="91" y="2"/>
                </a:lnTo>
                <a:lnTo>
                  <a:pt x="100" y="6"/>
                </a:lnTo>
                <a:lnTo>
                  <a:pt x="108" y="13"/>
                </a:lnTo>
                <a:close/>
              </a:path>
            </a:pathLst>
          </a:custGeom>
          <a:solidFill>
            <a:srgbClr val="bababa"/>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20" name=""/>
          <p:cNvSpPr/>
          <p:nvPr/>
        </p:nvSpPr>
        <p:spPr>
          <a:xfrm>
            <a:off x="5575320" y="5875200"/>
            <a:ext cx="34920" cy="24120"/>
          </a:xfrm>
          <a:custGeom>
            <a:avLst/>
            <a:gdLst/>
            <a:ahLst/>
            <a:rect l="l" t="t" r="r" b="b"/>
            <a:pathLst>
              <a:path w="22" h="29">
                <a:moveTo>
                  <a:pt x="0" y="29"/>
                </a:moveTo>
                <a:lnTo>
                  <a:pt x="11" y="0"/>
                </a:lnTo>
                <a:lnTo>
                  <a:pt x="22" y="11"/>
                </a:lnTo>
                <a:lnTo>
                  <a:pt x="0" y="29"/>
                </a:lnTo>
                <a:close/>
              </a:path>
            </a:pathLst>
          </a:custGeom>
          <a:solidFill>
            <a:srgbClr val="2119e5"/>
          </a:solidFill>
          <a:ln w="0">
            <a:noFill/>
          </a:ln>
        </p:spPr>
        <p:style>
          <a:lnRef idx="0"/>
          <a:fillRef idx="0"/>
          <a:effectRef idx="0"/>
          <a:fontRef idx="minor"/>
        </p:style>
        <p:txBody>
          <a:bodyPr lIns="90000" rIns="90000" tIns="-22680" bIns="-22680" anchor="t">
            <a:noAutofit/>
          </a:bodyPr>
          <a:p>
            <a:endParaRPr b="0" lang="en-US" sz="2400" spc="-1" strike="noStrike">
              <a:solidFill>
                <a:srgbClr val="ffff00"/>
              </a:solidFill>
              <a:latin typeface="Times New Roman"/>
            </a:endParaRPr>
          </a:p>
        </p:txBody>
      </p:sp>
      <p:sp>
        <p:nvSpPr>
          <p:cNvPr id="321" name=""/>
          <p:cNvSpPr/>
          <p:nvPr/>
        </p:nvSpPr>
        <p:spPr>
          <a:xfrm>
            <a:off x="3444840" y="5877000"/>
            <a:ext cx="34920" cy="22320"/>
          </a:xfrm>
          <a:custGeom>
            <a:avLst/>
            <a:gdLst/>
            <a:ahLst/>
            <a:rect l="l" t="t" r="r" b="b"/>
            <a:pathLst>
              <a:path w="22" h="27">
                <a:moveTo>
                  <a:pt x="22" y="13"/>
                </a:moveTo>
                <a:lnTo>
                  <a:pt x="22" y="19"/>
                </a:lnTo>
                <a:lnTo>
                  <a:pt x="0" y="27"/>
                </a:lnTo>
                <a:lnTo>
                  <a:pt x="5" y="15"/>
                </a:lnTo>
                <a:lnTo>
                  <a:pt x="16" y="0"/>
                </a:lnTo>
                <a:lnTo>
                  <a:pt x="21" y="4"/>
                </a:lnTo>
                <a:lnTo>
                  <a:pt x="22" y="13"/>
                </a:lnTo>
                <a:close/>
              </a:path>
            </a:pathLst>
          </a:custGeom>
          <a:solidFill>
            <a:srgbClr val="2119e5"/>
          </a:solidFill>
          <a:ln w="0">
            <a:noFill/>
          </a:ln>
        </p:spPr>
        <p:style>
          <a:lnRef idx="0"/>
          <a:fillRef idx="0"/>
          <a:effectRef idx="0"/>
          <a:fontRef idx="minor"/>
        </p:style>
        <p:txBody>
          <a:bodyPr lIns="90000" rIns="90000" tIns="-24480" bIns="-24480" anchor="t">
            <a:noAutofit/>
          </a:bodyPr>
          <a:p>
            <a:endParaRPr b="0" lang="en-US" sz="2400" spc="-1" strike="noStrike">
              <a:solidFill>
                <a:srgbClr val="ffff00"/>
              </a:solidFill>
              <a:latin typeface="Times New Roman"/>
            </a:endParaRPr>
          </a:p>
        </p:txBody>
      </p:sp>
      <p:sp>
        <p:nvSpPr>
          <p:cNvPr id="322" name=""/>
          <p:cNvSpPr/>
          <p:nvPr/>
        </p:nvSpPr>
        <p:spPr>
          <a:xfrm>
            <a:off x="3540240" y="5877000"/>
            <a:ext cx="4680" cy="6120"/>
          </a:xfrm>
          <a:prstGeom prst="rect">
            <a:avLst/>
          </a:prstGeom>
          <a:solidFill>
            <a:srgbClr val="ffffff"/>
          </a:solidFill>
          <a:ln w="0">
            <a:noFill/>
          </a:ln>
        </p:spPr>
        <p:style>
          <a:lnRef idx="0"/>
          <a:fillRef idx="0"/>
          <a:effectRef idx="0"/>
          <a:fontRef idx="minor"/>
        </p:style>
        <p:txBody>
          <a:bodyPr lIns="90000" rIns="90000" tIns="-40680" bIns="-40680" anchor="t">
            <a:noAutofit/>
          </a:bodyPr>
          <a:p>
            <a:endParaRPr b="0" lang="en-US" sz="2400" spc="-1" strike="noStrike">
              <a:solidFill>
                <a:srgbClr val="ffff00"/>
              </a:solidFill>
              <a:latin typeface="Times New Roman"/>
            </a:endParaRPr>
          </a:p>
        </p:txBody>
      </p:sp>
      <p:sp>
        <p:nvSpPr>
          <p:cNvPr id="323" name=""/>
          <p:cNvSpPr/>
          <p:nvPr/>
        </p:nvSpPr>
        <p:spPr>
          <a:xfrm>
            <a:off x="3521160" y="5883120"/>
            <a:ext cx="7920" cy="7920"/>
          </a:xfrm>
          <a:custGeom>
            <a:avLst/>
            <a:gdLst/>
            <a:ahLst/>
            <a:rect l="l" t="t" r="r" b="b"/>
            <a:pathLst>
              <a:path w="5" h="10">
                <a:moveTo>
                  <a:pt x="5" y="10"/>
                </a:moveTo>
                <a:lnTo>
                  <a:pt x="1" y="10"/>
                </a:lnTo>
                <a:lnTo>
                  <a:pt x="0" y="8"/>
                </a:lnTo>
                <a:lnTo>
                  <a:pt x="2" y="0"/>
                </a:lnTo>
                <a:lnTo>
                  <a:pt x="4" y="8"/>
                </a:lnTo>
                <a:lnTo>
                  <a:pt x="5" y="10"/>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ffff00"/>
              </a:solidFill>
              <a:latin typeface="Times New Roman"/>
            </a:endParaRPr>
          </a:p>
        </p:txBody>
      </p:sp>
      <p:sp>
        <p:nvSpPr>
          <p:cNvPr id="324" name=""/>
          <p:cNvSpPr/>
          <p:nvPr/>
        </p:nvSpPr>
        <p:spPr>
          <a:xfrm>
            <a:off x="5478480" y="5888160"/>
            <a:ext cx="7920" cy="15840"/>
          </a:xfrm>
          <a:custGeom>
            <a:avLst/>
            <a:gdLst/>
            <a:ahLst/>
            <a:rect l="l" t="t" r="r" b="b"/>
            <a:pathLst>
              <a:path w="5" h="20">
                <a:moveTo>
                  <a:pt x="0" y="20"/>
                </a:moveTo>
                <a:lnTo>
                  <a:pt x="1" y="0"/>
                </a:lnTo>
                <a:lnTo>
                  <a:pt x="5" y="0"/>
                </a:lnTo>
                <a:lnTo>
                  <a:pt x="0" y="20"/>
                </a:lnTo>
                <a:close/>
              </a:path>
            </a:pathLst>
          </a:custGeom>
          <a:solidFill>
            <a:srgbClr val="ffffff"/>
          </a:solidFill>
          <a:ln w="0">
            <a:noFill/>
          </a:ln>
        </p:spPr>
        <p:style>
          <a:lnRef idx="0"/>
          <a:fillRef idx="0"/>
          <a:effectRef idx="0"/>
          <a:fontRef idx="minor"/>
        </p:style>
        <p:txBody>
          <a:bodyPr lIns="90000" rIns="90000" tIns="-30960" bIns="-30960" anchor="t">
            <a:noAutofit/>
          </a:bodyPr>
          <a:p>
            <a:endParaRPr b="0" lang="en-US" sz="2400" spc="-1" strike="noStrike">
              <a:solidFill>
                <a:srgbClr val="ffff00"/>
              </a:solidFill>
              <a:latin typeface="Times New Roman"/>
            </a:endParaRPr>
          </a:p>
        </p:txBody>
      </p:sp>
      <p:sp>
        <p:nvSpPr>
          <p:cNvPr id="325" name=""/>
          <p:cNvSpPr/>
          <p:nvPr/>
        </p:nvSpPr>
        <p:spPr>
          <a:xfrm>
            <a:off x="3265560" y="5892840"/>
            <a:ext cx="169920" cy="158760"/>
          </a:xfrm>
          <a:custGeom>
            <a:avLst/>
            <a:gdLst/>
            <a:ahLst/>
            <a:rect l="l" t="t" r="r" b="b"/>
            <a:pathLst>
              <a:path w="107" h="200">
                <a:moveTo>
                  <a:pt x="103" y="14"/>
                </a:moveTo>
                <a:lnTo>
                  <a:pt x="96" y="22"/>
                </a:lnTo>
                <a:lnTo>
                  <a:pt x="88" y="44"/>
                </a:lnTo>
                <a:lnTo>
                  <a:pt x="91" y="56"/>
                </a:lnTo>
                <a:lnTo>
                  <a:pt x="77" y="60"/>
                </a:lnTo>
                <a:lnTo>
                  <a:pt x="70" y="85"/>
                </a:lnTo>
                <a:lnTo>
                  <a:pt x="72" y="97"/>
                </a:lnTo>
                <a:lnTo>
                  <a:pt x="77" y="105"/>
                </a:lnTo>
                <a:lnTo>
                  <a:pt x="74" y="113"/>
                </a:lnTo>
                <a:lnTo>
                  <a:pt x="63" y="119"/>
                </a:lnTo>
                <a:lnTo>
                  <a:pt x="60" y="137"/>
                </a:lnTo>
                <a:lnTo>
                  <a:pt x="61" y="160"/>
                </a:lnTo>
                <a:lnTo>
                  <a:pt x="45" y="200"/>
                </a:lnTo>
                <a:lnTo>
                  <a:pt x="0" y="200"/>
                </a:lnTo>
                <a:lnTo>
                  <a:pt x="22" y="153"/>
                </a:lnTo>
                <a:lnTo>
                  <a:pt x="53" y="68"/>
                </a:lnTo>
                <a:lnTo>
                  <a:pt x="84" y="0"/>
                </a:lnTo>
                <a:lnTo>
                  <a:pt x="107" y="4"/>
                </a:lnTo>
                <a:lnTo>
                  <a:pt x="103" y="14"/>
                </a:lnTo>
                <a:close/>
              </a:path>
            </a:pathLst>
          </a:custGeom>
          <a:solidFill>
            <a:srgbClr val="bababa"/>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26" name=""/>
          <p:cNvSpPr/>
          <p:nvPr/>
        </p:nvSpPr>
        <p:spPr>
          <a:xfrm>
            <a:off x="5146560" y="5892840"/>
            <a:ext cx="804960" cy="253800"/>
          </a:xfrm>
          <a:custGeom>
            <a:avLst/>
            <a:gdLst/>
            <a:ahLst/>
            <a:rect l="l" t="t" r="r" b="b"/>
            <a:pathLst>
              <a:path w="507" h="321">
                <a:moveTo>
                  <a:pt x="45" y="70"/>
                </a:moveTo>
                <a:lnTo>
                  <a:pt x="51" y="119"/>
                </a:lnTo>
                <a:lnTo>
                  <a:pt x="51" y="141"/>
                </a:lnTo>
                <a:lnTo>
                  <a:pt x="58" y="162"/>
                </a:lnTo>
                <a:lnTo>
                  <a:pt x="100" y="212"/>
                </a:lnTo>
                <a:lnTo>
                  <a:pt x="149" y="226"/>
                </a:lnTo>
                <a:lnTo>
                  <a:pt x="221" y="234"/>
                </a:lnTo>
                <a:lnTo>
                  <a:pt x="275" y="244"/>
                </a:lnTo>
                <a:lnTo>
                  <a:pt x="301" y="244"/>
                </a:lnTo>
                <a:lnTo>
                  <a:pt x="339" y="247"/>
                </a:lnTo>
                <a:lnTo>
                  <a:pt x="369" y="240"/>
                </a:lnTo>
                <a:lnTo>
                  <a:pt x="374" y="234"/>
                </a:lnTo>
                <a:lnTo>
                  <a:pt x="393" y="174"/>
                </a:lnTo>
                <a:lnTo>
                  <a:pt x="416" y="141"/>
                </a:lnTo>
                <a:lnTo>
                  <a:pt x="426" y="131"/>
                </a:lnTo>
                <a:lnTo>
                  <a:pt x="454" y="145"/>
                </a:lnTo>
                <a:lnTo>
                  <a:pt x="471" y="160"/>
                </a:lnTo>
                <a:lnTo>
                  <a:pt x="492" y="198"/>
                </a:lnTo>
                <a:lnTo>
                  <a:pt x="503" y="240"/>
                </a:lnTo>
                <a:lnTo>
                  <a:pt x="507" y="247"/>
                </a:lnTo>
                <a:lnTo>
                  <a:pt x="503" y="289"/>
                </a:lnTo>
                <a:lnTo>
                  <a:pt x="488" y="313"/>
                </a:lnTo>
                <a:lnTo>
                  <a:pt x="468" y="317"/>
                </a:lnTo>
                <a:lnTo>
                  <a:pt x="395" y="311"/>
                </a:lnTo>
                <a:lnTo>
                  <a:pt x="275" y="297"/>
                </a:lnTo>
                <a:lnTo>
                  <a:pt x="199" y="311"/>
                </a:lnTo>
                <a:lnTo>
                  <a:pt x="136" y="321"/>
                </a:lnTo>
                <a:lnTo>
                  <a:pt x="61" y="311"/>
                </a:lnTo>
                <a:lnTo>
                  <a:pt x="12" y="281"/>
                </a:lnTo>
                <a:lnTo>
                  <a:pt x="4" y="267"/>
                </a:lnTo>
                <a:lnTo>
                  <a:pt x="0" y="186"/>
                </a:lnTo>
                <a:lnTo>
                  <a:pt x="12" y="36"/>
                </a:lnTo>
                <a:lnTo>
                  <a:pt x="14" y="0"/>
                </a:lnTo>
                <a:lnTo>
                  <a:pt x="28" y="8"/>
                </a:lnTo>
                <a:lnTo>
                  <a:pt x="45" y="70"/>
                </a:lnTo>
                <a:close/>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27" name=""/>
          <p:cNvSpPr/>
          <p:nvPr/>
        </p:nvSpPr>
        <p:spPr>
          <a:xfrm>
            <a:off x="5581800" y="5904000"/>
            <a:ext cx="20520" cy="14040"/>
          </a:xfrm>
          <a:custGeom>
            <a:avLst/>
            <a:gdLst/>
            <a:ahLst/>
            <a:rect l="l" t="t" r="r" b="b"/>
            <a:pathLst>
              <a:path w="13" h="18">
                <a:moveTo>
                  <a:pt x="0" y="18"/>
                </a:moveTo>
                <a:lnTo>
                  <a:pt x="10" y="2"/>
                </a:lnTo>
                <a:lnTo>
                  <a:pt x="13" y="0"/>
                </a:lnTo>
                <a:lnTo>
                  <a:pt x="2" y="12"/>
                </a:lnTo>
                <a:lnTo>
                  <a:pt x="0" y="18"/>
                </a:lnTo>
                <a:close/>
              </a:path>
            </a:pathLst>
          </a:cu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ffff00"/>
              </a:solidFill>
              <a:latin typeface="Times New Roman"/>
            </a:endParaRPr>
          </a:p>
        </p:txBody>
      </p:sp>
      <p:sp>
        <p:nvSpPr>
          <p:cNvPr id="328" name=""/>
          <p:cNvSpPr/>
          <p:nvPr/>
        </p:nvSpPr>
        <p:spPr>
          <a:xfrm>
            <a:off x="5594400" y="5904000"/>
            <a:ext cx="57240" cy="39600"/>
          </a:xfrm>
          <a:custGeom>
            <a:avLst/>
            <a:gdLst/>
            <a:ahLst/>
            <a:rect l="l" t="t" r="r" b="b"/>
            <a:pathLst>
              <a:path w="36" h="50">
                <a:moveTo>
                  <a:pt x="20" y="50"/>
                </a:moveTo>
                <a:lnTo>
                  <a:pt x="5" y="40"/>
                </a:lnTo>
                <a:lnTo>
                  <a:pt x="0" y="32"/>
                </a:lnTo>
                <a:lnTo>
                  <a:pt x="3" y="22"/>
                </a:lnTo>
                <a:lnTo>
                  <a:pt x="20" y="2"/>
                </a:lnTo>
                <a:lnTo>
                  <a:pt x="24" y="0"/>
                </a:lnTo>
                <a:lnTo>
                  <a:pt x="36" y="14"/>
                </a:lnTo>
                <a:lnTo>
                  <a:pt x="20" y="50"/>
                </a:lnTo>
                <a:close/>
              </a:path>
            </a:pathLst>
          </a:custGeom>
          <a:solidFill>
            <a:srgbClr val="2119e5"/>
          </a:solidFill>
          <a:ln w="0">
            <a:noFill/>
          </a:ln>
        </p:spPr>
        <p:style>
          <a:lnRef idx="0"/>
          <a:fillRef idx="0"/>
          <a:effectRef idx="0"/>
          <a:fontRef idx="minor"/>
        </p:style>
        <p:txBody>
          <a:bodyPr lIns="90000" rIns="90000" tIns="-7200" bIns="-7200" anchor="t">
            <a:noAutofit/>
          </a:bodyPr>
          <a:p>
            <a:endParaRPr b="0" lang="en-US" sz="2400" spc="-1" strike="noStrike">
              <a:solidFill>
                <a:srgbClr val="ffff00"/>
              </a:solidFill>
              <a:latin typeface="Times New Roman"/>
            </a:endParaRPr>
          </a:p>
        </p:txBody>
      </p:sp>
      <p:sp>
        <p:nvSpPr>
          <p:cNvPr id="329" name=""/>
          <p:cNvSpPr/>
          <p:nvPr/>
        </p:nvSpPr>
        <p:spPr>
          <a:xfrm>
            <a:off x="3565440" y="5915160"/>
            <a:ext cx="9720" cy="14040"/>
          </a:xfrm>
          <a:custGeom>
            <a:avLst/>
            <a:gdLst/>
            <a:ahLst/>
            <a:rect l="l" t="t" r="r" b="b"/>
            <a:pathLst>
              <a:path w="6" h="18">
                <a:moveTo>
                  <a:pt x="6" y="12"/>
                </a:moveTo>
                <a:lnTo>
                  <a:pt x="2" y="16"/>
                </a:lnTo>
                <a:lnTo>
                  <a:pt x="0" y="18"/>
                </a:lnTo>
                <a:lnTo>
                  <a:pt x="5" y="0"/>
                </a:lnTo>
                <a:lnTo>
                  <a:pt x="6" y="0"/>
                </a:lnTo>
                <a:lnTo>
                  <a:pt x="6" y="12"/>
                </a:lnTo>
                <a:close/>
              </a:path>
            </a:pathLst>
          </a:cu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ffff00"/>
              </a:solidFill>
              <a:latin typeface="Times New Roman"/>
            </a:endParaRPr>
          </a:p>
        </p:txBody>
      </p:sp>
      <p:sp>
        <p:nvSpPr>
          <p:cNvPr id="330" name=""/>
          <p:cNvSpPr/>
          <p:nvPr/>
        </p:nvSpPr>
        <p:spPr>
          <a:xfrm>
            <a:off x="3478320" y="5919840"/>
            <a:ext cx="38160" cy="42840"/>
          </a:xfrm>
          <a:custGeom>
            <a:avLst/>
            <a:gdLst/>
            <a:ahLst/>
            <a:rect l="l" t="t" r="r" b="b"/>
            <a:pathLst>
              <a:path w="24" h="53">
                <a:moveTo>
                  <a:pt x="0" y="43"/>
                </a:moveTo>
                <a:lnTo>
                  <a:pt x="0" y="30"/>
                </a:lnTo>
                <a:lnTo>
                  <a:pt x="16" y="2"/>
                </a:lnTo>
                <a:lnTo>
                  <a:pt x="24" y="0"/>
                </a:lnTo>
                <a:lnTo>
                  <a:pt x="10" y="53"/>
                </a:lnTo>
                <a:lnTo>
                  <a:pt x="0" y="43"/>
                </a:lnTo>
                <a:close/>
              </a:path>
            </a:pathLst>
          </a:custGeom>
          <a:solidFill>
            <a:srgbClr val="2119e5"/>
          </a:solidFill>
          <a:ln w="0">
            <a:noFill/>
          </a:ln>
        </p:spPr>
        <p:style>
          <a:lnRef idx="0"/>
          <a:fillRef idx="0"/>
          <a:effectRef idx="0"/>
          <a:fontRef idx="minor"/>
        </p:style>
        <p:txBody>
          <a:bodyPr lIns="90000" rIns="90000" tIns="-3960" bIns="-3960" anchor="t">
            <a:noAutofit/>
          </a:bodyPr>
          <a:p>
            <a:endParaRPr b="0" lang="en-US" sz="2400" spc="-1" strike="noStrike">
              <a:solidFill>
                <a:srgbClr val="ffff00"/>
              </a:solidFill>
              <a:latin typeface="Times New Roman"/>
            </a:endParaRPr>
          </a:p>
        </p:txBody>
      </p:sp>
      <p:sp>
        <p:nvSpPr>
          <p:cNvPr id="331" name=""/>
          <p:cNvSpPr/>
          <p:nvPr/>
        </p:nvSpPr>
        <p:spPr>
          <a:xfrm>
            <a:off x="3427560" y="5925960"/>
            <a:ext cx="42840" cy="17640"/>
          </a:xfrm>
          <a:custGeom>
            <a:avLst/>
            <a:gdLst/>
            <a:ahLst/>
            <a:rect l="l" t="t" r="r" b="b"/>
            <a:pathLst>
              <a:path w="27" h="22">
                <a:moveTo>
                  <a:pt x="22" y="22"/>
                </a:moveTo>
                <a:lnTo>
                  <a:pt x="0" y="6"/>
                </a:lnTo>
                <a:lnTo>
                  <a:pt x="24" y="0"/>
                </a:lnTo>
                <a:lnTo>
                  <a:pt x="27" y="0"/>
                </a:lnTo>
                <a:lnTo>
                  <a:pt x="22" y="22"/>
                </a:lnTo>
                <a:close/>
              </a:path>
            </a:pathLst>
          </a:custGeom>
          <a:solidFill>
            <a:srgbClr val="2119e5"/>
          </a:solidFill>
          <a:ln w="0">
            <a:noFill/>
          </a:ln>
        </p:spPr>
        <p:style>
          <a:lnRef idx="0"/>
          <a:fillRef idx="0"/>
          <a:effectRef idx="0"/>
          <a:fontRef idx="minor"/>
        </p:style>
        <p:txBody>
          <a:bodyPr lIns="90000" rIns="90000" tIns="-29160" bIns="-29160" anchor="t">
            <a:noAutofit/>
          </a:bodyPr>
          <a:p>
            <a:endParaRPr b="0" lang="en-US" sz="2400" spc="-1" strike="noStrike">
              <a:solidFill>
                <a:srgbClr val="ffff00"/>
              </a:solidFill>
              <a:latin typeface="Times New Roman"/>
            </a:endParaRPr>
          </a:p>
        </p:txBody>
      </p:sp>
      <p:sp>
        <p:nvSpPr>
          <p:cNvPr id="332" name=""/>
          <p:cNvSpPr/>
          <p:nvPr/>
        </p:nvSpPr>
        <p:spPr>
          <a:xfrm>
            <a:off x="5634000" y="5929200"/>
            <a:ext cx="33480" cy="39960"/>
          </a:xfrm>
          <a:custGeom>
            <a:avLst/>
            <a:gdLst/>
            <a:ahLst/>
            <a:rect l="l" t="t" r="r" b="b"/>
            <a:pathLst>
              <a:path w="21" h="49">
                <a:moveTo>
                  <a:pt x="2" y="49"/>
                </a:moveTo>
                <a:lnTo>
                  <a:pt x="0" y="45"/>
                </a:lnTo>
                <a:lnTo>
                  <a:pt x="0" y="33"/>
                </a:lnTo>
                <a:lnTo>
                  <a:pt x="13" y="6"/>
                </a:lnTo>
                <a:lnTo>
                  <a:pt x="19" y="0"/>
                </a:lnTo>
                <a:lnTo>
                  <a:pt x="21" y="0"/>
                </a:lnTo>
                <a:lnTo>
                  <a:pt x="2" y="49"/>
                </a:lnTo>
                <a:close/>
              </a:path>
            </a:pathLst>
          </a:custGeom>
          <a:solidFill>
            <a:srgbClr val="4c4c4c"/>
          </a:solidFill>
          <a:ln w="0">
            <a:noFill/>
          </a:ln>
        </p:spPr>
        <p:style>
          <a:lnRef idx="0"/>
          <a:fillRef idx="0"/>
          <a:effectRef idx="0"/>
          <a:fontRef idx="minor"/>
        </p:style>
        <p:txBody>
          <a:bodyPr lIns="90000" rIns="90000" tIns="-6840" bIns="-6840" anchor="t">
            <a:noAutofit/>
          </a:bodyPr>
          <a:p>
            <a:endParaRPr b="0" lang="en-US" sz="2400" spc="-1" strike="noStrike">
              <a:solidFill>
                <a:srgbClr val="ffff00"/>
              </a:solidFill>
              <a:latin typeface="Times New Roman"/>
            </a:endParaRPr>
          </a:p>
        </p:txBody>
      </p:sp>
      <p:sp>
        <p:nvSpPr>
          <p:cNvPr id="333" name=""/>
          <p:cNvSpPr/>
          <p:nvPr/>
        </p:nvSpPr>
        <p:spPr>
          <a:xfrm>
            <a:off x="5656320" y="5940360"/>
            <a:ext cx="146160" cy="73080"/>
          </a:xfrm>
          <a:custGeom>
            <a:avLst/>
            <a:gdLst/>
            <a:ahLst/>
            <a:rect l="l" t="t" r="r" b="b"/>
            <a:pathLst>
              <a:path w="92" h="93">
                <a:moveTo>
                  <a:pt x="90" y="61"/>
                </a:moveTo>
                <a:lnTo>
                  <a:pt x="92" y="63"/>
                </a:lnTo>
                <a:lnTo>
                  <a:pt x="70" y="93"/>
                </a:lnTo>
                <a:lnTo>
                  <a:pt x="63" y="93"/>
                </a:lnTo>
                <a:lnTo>
                  <a:pt x="50" y="85"/>
                </a:lnTo>
                <a:lnTo>
                  <a:pt x="26" y="77"/>
                </a:lnTo>
                <a:lnTo>
                  <a:pt x="16" y="67"/>
                </a:lnTo>
                <a:lnTo>
                  <a:pt x="10" y="47"/>
                </a:lnTo>
                <a:lnTo>
                  <a:pt x="5" y="45"/>
                </a:lnTo>
                <a:lnTo>
                  <a:pt x="0" y="45"/>
                </a:lnTo>
                <a:lnTo>
                  <a:pt x="11" y="10"/>
                </a:lnTo>
                <a:lnTo>
                  <a:pt x="16" y="0"/>
                </a:lnTo>
                <a:lnTo>
                  <a:pt x="71" y="49"/>
                </a:lnTo>
                <a:lnTo>
                  <a:pt x="90" y="61"/>
                </a:lnTo>
                <a:close/>
              </a:path>
            </a:pathLst>
          </a:custGeom>
          <a:solidFill>
            <a:srgbClr val="2119e5"/>
          </a:solidFill>
          <a:ln w="0">
            <a:noFill/>
          </a:ln>
        </p:spPr>
        <p:style>
          <a:lnRef idx="0"/>
          <a:fillRef idx="0"/>
          <a:effectRef idx="0"/>
          <a:fontRef idx="minor"/>
        </p:style>
        <p:txBody>
          <a:bodyPr lIns="90000" rIns="90000" tIns="26280" bIns="26280" anchor="t">
            <a:noAutofit/>
          </a:bodyPr>
          <a:p>
            <a:endParaRPr b="0" lang="en-US" sz="2400" spc="-1" strike="noStrike">
              <a:solidFill>
                <a:srgbClr val="ffff00"/>
              </a:solidFill>
              <a:latin typeface="Times New Roman"/>
            </a:endParaRPr>
          </a:p>
        </p:txBody>
      </p:sp>
      <p:sp>
        <p:nvSpPr>
          <p:cNvPr id="334" name=""/>
          <p:cNvSpPr/>
          <p:nvPr/>
        </p:nvSpPr>
        <p:spPr>
          <a:xfrm>
            <a:off x="3416400" y="5946840"/>
            <a:ext cx="7920" cy="3240"/>
          </a:xfrm>
          <a:custGeom>
            <a:avLst/>
            <a:gdLst/>
            <a:ahLst/>
            <a:rect l="l" t="t" r="r" b="b"/>
            <a:pathLst>
              <a:path w="5" h="4">
                <a:moveTo>
                  <a:pt x="5" y="4"/>
                </a:moveTo>
                <a:lnTo>
                  <a:pt x="3" y="2"/>
                </a:lnTo>
                <a:lnTo>
                  <a:pt x="0" y="2"/>
                </a:lnTo>
                <a:lnTo>
                  <a:pt x="1" y="0"/>
                </a:lnTo>
                <a:lnTo>
                  <a:pt x="2" y="0"/>
                </a:lnTo>
                <a:lnTo>
                  <a:pt x="5" y="4"/>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ffff00"/>
              </a:solidFill>
              <a:latin typeface="Times New Roman"/>
            </a:endParaRPr>
          </a:p>
        </p:txBody>
      </p:sp>
      <p:sp>
        <p:nvSpPr>
          <p:cNvPr id="335" name=""/>
          <p:cNvSpPr/>
          <p:nvPr/>
        </p:nvSpPr>
        <p:spPr>
          <a:xfrm>
            <a:off x="3468600" y="5965920"/>
            <a:ext cx="12960" cy="9360"/>
          </a:xfrm>
          <a:custGeom>
            <a:avLst/>
            <a:gdLst/>
            <a:ahLst/>
            <a:rect l="l" t="t" r="r" b="b"/>
            <a:pathLst>
              <a:path w="8" h="12">
                <a:moveTo>
                  <a:pt x="8" y="12"/>
                </a:moveTo>
                <a:lnTo>
                  <a:pt x="0" y="0"/>
                </a:lnTo>
                <a:lnTo>
                  <a:pt x="5" y="4"/>
                </a:lnTo>
                <a:lnTo>
                  <a:pt x="8" y="12"/>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ffff00"/>
              </a:solidFill>
              <a:latin typeface="Times New Roman"/>
            </a:endParaRPr>
          </a:p>
        </p:txBody>
      </p:sp>
      <p:sp>
        <p:nvSpPr>
          <p:cNvPr id="336" name=""/>
          <p:cNvSpPr/>
          <p:nvPr/>
        </p:nvSpPr>
        <p:spPr>
          <a:xfrm>
            <a:off x="3397320" y="5969160"/>
            <a:ext cx="38160" cy="18720"/>
          </a:xfrm>
          <a:custGeom>
            <a:avLst/>
            <a:gdLst/>
            <a:ahLst/>
            <a:rect l="l" t="t" r="r" b="b"/>
            <a:pathLst>
              <a:path w="24" h="26">
                <a:moveTo>
                  <a:pt x="24" y="8"/>
                </a:moveTo>
                <a:lnTo>
                  <a:pt x="17" y="26"/>
                </a:lnTo>
                <a:lnTo>
                  <a:pt x="0" y="26"/>
                </a:lnTo>
                <a:lnTo>
                  <a:pt x="8" y="0"/>
                </a:lnTo>
                <a:lnTo>
                  <a:pt x="21" y="2"/>
                </a:lnTo>
                <a:lnTo>
                  <a:pt x="24" y="8"/>
                </a:lnTo>
                <a:close/>
              </a:path>
            </a:pathLst>
          </a:custGeom>
          <a:solidFill>
            <a:srgbClr val="2119e5"/>
          </a:solidFill>
          <a:ln w="0">
            <a:noFill/>
          </a:ln>
        </p:spPr>
        <p:style>
          <a:lnRef idx="0"/>
          <a:fillRef idx="0"/>
          <a:effectRef idx="0"/>
          <a:fontRef idx="minor"/>
        </p:style>
        <p:txBody>
          <a:bodyPr lIns="90000" rIns="90000" tIns="-28080" bIns="-28080" anchor="t">
            <a:noAutofit/>
          </a:bodyPr>
          <a:p>
            <a:endParaRPr b="0" lang="en-US" sz="2400" spc="-1" strike="noStrike">
              <a:solidFill>
                <a:srgbClr val="ffff00"/>
              </a:solidFill>
              <a:latin typeface="Times New Roman"/>
            </a:endParaRPr>
          </a:p>
        </p:txBody>
      </p:sp>
      <p:sp>
        <p:nvSpPr>
          <p:cNvPr id="337" name=""/>
          <p:cNvSpPr/>
          <p:nvPr/>
        </p:nvSpPr>
        <p:spPr>
          <a:xfrm>
            <a:off x="5607000" y="5977080"/>
            <a:ext cx="30240" cy="15840"/>
          </a:xfrm>
          <a:custGeom>
            <a:avLst/>
            <a:gdLst/>
            <a:ahLst/>
            <a:rect l="l" t="t" r="r" b="b"/>
            <a:pathLst>
              <a:path w="19" h="22">
                <a:moveTo>
                  <a:pt x="9" y="22"/>
                </a:moveTo>
                <a:lnTo>
                  <a:pt x="5" y="22"/>
                </a:lnTo>
                <a:lnTo>
                  <a:pt x="0" y="8"/>
                </a:lnTo>
                <a:lnTo>
                  <a:pt x="7" y="0"/>
                </a:lnTo>
                <a:lnTo>
                  <a:pt x="19" y="18"/>
                </a:lnTo>
                <a:lnTo>
                  <a:pt x="9" y="22"/>
                </a:lnTo>
                <a:close/>
              </a:path>
            </a:pathLst>
          </a:custGeom>
          <a:solidFill>
            <a:srgbClr val="4c4c4c"/>
          </a:solidFill>
          <a:ln w="0">
            <a:noFill/>
          </a:ln>
        </p:spPr>
        <p:style>
          <a:lnRef idx="0"/>
          <a:fillRef idx="0"/>
          <a:effectRef idx="0"/>
          <a:fontRef idx="minor"/>
        </p:style>
        <p:txBody>
          <a:bodyPr lIns="90000" rIns="90000" tIns="-30960" bIns="-30960" anchor="t">
            <a:noAutofit/>
          </a:bodyPr>
          <a:p>
            <a:endParaRPr b="0" lang="en-US" sz="2400" spc="-1" strike="noStrike">
              <a:solidFill>
                <a:srgbClr val="ffff00"/>
              </a:solidFill>
              <a:latin typeface="Times New Roman"/>
            </a:endParaRPr>
          </a:p>
        </p:txBody>
      </p:sp>
      <p:sp>
        <p:nvSpPr>
          <p:cNvPr id="338" name=""/>
          <p:cNvSpPr/>
          <p:nvPr/>
        </p:nvSpPr>
        <p:spPr>
          <a:xfrm>
            <a:off x="3446640" y="5979960"/>
            <a:ext cx="31680" cy="12960"/>
          </a:xfrm>
          <a:custGeom>
            <a:avLst/>
            <a:gdLst/>
            <a:ahLst/>
            <a:rect l="l" t="t" r="r" b="b"/>
            <a:pathLst>
              <a:path w="20" h="18">
                <a:moveTo>
                  <a:pt x="20" y="18"/>
                </a:moveTo>
                <a:lnTo>
                  <a:pt x="0" y="18"/>
                </a:lnTo>
                <a:lnTo>
                  <a:pt x="4" y="0"/>
                </a:lnTo>
                <a:lnTo>
                  <a:pt x="15" y="10"/>
                </a:lnTo>
                <a:lnTo>
                  <a:pt x="20" y="18"/>
                </a:lnTo>
                <a:close/>
              </a:path>
            </a:pathLst>
          </a:custGeom>
          <a:solidFill>
            <a:srgbClr val="2119e5"/>
          </a:solidFill>
          <a:ln w="0">
            <a:noFill/>
          </a:ln>
        </p:spPr>
        <p:style>
          <a:lnRef idx="0"/>
          <a:fillRef idx="0"/>
          <a:effectRef idx="0"/>
          <a:fontRef idx="minor"/>
        </p:style>
        <p:txBody>
          <a:bodyPr lIns="90000" rIns="90000" tIns="-33840" bIns="-33840" anchor="t">
            <a:noAutofit/>
          </a:bodyPr>
          <a:p>
            <a:endParaRPr b="0" lang="en-US" sz="2400" spc="-1" strike="noStrike">
              <a:solidFill>
                <a:srgbClr val="ffff00"/>
              </a:solidFill>
              <a:latin typeface="Times New Roman"/>
            </a:endParaRPr>
          </a:p>
        </p:txBody>
      </p:sp>
      <p:sp>
        <p:nvSpPr>
          <p:cNvPr id="339" name=""/>
          <p:cNvSpPr/>
          <p:nvPr/>
        </p:nvSpPr>
        <p:spPr>
          <a:xfrm>
            <a:off x="3395520" y="6002280"/>
            <a:ext cx="73080" cy="15840"/>
          </a:xfrm>
          <a:custGeom>
            <a:avLst/>
            <a:gdLst/>
            <a:ahLst/>
            <a:rect l="l" t="t" r="r" b="b"/>
            <a:pathLst>
              <a:path w="46" h="19">
                <a:moveTo>
                  <a:pt x="21" y="4"/>
                </a:moveTo>
                <a:lnTo>
                  <a:pt x="32" y="0"/>
                </a:lnTo>
                <a:lnTo>
                  <a:pt x="46" y="4"/>
                </a:lnTo>
                <a:lnTo>
                  <a:pt x="44" y="18"/>
                </a:lnTo>
                <a:lnTo>
                  <a:pt x="20" y="19"/>
                </a:lnTo>
                <a:lnTo>
                  <a:pt x="8" y="10"/>
                </a:lnTo>
                <a:lnTo>
                  <a:pt x="1" y="10"/>
                </a:lnTo>
                <a:lnTo>
                  <a:pt x="1" y="6"/>
                </a:lnTo>
                <a:lnTo>
                  <a:pt x="0" y="4"/>
                </a:lnTo>
                <a:lnTo>
                  <a:pt x="8" y="0"/>
                </a:lnTo>
                <a:lnTo>
                  <a:pt x="18" y="0"/>
                </a:lnTo>
                <a:lnTo>
                  <a:pt x="21" y="4"/>
                </a:lnTo>
                <a:close/>
              </a:path>
            </a:pathLst>
          </a:custGeom>
          <a:solidFill>
            <a:srgbClr val="727272"/>
          </a:solidFill>
          <a:ln w="0">
            <a:noFill/>
          </a:ln>
        </p:spPr>
        <p:style>
          <a:lnRef idx="0"/>
          <a:fillRef idx="0"/>
          <a:effectRef idx="0"/>
          <a:fontRef idx="minor"/>
        </p:style>
        <p:txBody>
          <a:bodyPr lIns="90000" rIns="90000" tIns="-30960" bIns="-30960" anchor="t">
            <a:noAutofit/>
          </a:bodyPr>
          <a:p>
            <a:endParaRPr b="0" lang="en-US" sz="2400" spc="-1" strike="noStrike">
              <a:solidFill>
                <a:srgbClr val="ffff00"/>
              </a:solidFill>
              <a:latin typeface="Times New Roman"/>
            </a:endParaRPr>
          </a:p>
        </p:txBody>
      </p:sp>
      <p:sp>
        <p:nvSpPr>
          <p:cNvPr id="340" name=""/>
          <p:cNvSpPr/>
          <p:nvPr/>
        </p:nvSpPr>
        <p:spPr>
          <a:xfrm>
            <a:off x="3489480" y="6010200"/>
            <a:ext cx="4680" cy="6480"/>
          </a:xfrm>
          <a:custGeom>
            <a:avLst/>
            <a:gdLst/>
            <a:ahLst/>
            <a:rect l="l" t="t" r="r" b="b"/>
            <a:pathLst>
              <a:path w="3" h="8">
                <a:moveTo>
                  <a:pt x="3" y="2"/>
                </a:moveTo>
                <a:lnTo>
                  <a:pt x="3" y="4"/>
                </a:lnTo>
                <a:lnTo>
                  <a:pt x="2" y="8"/>
                </a:lnTo>
                <a:lnTo>
                  <a:pt x="0" y="8"/>
                </a:lnTo>
                <a:lnTo>
                  <a:pt x="0" y="0"/>
                </a:lnTo>
                <a:lnTo>
                  <a:pt x="2" y="0"/>
                </a:lnTo>
                <a:lnTo>
                  <a:pt x="3" y="2"/>
                </a:lnTo>
                <a:close/>
              </a:path>
            </a:pathLst>
          </a:cu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ffff00"/>
              </a:solidFill>
              <a:latin typeface="Times New Roman"/>
            </a:endParaRPr>
          </a:p>
        </p:txBody>
      </p:sp>
      <p:sp>
        <p:nvSpPr>
          <p:cNvPr id="341" name=""/>
          <p:cNvSpPr/>
          <p:nvPr/>
        </p:nvSpPr>
        <p:spPr>
          <a:xfrm>
            <a:off x="3359160" y="6012000"/>
            <a:ext cx="96840" cy="63360"/>
          </a:xfrm>
          <a:custGeom>
            <a:avLst/>
            <a:gdLst/>
            <a:ahLst/>
            <a:rect l="l" t="t" r="r" b="b"/>
            <a:pathLst>
              <a:path w="61" h="79">
                <a:moveTo>
                  <a:pt x="24" y="17"/>
                </a:moveTo>
                <a:lnTo>
                  <a:pt x="31" y="17"/>
                </a:lnTo>
                <a:lnTo>
                  <a:pt x="28" y="25"/>
                </a:lnTo>
                <a:lnTo>
                  <a:pt x="28" y="35"/>
                </a:lnTo>
                <a:lnTo>
                  <a:pt x="32" y="43"/>
                </a:lnTo>
                <a:lnTo>
                  <a:pt x="36" y="43"/>
                </a:lnTo>
                <a:lnTo>
                  <a:pt x="44" y="23"/>
                </a:lnTo>
                <a:lnTo>
                  <a:pt x="61" y="23"/>
                </a:lnTo>
                <a:lnTo>
                  <a:pt x="61" y="33"/>
                </a:lnTo>
                <a:lnTo>
                  <a:pt x="43" y="79"/>
                </a:lnTo>
                <a:lnTo>
                  <a:pt x="3" y="55"/>
                </a:lnTo>
                <a:lnTo>
                  <a:pt x="0" y="55"/>
                </a:lnTo>
                <a:lnTo>
                  <a:pt x="2" y="35"/>
                </a:lnTo>
                <a:lnTo>
                  <a:pt x="17" y="0"/>
                </a:lnTo>
                <a:lnTo>
                  <a:pt x="18" y="11"/>
                </a:lnTo>
                <a:lnTo>
                  <a:pt x="24" y="17"/>
                </a:lnTo>
                <a:close/>
              </a:path>
            </a:pathLst>
          </a:custGeom>
          <a:solidFill>
            <a:srgbClr val="2119e5"/>
          </a:solidFill>
          <a:ln w="0">
            <a:noFill/>
          </a:ln>
        </p:spPr>
        <p:style>
          <a:lnRef idx="0"/>
          <a:fillRef idx="0"/>
          <a:effectRef idx="0"/>
          <a:fontRef idx="minor"/>
        </p:style>
        <p:txBody>
          <a:bodyPr lIns="90000" rIns="90000" tIns="16560" bIns="16560" anchor="t">
            <a:noAutofit/>
          </a:bodyPr>
          <a:p>
            <a:endParaRPr b="0" lang="en-US" sz="2400" spc="-1" strike="noStrike">
              <a:solidFill>
                <a:srgbClr val="ffff00"/>
              </a:solidFill>
              <a:latin typeface="Times New Roman"/>
            </a:endParaRPr>
          </a:p>
        </p:txBody>
      </p:sp>
      <p:sp>
        <p:nvSpPr>
          <p:cNvPr id="342" name=""/>
          <p:cNvSpPr/>
          <p:nvPr/>
        </p:nvSpPr>
        <p:spPr>
          <a:xfrm>
            <a:off x="3191040" y="6080040"/>
            <a:ext cx="474480" cy="228600"/>
          </a:xfrm>
          <a:custGeom>
            <a:avLst/>
            <a:gdLst/>
            <a:ahLst/>
            <a:rect l="l" t="t" r="r" b="b"/>
            <a:pathLst>
              <a:path w="299" h="288">
                <a:moveTo>
                  <a:pt x="261" y="122"/>
                </a:moveTo>
                <a:lnTo>
                  <a:pt x="235" y="201"/>
                </a:lnTo>
                <a:lnTo>
                  <a:pt x="234" y="219"/>
                </a:lnTo>
                <a:lnTo>
                  <a:pt x="223" y="247"/>
                </a:lnTo>
                <a:lnTo>
                  <a:pt x="186" y="278"/>
                </a:lnTo>
                <a:lnTo>
                  <a:pt x="158" y="288"/>
                </a:lnTo>
                <a:lnTo>
                  <a:pt x="93" y="286"/>
                </a:lnTo>
                <a:lnTo>
                  <a:pt x="39" y="274"/>
                </a:lnTo>
                <a:lnTo>
                  <a:pt x="16" y="259"/>
                </a:lnTo>
                <a:lnTo>
                  <a:pt x="5" y="231"/>
                </a:lnTo>
                <a:lnTo>
                  <a:pt x="0" y="187"/>
                </a:lnTo>
                <a:lnTo>
                  <a:pt x="1" y="172"/>
                </a:lnTo>
                <a:lnTo>
                  <a:pt x="12" y="195"/>
                </a:lnTo>
                <a:lnTo>
                  <a:pt x="54" y="205"/>
                </a:lnTo>
                <a:lnTo>
                  <a:pt x="119" y="215"/>
                </a:lnTo>
                <a:lnTo>
                  <a:pt x="154" y="219"/>
                </a:lnTo>
                <a:lnTo>
                  <a:pt x="169" y="227"/>
                </a:lnTo>
                <a:lnTo>
                  <a:pt x="188" y="231"/>
                </a:lnTo>
                <a:lnTo>
                  <a:pt x="202" y="219"/>
                </a:lnTo>
                <a:lnTo>
                  <a:pt x="218" y="205"/>
                </a:lnTo>
                <a:lnTo>
                  <a:pt x="246" y="148"/>
                </a:lnTo>
                <a:lnTo>
                  <a:pt x="268" y="77"/>
                </a:lnTo>
                <a:lnTo>
                  <a:pt x="299" y="0"/>
                </a:lnTo>
                <a:lnTo>
                  <a:pt x="276" y="75"/>
                </a:lnTo>
                <a:lnTo>
                  <a:pt x="261" y="122"/>
                </a:lnTo>
                <a:close/>
              </a:path>
            </a:pathLst>
          </a:custGeom>
          <a:solidFill>
            <a:srgbClr val="2119e5"/>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43" name=""/>
          <p:cNvSpPr/>
          <p:nvPr/>
        </p:nvSpPr>
        <p:spPr>
          <a:xfrm>
            <a:off x="5168880" y="6134040"/>
            <a:ext cx="782640" cy="38160"/>
          </a:xfrm>
          <a:custGeom>
            <a:avLst/>
            <a:gdLst/>
            <a:ahLst/>
            <a:rect l="l" t="t" r="r" b="b"/>
            <a:pathLst>
              <a:path w="493" h="47">
                <a:moveTo>
                  <a:pt x="119" y="31"/>
                </a:moveTo>
                <a:lnTo>
                  <a:pt x="217" y="20"/>
                </a:lnTo>
                <a:lnTo>
                  <a:pt x="268" y="10"/>
                </a:lnTo>
                <a:lnTo>
                  <a:pt x="355" y="20"/>
                </a:lnTo>
                <a:lnTo>
                  <a:pt x="462" y="29"/>
                </a:lnTo>
                <a:lnTo>
                  <a:pt x="467" y="27"/>
                </a:lnTo>
                <a:lnTo>
                  <a:pt x="476" y="31"/>
                </a:lnTo>
                <a:lnTo>
                  <a:pt x="485" y="20"/>
                </a:lnTo>
                <a:lnTo>
                  <a:pt x="490" y="12"/>
                </a:lnTo>
                <a:lnTo>
                  <a:pt x="492" y="12"/>
                </a:lnTo>
                <a:lnTo>
                  <a:pt x="493" y="16"/>
                </a:lnTo>
                <a:lnTo>
                  <a:pt x="492" y="24"/>
                </a:lnTo>
                <a:lnTo>
                  <a:pt x="482" y="31"/>
                </a:lnTo>
                <a:lnTo>
                  <a:pt x="476" y="47"/>
                </a:lnTo>
                <a:lnTo>
                  <a:pt x="429" y="45"/>
                </a:lnTo>
                <a:lnTo>
                  <a:pt x="357" y="31"/>
                </a:lnTo>
                <a:lnTo>
                  <a:pt x="288" y="18"/>
                </a:lnTo>
                <a:lnTo>
                  <a:pt x="223" y="27"/>
                </a:lnTo>
                <a:lnTo>
                  <a:pt x="202" y="35"/>
                </a:lnTo>
                <a:lnTo>
                  <a:pt x="148" y="39"/>
                </a:lnTo>
                <a:lnTo>
                  <a:pt x="129" y="47"/>
                </a:lnTo>
                <a:lnTo>
                  <a:pt x="45" y="47"/>
                </a:lnTo>
                <a:lnTo>
                  <a:pt x="15" y="37"/>
                </a:lnTo>
                <a:lnTo>
                  <a:pt x="9" y="29"/>
                </a:lnTo>
                <a:lnTo>
                  <a:pt x="0" y="0"/>
                </a:lnTo>
                <a:lnTo>
                  <a:pt x="36" y="20"/>
                </a:lnTo>
                <a:lnTo>
                  <a:pt x="119" y="31"/>
                </a:lnTo>
                <a:close/>
              </a:path>
            </a:pathLst>
          </a:custGeom>
          <a:solidFill>
            <a:srgbClr val="2119e5"/>
          </a:solidFill>
          <a:ln w="0">
            <a:noFill/>
          </a:ln>
        </p:spPr>
        <p:style>
          <a:lnRef idx="0"/>
          <a:fillRef idx="0"/>
          <a:effectRef idx="0"/>
          <a:fontRef idx="minor"/>
        </p:style>
        <p:txBody>
          <a:bodyPr lIns="90000" rIns="90000" tIns="-8640" bIns="-8640" anchor="t">
            <a:noAutofit/>
          </a:bodyPr>
          <a:p>
            <a:endParaRPr b="0" lang="en-US" sz="2400" spc="-1" strike="noStrike">
              <a:solidFill>
                <a:srgbClr val="ffff00"/>
              </a:solidFill>
              <a:latin typeface="Times New Roman"/>
            </a:endParaRPr>
          </a:p>
        </p:txBody>
      </p:sp>
      <p:sp>
        <p:nvSpPr>
          <p:cNvPr id="344" name=""/>
          <p:cNvSpPr/>
          <p:nvPr/>
        </p:nvSpPr>
        <p:spPr>
          <a:xfrm>
            <a:off x="4216320" y="882720"/>
            <a:ext cx="443160" cy="77760"/>
          </a:xfrm>
          <a:custGeom>
            <a:avLst/>
            <a:gdLst/>
            <a:ahLst/>
            <a:rect l="l" t="t" r="r" b="b"/>
            <a:pathLst>
              <a:path w="279" h="99">
                <a:moveTo>
                  <a:pt x="0" y="99"/>
                </a:moveTo>
                <a:lnTo>
                  <a:pt x="10" y="99"/>
                </a:lnTo>
                <a:lnTo>
                  <a:pt x="19" y="97"/>
                </a:lnTo>
                <a:lnTo>
                  <a:pt x="28" y="95"/>
                </a:lnTo>
                <a:lnTo>
                  <a:pt x="37" y="91"/>
                </a:lnTo>
                <a:lnTo>
                  <a:pt x="61" y="75"/>
                </a:lnTo>
                <a:lnTo>
                  <a:pt x="85" y="61"/>
                </a:lnTo>
                <a:lnTo>
                  <a:pt x="108" y="49"/>
                </a:lnTo>
                <a:lnTo>
                  <a:pt x="131" y="40"/>
                </a:lnTo>
                <a:lnTo>
                  <a:pt x="141" y="38"/>
                </a:lnTo>
                <a:lnTo>
                  <a:pt x="153" y="36"/>
                </a:lnTo>
                <a:lnTo>
                  <a:pt x="165" y="36"/>
                </a:lnTo>
                <a:lnTo>
                  <a:pt x="176" y="38"/>
                </a:lnTo>
                <a:lnTo>
                  <a:pt x="188" y="40"/>
                </a:lnTo>
                <a:lnTo>
                  <a:pt x="199" y="45"/>
                </a:lnTo>
                <a:lnTo>
                  <a:pt x="211" y="51"/>
                </a:lnTo>
                <a:lnTo>
                  <a:pt x="222" y="61"/>
                </a:lnTo>
                <a:lnTo>
                  <a:pt x="223" y="53"/>
                </a:lnTo>
                <a:lnTo>
                  <a:pt x="229" y="49"/>
                </a:lnTo>
                <a:lnTo>
                  <a:pt x="233" y="42"/>
                </a:lnTo>
                <a:lnTo>
                  <a:pt x="236" y="34"/>
                </a:lnTo>
                <a:lnTo>
                  <a:pt x="240" y="26"/>
                </a:lnTo>
                <a:lnTo>
                  <a:pt x="242" y="26"/>
                </a:lnTo>
                <a:lnTo>
                  <a:pt x="243" y="26"/>
                </a:lnTo>
                <a:lnTo>
                  <a:pt x="244" y="22"/>
                </a:lnTo>
                <a:lnTo>
                  <a:pt x="279" y="22"/>
                </a:lnTo>
                <a:lnTo>
                  <a:pt x="279" y="12"/>
                </a:lnTo>
                <a:lnTo>
                  <a:pt x="258" y="2"/>
                </a:lnTo>
                <a:lnTo>
                  <a:pt x="234" y="2"/>
                </a:lnTo>
                <a:lnTo>
                  <a:pt x="228" y="0"/>
                </a:lnTo>
                <a:lnTo>
                  <a:pt x="222" y="6"/>
                </a:lnTo>
                <a:lnTo>
                  <a:pt x="212" y="6"/>
                </a:lnTo>
                <a:lnTo>
                  <a:pt x="212" y="38"/>
                </a:lnTo>
                <a:lnTo>
                  <a:pt x="208" y="45"/>
                </a:lnTo>
                <a:lnTo>
                  <a:pt x="204" y="40"/>
                </a:lnTo>
                <a:lnTo>
                  <a:pt x="192" y="10"/>
                </a:lnTo>
                <a:lnTo>
                  <a:pt x="185" y="2"/>
                </a:lnTo>
                <a:lnTo>
                  <a:pt x="183" y="8"/>
                </a:lnTo>
                <a:lnTo>
                  <a:pt x="131" y="2"/>
                </a:lnTo>
                <a:lnTo>
                  <a:pt x="103" y="10"/>
                </a:lnTo>
                <a:lnTo>
                  <a:pt x="61" y="34"/>
                </a:lnTo>
                <a:lnTo>
                  <a:pt x="0" y="75"/>
                </a:lnTo>
                <a:lnTo>
                  <a:pt x="0" y="99"/>
                </a:lnTo>
                <a:close/>
              </a:path>
            </a:pathLst>
          </a:custGeom>
          <a:solidFill>
            <a:srgbClr val="e58d35"/>
          </a:solidFill>
          <a:ln w="0">
            <a:noFill/>
          </a:ln>
        </p:spPr>
        <p:style>
          <a:lnRef idx="0"/>
          <a:fillRef idx="0"/>
          <a:effectRef idx="0"/>
          <a:fontRef idx="minor"/>
        </p:style>
        <p:txBody>
          <a:bodyPr lIns="90000" rIns="90000" tIns="30960" bIns="30960" anchor="t">
            <a:noAutofit/>
          </a:bodyPr>
          <a:p>
            <a:endParaRPr b="0" lang="en-US" sz="2400" spc="-1" strike="noStrike">
              <a:solidFill>
                <a:srgbClr val="ffff00"/>
              </a:solidFill>
              <a:latin typeface="Times New Roman"/>
            </a:endParaRPr>
          </a:p>
        </p:txBody>
      </p:sp>
      <p:sp>
        <p:nvSpPr>
          <p:cNvPr id="345" name=""/>
          <p:cNvSpPr/>
          <p:nvPr/>
        </p:nvSpPr>
        <p:spPr>
          <a:xfrm>
            <a:off x="4268880" y="1228680"/>
            <a:ext cx="218880" cy="120600"/>
          </a:xfrm>
          <a:custGeom>
            <a:avLst/>
            <a:gdLst/>
            <a:ahLst/>
            <a:rect l="l" t="t" r="r" b="b"/>
            <a:pathLst>
              <a:path w="138" h="150">
                <a:moveTo>
                  <a:pt x="3" y="150"/>
                </a:moveTo>
                <a:lnTo>
                  <a:pt x="4" y="148"/>
                </a:lnTo>
                <a:lnTo>
                  <a:pt x="16" y="146"/>
                </a:lnTo>
                <a:lnTo>
                  <a:pt x="28" y="146"/>
                </a:lnTo>
                <a:lnTo>
                  <a:pt x="53" y="142"/>
                </a:lnTo>
                <a:lnTo>
                  <a:pt x="78" y="136"/>
                </a:lnTo>
                <a:lnTo>
                  <a:pt x="91" y="136"/>
                </a:lnTo>
                <a:lnTo>
                  <a:pt x="104" y="136"/>
                </a:lnTo>
                <a:lnTo>
                  <a:pt x="107" y="138"/>
                </a:lnTo>
                <a:lnTo>
                  <a:pt x="112" y="140"/>
                </a:lnTo>
                <a:lnTo>
                  <a:pt x="118" y="142"/>
                </a:lnTo>
                <a:lnTo>
                  <a:pt x="122" y="144"/>
                </a:lnTo>
                <a:lnTo>
                  <a:pt x="132" y="148"/>
                </a:lnTo>
                <a:lnTo>
                  <a:pt x="135" y="148"/>
                </a:lnTo>
                <a:lnTo>
                  <a:pt x="138" y="148"/>
                </a:lnTo>
                <a:lnTo>
                  <a:pt x="138" y="144"/>
                </a:lnTo>
                <a:lnTo>
                  <a:pt x="132" y="144"/>
                </a:lnTo>
                <a:lnTo>
                  <a:pt x="96" y="107"/>
                </a:lnTo>
                <a:lnTo>
                  <a:pt x="50" y="45"/>
                </a:lnTo>
                <a:lnTo>
                  <a:pt x="0" y="0"/>
                </a:lnTo>
                <a:lnTo>
                  <a:pt x="0" y="99"/>
                </a:lnTo>
                <a:lnTo>
                  <a:pt x="3" y="150"/>
                </a:lnTo>
                <a:close/>
              </a:path>
            </a:pathLst>
          </a:custGeom>
          <a:solidFill>
            <a:srgbClr val="e58d35"/>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46" name=""/>
          <p:cNvSpPr/>
          <p:nvPr/>
        </p:nvSpPr>
        <p:spPr>
          <a:xfrm>
            <a:off x="3754440" y="2951280"/>
            <a:ext cx="152280" cy="98280"/>
          </a:xfrm>
          <a:custGeom>
            <a:avLst/>
            <a:gdLst/>
            <a:ahLst/>
            <a:rect l="l" t="t" r="r" b="b"/>
            <a:pathLst>
              <a:path w="96" h="124">
                <a:moveTo>
                  <a:pt x="19" y="124"/>
                </a:moveTo>
                <a:lnTo>
                  <a:pt x="20" y="114"/>
                </a:lnTo>
                <a:lnTo>
                  <a:pt x="21" y="106"/>
                </a:lnTo>
                <a:lnTo>
                  <a:pt x="23" y="96"/>
                </a:lnTo>
                <a:lnTo>
                  <a:pt x="25" y="89"/>
                </a:lnTo>
                <a:lnTo>
                  <a:pt x="28" y="85"/>
                </a:lnTo>
                <a:lnTo>
                  <a:pt x="33" y="79"/>
                </a:lnTo>
                <a:lnTo>
                  <a:pt x="37" y="71"/>
                </a:lnTo>
                <a:lnTo>
                  <a:pt x="42" y="61"/>
                </a:lnTo>
                <a:lnTo>
                  <a:pt x="51" y="43"/>
                </a:lnTo>
                <a:lnTo>
                  <a:pt x="55" y="33"/>
                </a:lnTo>
                <a:lnTo>
                  <a:pt x="57" y="27"/>
                </a:lnTo>
                <a:lnTo>
                  <a:pt x="60" y="25"/>
                </a:lnTo>
                <a:lnTo>
                  <a:pt x="65" y="25"/>
                </a:lnTo>
                <a:lnTo>
                  <a:pt x="77" y="19"/>
                </a:lnTo>
                <a:lnTo>
                  <a:pt x="87" y="11"/>
                </a:lnTo>
                <a:lnTo>
                  <a:pt x="92" y="7"/>
                </a:lnTo>
                <a:lnTo>
                  <a:pt x="96" y="4"/>
                </a:lnTo>
                <a:lnTo>
                  <a:pt x="90" y="0"/>
                </a:lnTo>
                <a:lnTo>
                  <a:pt x="59" y="15"/>
                </a:lnTo>
                <a:lnTo>
                  <a:pt x="21" y="53"/>
                </a:lnTo>
                <a:lnTo>
                  <a:pt x="0" y="85"/>
                </a:lnTo>
                <a:lnTo>
                  <a:pt x="5" y="93"/>
                </a:lnTo>
                <a:lnTo>
                  <a:pt x="12" y="110"/>
                </a:lnTo>
                <a:lnTo>
                  <a:pt x="19" y="124"/>
                </a:lnTo>
                <a:close/>
              </a:path>
            </a:pathLst>
          </a:custGeom>
          <a:solidFill>
            <a:srgbClr val="e58d35"/>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47" name=""/>
          <p:cNvSpPr/>
          <p:nvPr/>
        </p:nvSpPr>
        <p:spPr>
          <a:xfrm>
            <a:off x="5203800" y="2813040"/>
            <a:ext cx="212760" cy="93600"/>
          </a:xfrm>
          <a:custGeom>
            <a:avLst/>
            <a:gdLst/>
            <a:ahLst/>
            <a:rect l="l" t="t" r="r" b="b"/>
            <a:pathLst>
              <a:path w="134" h="118">
                <a:moveTo>
                  <a:pt x="0" y="8"/>
                </a:moveTo>
                <a:lnTo>
                  <a:pt x="7" y="11"/>
                </a:lnTo>
                <a:lnTo>
                  <a:pt x="10" y="13"/>
                </a:lnTo>
                <a:lnTo>
                  <a:pt x="14" y="15"/>
                </a:lnTo>
                <a:lnTo>
                  <a:pt x="27" y="21"/>
                </a:lnTo>
                <a:lnTo>
                  <a:pt x="39" y="27"/>
                </a:lnTo>
                <a:lnTo>
                  <a:pt x="52" y="37"/>
                </a:lnTo>
                <a:lnTo>
                  <a:pt x="65" y="47"/>
                </a:lnTo>
                <a:lnTo>
                  <a:pt x="75" y="61"/>
                </a:lnTo>
                <a:lnTo>
                  <a:pt x="84" y="77"/>
                </a:lnTo>
                <a:lnTo>
                  <a:pt x="89" y="87"/>
                </a:lnTo>
                <a:lnTo>
                  <a:pt x="92" y="96"/>
                </a:lnTo>
                <a:lnTo>
                  <a:pt x="96" y="108"/>
                </a:lnTo>
                <a:lnTo>
                  <a:pt x="98" y="118"/>
                </a:lnTo>
                <a:lnTo>
                  <a:pt x="134" y="57"/>
                </a:lnTo>
                <a:lnTo>
                  <a:pt x="99" y="35"/>
                </a:lnTo>
                <a:lnTo>
                  <a:pt x="59" y="19"/>
                </a:lnTo>
                <a:lnTo>
                  <a:pt x="37" y="4"/>
                </a:lnTo>
                <a:lnTo>
                  <a:pt x="5" y="0"/>
                </a:lnTo>
                <a:lnTo>
                  <a:pt x="0" y="8"/>
                </a:lnTo>
                <a:close/>
              </a:path>
            </a:pathLst>
          </a:custGeom>
          <a:solidFill>
            <a:srgbClr val="e58d35"/>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48" name=""/>
          <p:cNvSpPr/>
          <p:nvPr/>
        </p:nvSpPr>
        <p:spPr>
          <a:xfrm>
            <a:off x="5200560" y="3124080"/>
            <a:ext cx="181080" cy="135000"/>
          </a:xfrm>
          <a:custGeom>
            <a:avLst/>
            <a:gdLst/>
            <a:ahLst/>
            <a:rect l="l" t="t" r="r" b="b"/>
            <a:pathLst>
              <a:path w="114" h="170">
                <a:moveTo>
                  <a:pt x="0" y="0"/>
                </a:moveTo>
                <a:lnTo>
                  <a:pt x="2" y="6"/>
                </a:lnTo>
                <a:lnTo>
                  <a:pt x="4" y="6"/>
                </a:lnTo>
                <a:lnTo>
                  <a:pt x="5" y="8"/>
                </a:lnTo>
                <a:lnTo>
                  <a:pt x="5" y="10"/>
                </a:lnTo>
                <a:lnTo>
                  <a:pt x="5" y="12"/>
                </a:lnTo>
                <a:lnTo>
                  <a:pt x="8" y="14"/>
                </a:lnTo>
                <a:lnTo>
                  <a:pt x="10" y="18"/>
                </a:lnTo>
                <a:lnTo>
                  <a:pt x="12" y="24"/>
                </a:lnTo>
                <a:lnTo>
                  <a:pt x="14" y="32"/>
                </a:lnTo>
                <a:lnTo>
                  <a:pt x="14" y="30"/>
                </a:lnTo>
                <a:lnTo>
                  <a:pt x="17" y="30"/>
                </a:lnTo>
                <a:lnTo>
                  <a:pt x="20" y="36"/>
                </a:lnTo>
                <a:lnTo>
                  <a:pt x="20" y="44"/>
                </a:lnTo>
                <a:lnTo>
                  <a:pt x="25" y="53"/>
                </a:lnTo>
                <a:lnTo>
                  <a:pt x="30" y="117"/>
                </a:lnTo>
                <a:lnTo>
                  <a:pt x="33" y="148"/>
                </a:lnTo>
                <a:lnTo>
                  <a:pt x="33" y="154"/>
                </a:lnTo>
                <a:lnTo>
                  <a:pt x="34" y="156"/>
                </a:lnTo>
                <a:lnTo>
                  <a:pt x="35" y="156"/>
                </a:lnTo>
                <a:lnTo>
                  <a:pt x="40" y="162"/>
                </a:lnTo>
                <a:lnTo>
                  <a:pt x="46" y="166"/>
                </a:lnTo>
                <a:lnTo>
                  <a:pt x="52" y="168"/>
                </a:lnTo>
                <a:lnTo>
                  <a:pt x="56" y="170"/>
                </a:lnTo>
                <a:lnTo>
                  <a:pt x="52" y="77"/>
                </a:lnTo>
                <a:lnTo>
                  <a:pt x="52" y="42"/>
                </a:lnTo>
                <a:lnTo>
                  <a:pt x="56" y="42"/>
                </a:lnTo>
                <a:lnTo>
                  <a:pt x="66" y="44"/>
                </a:lnTo>
                <a:lnTo>
                  <a:pt x="66" y="46"/>
                </a:lnTo>
                <a:lnTo>
                  <a:pt x="64" y="49"/>
                </a:lnTo>
                <a:lnTo>
                  <a:pt x="62" y="109"/>
                </a:lnTo>
                <a:lnTo>
                  <a:pt x="66" y="117"/>
                </a:lnTo>
                <a:lnTo>
                  <a:pt x="67" y="166"/>
                </a:lnTo>
                <a:lnTo>
                  <a:pt x="74" y="162"/>
                </a:lnTo>
                <a:lnTo>
                  <a:pt x="81" y="154"/>
                </a:lnTo>
                <a:lnTo>
                  <a:pt x="82" y="71"/>
                </a:lnTo>
                <a:lnTo>
                  <a:pt x="87" y="49"/>
                </a:lnTo>
                <a:lnTo>
                  <a:pt x="93" y="49"/>
                </a:lnTo>
                <a:lnTo>
                  <a:pt x="97" y="55"/>
                </a:lnTo>
                <a:lnTo>
                  <a:pt x="93" y="101"/>
                </a:lnTo>
                <a:lnTo>
                  <a:pt x="91" y="148"/>
                </a:lnTo>
                <a:lnTo>
                  <a:pt x="98" y="146"/>
                </a:lnTo>
                <a:lnTo>
                  <a:pt x="100" y="140"/>
                </a:lnTo>
                <a:lnTo>
                  <a:pt x="102" y="138"/>
                </a:lnTo>
                <a:lnTo>
                  <a:pt x="106" y="134"/>
                </a:lnTo>
                <a:lnTo>
                  <a:pt x="108" y="133"/>
                </a:lnTo>
                <a:lnTo>
                  <a:pt x="111" y="129"/>
                </a:lnTo>
                <a:lnTo>
                  <a:pt x="112" y="125"/>
                </a:lnTo>
                <a:lnTo>
                  <a:pt x="112" y="125"/>
                </a:lnTo>
                <a:lnTo>
                  <a:pt x="114" y="63"/>
                </a:lnTo>
                <a:lnTo>
                  <a:pt x="109" y="34"/>
                </a:lnTo>
                <a:lnTo>
                  <a:pt x="109" y="16"/>
                </a:lnTo>
                <a:lnTo>
                  <a:pt x="108" y="14"/>
                </a:lnTo>
                <a:lnTo>
                  <a:pt x="106" y="12"/>
                </a:lnTo>
                <a:lnTo>
                  <a:pt x="101" y="8"/>
                </a:lnTo>
                <a:lnTo>
                  <a:pt x="97" y="6"/>
                </a:lnTo>
                <a:lnTo>
                  <a:pt x="84" y="4"/>
                </a:lnTo>
                <a:lnTo>
                  <a:pt x="70" y="2"/>
                </a:lnTo>
                <a:lnTo>
                  <a:pt x="55" y="0"/>
                </a:lnTo>
                <a:lnTo>
                  <a:pt x="40" y="2"/>
                </a:lnTo>
                <a:lnTo>
                  <a:pt x="11" y="2"/>
                </a:lnTo>
                <a:lnTo>
                  <a:pt x="0" y="0"/>
                </a:lnTo>
                <a:close/>
              </a:path>
            </a:pathLst>
          </a:custGeom>
          <a:solidFill>
            <a:srgbClr val="e58d35"/>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49" name=""/>
          <p:cNvSpPr/>
          <p:nvPr/>
        </p:nvSpPr>
        <p:spPr>
          <a:xfrm>
            <a:off x="3897360" y="4486320"/>
            <a:ext cx="171360" cy="111240"/>
          </a:xfrm>
          <a:custGeom>
            <a:avLst/>
            <a:gdLst/>
            <a:ahLst/>
            <a:rect l="l" t="t" r="r" b="b"/>
            <a:pathLst>
              <a:path w="108" h="140">
                <a:moveTo>
                  <a:pt x="0" y="0"/>
                </a:moveTo>
                <a:lnTo>
                  <a:pt x="16" y="14"/>
                </a:lnTo>
                <a:lnTo>
                  <a:pt x="28" y="28"/>
                </a:lnTo>
                <a:lnTo>
                  <a:pt x="40" y="44"/>
                </a:lnTo>
                <a:lnTo>
                  <a:pt x="50" y="57"/>
                </a:lnTo>
                <a:lnTo>
                  <a:pt x="61" y="75"/>
                </a:lnTo>
                <a:lnTo>
                  <a:pt x="69" y="95"/>
                </a:lnTo>
                <a:lnTo>
                  <a:pt x="78" y="115"/>
                </a:lnTo>
                <a:lnTo>
                  <a:pt x="85" y="140"/>
                </a:lnTo>
                <a:lnTo>
                  <a:pt x="101" y="73"/>
                </a:lnTo>
                <a:lnTo>
                  <a:pt x="103" y="44"/>
                </a:lnTo>
                <a:lnTo>
                  <a:pt x="108" y="26"/>
                </a:lnTo>
                <a:lnTo>
                  <a:pt x="100" y="20"/>
                </a:lnTo>
                <a:lnTo>
                  <a:pt x="78" y="18"/>
                </a:lnTo>
                <a:lnTo>
                  <a:pt x="76" y="12"/>
                </a:lnTo>
                <a:lnTo>
                  <a:pt x="0" y="0"/>
                </a:lnTo>
                <a:lnTo>
                  <a:pt x="0" y="0"/>
                </a:lnTo>
                <a:close/>
              </a:path>
            </a:pathLst>
          </a:custGeom>
          <a:solidFill>
            <a:srgbClr val="e58d35"/>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50" name=""/>
          <p:cNvSpPr/>
          <p:nvPr/>
        </p:nvSpPr>
        <p:spPr>
          <a:xfrm>
            <a:off x="4906800" y="4422600"/>
            <a:ext cx="363600" cy="120960"/>
          </a:xfrm>
          <a:custGeom>
            <a:avLst/>
            <a:gdLst/>
            <a:ahLst/>
            <a:rect l="l" t="t" r="r" b="b"/>
            <a:pathLst>
              <a:path w="229" h="152">
                <a:moveTo>
                  <a:pt x="8" y="152"/>
                </a:moveTo>
                <a:lnTo>
                  <a:pt x="18" y="142"/>
                </a:lnTo>
                <a:lnTo>
                  <a:pt x="29" y="134"/>
                </a:lnTo>
                <a:lnTo>
                  <a:pt x="53" y="121"/>
                </a:lnTo>
                <a:lnTo>
                  <a:pt x="65" y="115"/>
                </a:lnTo>
                <a:lnTo>
                  <a:pt x="75" y="107"/>
                </a:lnTo>
                <a:lnTo>
                  <a:pt x="86" y="99"/>
                </a:lnTo>
                <a:lnTo>
                  <a:pt x="96" y="87"/>
                </a:lnTo>
                <a:lnTo>
                  <a:pt x="96" y="85"/>
                </a:lnTo>
                <a:lnTo>
                  <a:pt x="101" y="85"/>
                </a:lnTo>
                <a:lnTo>
                  <a:pt x="113" y="77"/>
                </a:lnTo>
                <a:lnTo>
                  <a:pt x="119" y="75"/>
                </a:lnTo>
                <a:lnTo>
                  <a:pt x="120" y="73"/>
                </a:lnTo>
                <a:lnTo>
                  <a:pt x="121" y="73"/>
                </a:lnTo>
                <a:lnTo>
                  <a:pt x="123" y="71"/>
                </a:lnTo>
                <a:lnTo>
                  <a:pt x="125" y="69"/>
                </a:lnTo>
                <a:lnTo>
                  <a:pt x="136" y="59"/>
                </a:lnTo>
                <a:lnTo>
                  <a:pt x="148" y="51"/>
                </a:lnTo>
                <a:lnTo>
                  <a:pt x="160" y="43"/>
                </a:lnTo>
                <a:lnTo>
                  <a:pt x="173" y="36"/>
                </a:lnTo>
                <a:lnTo>
                  <a:pt x="187" y="30"/>
                </a:lnTo>
                <a:lnTo>
                  <a:pt x="200" y="26"/>
                </a:lnTo>
                <a:lnTo>
                  <a:pt x="212" y="22"/>
                </a:lnTo>
                <a:lnTo>
                  <a:pt x="225" y="22"/>
                </a:lnTo>
                <a:lnTo>
                  <a:pt x="226" y="16"/>
                </a:lnTo>
                <a:lnTo>
                  <a:pt x="229" y="0"/>
                </a:lnTo>
                <a:lnTo>
                  <a:pt x="225" y="0"/>
                </a:lnTo>
                <a:lnTo>
                  <a:pt x="129" y="59"/>
                </a:lnTo>
                <a:lnTo>
                  <a:pt x="59" y="83"/>
                </a:lnTo>
                <a:lnTo>
                  <a:pt x="0" y="91"/>
                </a:lnTo>
                <a:lnTo>
                  <a:pt x="0" y="97"/>
                </a:lnTo>
                <a:lnTo>
                  <a:pt x="8" y="146"/>
                </a:lnTo>
                <a:lnTo>
                  <a:pt x="8" y="152"/>
                </a:lnTo>
                <a:close/>
              </a:path>
            </a:pathLst>
          </a:custGeom>
          <a:solidFill>
            <a:srgbClr val="e58d35"/>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9900cc"/>
            </a:gs>
          </a:gsLst>
          <a:lin ang="108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c9ff"/>
                </a:solidFill>
                <a:latin typeface="Arial"/>
              </a:rPr>
              <a:t>Some Topics Covered </a:t>
            </a:r>
            <a:endParaRPr b="0" lang="en-US" sz="4400" spc="-1" strike="noStrike">
              <a:solidFill>
                <a:srgbClr val="e4c9ff"/>
              </a:solidFill>
              <a:latin typeface="Arial"/>
            </a:endParaRPr>
          </a:p>
        </p:txBody>
      </p:sp>
      <p:sp>
        <p:nvSpPr>
          <p:cNvPr id="100"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Emotions</a:t>
            </a:r>
            <a:endParaRPr b="0" lang="en-US" sz="3200" spc="-1" strike="noStrike">
              <a:solidFill>
                <a:srgbClr val="ffff00"/>
              </a:solidFill>
              <a:latin typeface="Times New Roman"/>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The divided self</a:t>
            </a:r>
            <a:endParaRPr b="0" lang="en-US" sz="3200" spc="-1" strike="noStrike">
              <a:solidFill>
                <a:srgbClr val="ffff00"/>
              </a:solidFill>
              <a:latin typeface="Times New Roman"/>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Building character</a:t>
            </a:r>
            <a:endParaRPr b="0" lang="en-US" sz="3200" spc="-1" strike="noStrike">
              <a:solidFill>
                <a:srgbClr val="ffff00"/>
              </a:solidFill>
              <a:latin typeface="Times New Roman"/>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Marriage and divorce</a:t>
            </a:r>
            <a:endParaRPr b="0" lang="en-US" sz="3200" spc="-1" strike="noStrike">
              <a:solidFill>
                <a:srgbClr val="ffff00"/>
              </a:solidFill>
              <a:latin typeface="Times New Roman"/>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Altruism</a:t>
            </a:r>
            <a:endParaRPr b="0" lang="en-US" sz="3200" spc="-1" strike="noStrike">
              <a:solidFill>
                <a:srgbClr val="ffff00"/>
              </a:solidFill>
              <a:latin typeface="Times New Roman"/>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A worthwhile life</a:t>
            </a:r>
            <a:endParaRPr b="0" lang="en-US" sz="3200" spc="-1" strike="noStrike">
              <a:solidFill>
                <a:srgbClr val="ffff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pic>
        <p:nvPicPr>
          <p:cNvPr id="101" name="" descr=""/>
          <p:cNvPicPr/>
          <p:nvPr/>
        </p:nvPicPr>
        <p:blipFill>
          <a:blip r:embed="rId1"/>
          <a:stretch/>
        </p:blipFill>
        <p:spPr>
          <a:xfrm>
            <a:off x="5638680" y="1752480"/>
            <a:ext cx="1768680" cy="4496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9900cc"/>
            </a:gs>
          </a:gsLst>
          <a:lin ang="108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c9ff"/>
                </a:solidFill>
                <a:latin typeface="Arial"/>
              </a:rPr>
              <a:t>Teacher’s Manual 12</a:t>
            </a:r>
            <a:endParaRPr b="0" lang="en-US" sz="4400" spc="-1" strike="noStrike">
              <a:solidFill>
                <a:srgbClr val="e4c9ff"/>
              </a:solidFill>
              <a:latin typeface="Arial"/>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Gives advice &amp; instructions to the teacher </a:t>
            </a:r>
            <a:endParaRPr b="0" lang="en-US" sz="3200" spc="-1" strike="noStrike">
              <a:solidFill>
                <a:srgbClr val="ffff00"/>
              </a:solidFill>
              <a:latin typeface="Times New Roman"/>
            </a:endParaRPr>
          </a:p>
          <a:p>
            <a:pPr marL="339480" indent="-3394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Introductory section:</a:t>
            </a:r>
            <a:endParaRPr b="0" lang="en-US" sz="3200" spc="-1" strike="noStrike">
              <a:solidFill>
                <a:srgbClr val="ffff00"/>
              </a:solidFill>
              <a:latin typeface="Times New Roman"/>
            </a:endParaRPr>
          </a:p>
          <a:p>
            <a:pPr lvl="1" marL="735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 </a:t>
            </a:r>
            <a:r>
              <a:rPr b="0" lang="en-US" sz="3200" spc="-1" strike="noStrike">
                <a:solidFill>
                  <a:srgbClr val="ffff00"/>
                </a:solidFill>
                <a:latin typeface="Times New Roman"/>
              </a:rPr>
              <a:t>1. Balanced education </a:t>
            </a:r>
            <a:endParaRPr b="0" lang="en-US" sz="3200" spc="-1" strike="noStrike">
              <a:solidFill>
                <a:srgbClr val="ffff00"/>
              </a:solidFill>
              <a:latin typeface="Times New Roman"/>
            </a:endParaRPr>
          </a:p>
          <a:p>
            <a:pPr lvl="1" marL="735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 </a:t>
            </a:r>
            <a:r>
              <a:rPr b="0" lang="en-US" sz="3200" spc="-1" strike="noStrike">
                <a:solidFill>
                  <a:srgbClr val="ffff00"/>
                </a:solidFill>
                <a:latin typeface="Times New Roman"/>
              </a:rPr>
              <a:t>2. Teaching methods</a:t>
            </a:r>
            <a:endParaRPr b="0" lang="en-US" sz="3200" spc="-1" strike="noStrike">
              <a:solidFill>
                <a:srgbClr val="ffff00"/>
              </a:solidFill>
              <a:latin typeface="Times New Roman"/>
            </a:endParaRPr>
          </a:p>
          <a:p>
            <a:pPr lvl="1" marL="735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 </a:t>
            </a:r>
            <a:r>
              <a:rPr b="0" lang="en-US" sz="3200" spc="-1" strike="noStrike">
                <a:solidFill>
                  <a:srgbClr val="ffff00"/>
                </a:solidFill>
                <a:latin typeface="Times New Roman"/>
              </a:rPr>
              <a:t>3. Course requirements &amp; expectations</a:t>
            </a:r>
            <a:endParaRPr b="0" lang="en-US" sz="3200" spc="-1" strike="noStrike">
              <a:solidFill>
                <a:srgbClr val="ffff00"/>
              </a:solidFill>
              <a:latin typeface="Times New Roman"/>
            </a:endParaRPr>
          </a:p>
          <a:p>
            <a:pPr lvl="1" marL="735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 </a:t>
            </a:r>
            <a:r>
              <a:rPr b="0" lang="en-US" sz="3200" spc="-1" strike="noStrike">
                <a:solidFill>
                  <a:srgbClr val="ffff00"/>
                </a:solidFill>
                <a:latin typeface="Times New Roman"/>
              </a:rPr>
              <a:t>4. Ice breakers</a:t>
            </a:r>
            <a:endParaRPr b="0" lang="en-US" sz="3200" spc="-1" strike="noStrike">
              <a:solidFill>
                <a:srgbClr val="ffff00"/>
              </a:solidFill>
              <a:latin typeface="Times New Roman"/>
            </a:endParaRPr>
          </a:p>
          <a:p>
            <a:pPr marL="339480" indent="-3394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Two lesson plans for each chapter</a:t>
            </a:r>
            <a:endParaRPr b="0" lang="en-US" sz="3200" spc="-1" strike="noStrike">
              <a:solidFill>
                <a:srgbClr val="ffff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9900cc"/>
            </a:gs>
          </a:gsLst>
          <a:lin ang="108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c9ff"/>
                </a:solidFill>
                <a:latin typeface="Arial"/>
              </a:rPr>
              <a:t>Character Education’s Goals</a:t>
            </a:r>
            <a:endParaRPr b="0" lang="en-US" sz="4400" spc="-1" strike="noStrike">
              <a:solidFill>
                <a:srgbClr val="e4c9ff"/>
              </a:solidFill>
              <a:latin typeface="Arial"/>
            </a:endParaRPr>
          </a:p>
        </p:txBody>
      </p:sp>
      <p:sp>
        <p:nvSpPr>
          <p:cNvPr id="105"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To know the good </a:t>
            </a:r>
            <a:r>
              <a:rPr b="0" lang="en-US" sz="2800" spc="-1" strike="noStrike">
                <a:solidFill>
                  <a:srgbClr val="ffff00"/>
                </a:solidFill>
                <a:latin typeface="Times New Roman"/>
              </a:rPr>
              <a:t>—</a:t>
            </a:r>
            <a:r>
              <a:rPr b="0" lang="en-US" sz="3200" spc="-1" strike="noStrike">
                <a:solidFill>
                  <a:srgbClr val="ffff00"/>
                </a:solidFill>
                <a:latin typeface="Times New Roman"/>
              </a:rPr>
              <a:t> head</a:t>
            </a:r>
            <a:endParaRPr b="0" lang="en-US" sz="3200" spc="-1" strike="noStrike">
              <a:solidFill>
                <a:srgbClr val="ffff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To care about the good </a:t>
            </a:r>
            <a:r>
              <a:rPr b="0" lang="en-US" sz="2800" spc="-1" strike="noStrike">
                <a:solidFill>
                  <a:srgbClr val="ffff00"/>
                </a:solidFill>
                <a:latin typeface="Times New Roman"/>
              </a:rPr>
              <a:t>—</a:t>
            </a:r>
            <a:r>
              <a:rPr b="0" lang="en-US" sz="3200" spc="-1" strike="noStrike">
                <a:solidFill>
                  <a:srgbClr val="ffff00"/>
                </a:solidFill>
                <a:latin typeface="Times New Roman"/>
              </a:rPr>
              <a:t> heart </a:t>
            </a:r>
            <a:endParaRPr b="0" lang="en-US" sz="3200" spc="-1" strike="noStrike">
              <a:solidFill>
                <a:srgbClr val="ffff00"/>
              </a:solidFill>
              <a:latin typeface="Times New Roman"/>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To do the good </a:t>
            </a:r>
            <a:r>
              <a:rPr b="0" lang="en-US" sz="2800" spc="-1" strike="noStrike">
                <a:solidFill>
                  <a:srgbClr val="ffff00"/>
                </a:solidFill>
                <a:latin typeface="Times New Roman"/>
              </a:rPr>
              <a:t>—</a:t>
            </a:r>
            <a:r>
              <a:rPr b="0" lang="en-US" sz="3200" spc="-1" strike="noStrike">
                <a:solidFill>
                  <a:srgbClr val="ffff00"/>
                </a:solidFill>
                <a:latin typeface="Times New Roman"/>
              </a:rPr>
              <a:t> hands</a:t>
            </a:r>
            <a:endParaRPr b="0" lang="en-US" sz="3200" spc="-1" strike="noStrike">
              <a:solidFill>
                <a:srgbClr val="ffff00"/>
              </a:solidFill>
              <a:latin typeface="Times New Roman"/>
            </a:endParaRPr>
          </a:p>
        </p:txBody>
      </p:sp>
      <p:pic>
        <p:nvPicPr>
          <p:cNvPr id="106" name="" descr=""/>
          <p:cNvPicPr/>
          <p:nvPr/>
        </p:nvPicPr>
        <p:blipFill>
          <a:blip r:embed="rId1"/>
          <a:stretch/>
        </p:blipFill>
        <p:spPr>
          <a:xfrm>
            <a:off x="6705720" y="1752480"/>
            <a:ext cx="1371600" cy="1524240"/>
          </a:xfrm>
          <a:prstGeom prst="rect">
            <a:avLst/>
          </a:prstGeom>
          <a:ln w="0">
            <a:noFill/>
          </a:ln>
        </p:spPr>
      </p:pic>
      <p:sp>
        <p:nvSpPr>
          <p:cNvPr id="107" name=""/>
          <p:cNvSpPr/>
          <p:nvPr/>
        </p:nvSpPr>
        <p:spPr>
          <a:xfrm>
            <a:off x="6858000" y="3657600"/>
            <a:ext cx="1219320" cy="1143000"/>
          </a:xfrm>
          <a:custGeom>
            <a:avLst/>
            <a:gdLst>
              <a:gd name="textAreaLeft" fmla="*/ 286560 w 1219320"/>
              <a:gd name="textAreaRight" fmla="*/ 932040 w 1219320"/>
              <a:gd name="textAreaTop" fmla="*/ 134280 h 1143000"/>
              <a:gd name="textAreaBottom" fmla="*/ 717120 h 114300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ccecff"/>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pic>
        <p:nvPicPr>
          <p:cNvPr id="108" name="" descr=""/>
          <p:cNvPicPr/>
          <p:nvPr/>
        </p:nvPicPr>
        <p:blipFill>
          <a:blip r:embed="rId2"/>
          <a:stretch/>
        </p:blipFill>
        <p:spPr>
          <a:xfrm>
            <a:off x="6858000" y="5257800"/>
            <a:ext cx="1523880" cy="914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9900cc"/>
            </a:gs>
          </a:gsLst>
          <a:lin ang="10800000"/>
        </a:gradFill>
      </p:bgPr>
    </p:bg>
    <p:spTree>
      <p:nvGrpSpPr>
        <p:cNvPr id="1" name=""/>
        <p:cNvGrpSpPr/>
        <p:nvPr/>
      </p:nvGrpSpPr>
      <p:grpSpPr>
        <a:xfrm>
          <a:off x="0" y="0"/>
          <a:ext cx="0" cy="0"/>
          <a:chOff x="0" y="0"/>
          <a:chExt cx="0" cy="0"/>
        </a:xfrm>
      </p:grpSpPr>
      <p:sp>
        <p:nvSpPr>
          <p:cNvPr id="109" name=""/>
          <p:cNvSpPr/>
          <p:nvPr/>
        </p:nvSpPr>
        <p:spPr>
          <a:xfrm>
            <a:off x="914400" y="1523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4c9ff"/>
                </a:solidFill>
                <a:latin typeface="Arial"/>
              </a:rPr>
              <a:t>Each Chapter has Cognitive, Affective, and Behavioral Goals</a:t>
            </a:r>
            <a:endParaRPr b="0" lang="en-US" sz="4000" spc="-1" strike="noStrike">
              <a:solidFill>
                <a:srgbClr val="ffff00"/>
              </a:solidFill>
              <a:latin typeface="Times New Roman"/>
            </a:endParaRPr>
          </a:p>
        </p:txBody>
      </p:sp>
      <p:sp>
        <p:nvSpPr>
          <p:cNvPr id="110" name=""/>
          <p:cNvSpPr/>
          <p:nvPr/>
        </p:nvSpPr>
        <p:spPr>
          <a:xfrm>
            <a:off x="1600200" y="3429000"/>
            <a:ext cx="6400800" cy="175248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Educating the Head, Heart, and Hands </a:t>
            </a:r>
            <a:endParaRPr b="0" lang="en-US" sz="32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9900cc"/>
            </a:gs>
          </a:gsLst>
          <a:lin ang="108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c9ff"/>
                </a:solidFill>
                <a:latin typeface="Arial"/>
              </a:rPr>
              <a:t>Sample Chapter 1:  “Our Emotional Life”</a:t>
            </a:r>
            <a:endParaRPr b="0" lang="en-US" sz="4400" spc="-1" strike="noStrike">
              <a:solidFill>
                <a:srgbClr val="e4c9ff"/>
              </a:solidFill>
              <a:latin typeface="Arial"/>
            </a:endParaRPr>
          </a:p>
        </p:txBody>
      </p:sp>
      <p:sp>
        <p:nvSpPr>
          <p:cNvPr id="112" name=""/>
          <p:cNvSpPr/>
          <p:nvPr/>
        </p:nvSpPr>
        <p:spPr>
          <a:xfrm>
            <a:off x="2212920" y="2217600"/>
            <a:ext cx="4664160" cy="4368960"/>
          </a:xfrm>
          <a:custGeom>
            <a:avLst/>
            <a:gdLst/>
            <a:ahLst/>
            <a:rect l="l" t="t" r="r" b="b"/>
            <a:pathLst>
              <a:path w="5876" h="5504">
                <a:moveTo>
                  <a:pt x="5872" y="2450"/>
                </a:moveTo>
                <a:lnTo>
                  <a:pt x="5866" y="3183"/>
                </a:lnTo>
                <a:lnTo>
                  <a:pt x="5857" y="4430"/>
                </a:lnTo>
                <a:lnTo>
                  <a:pt x="5845" y="5504"/>
                </a:lnTo>
                <a:lnTo>
                  <a:pt x="5820" y="5504"/>
                </a:lnTo>
                <a:lnTo>
                  <a:pt x="5267" y="5495"/>
                </a:lnTo>
                <a:lnTo>
                  <a:pt x="3826" y="5489"/>
                </a:lnTo>
                <a:lnTo>
                  <a:pt x="3008" y="5477"/>
                </a:lnTo>
                <a:lnTo>
                  <a:pt x="1867" y="5467"/>
                </a:lnTo>
                <a:lnTo>
                  <a:pt x="1340" y="5462"/>
                </a:lnTo>
                <a:lnTo>
                  <a:pt x="475" y="5452"/>
                </a:lnTo>
                <a:lnTo>
                  <a:pt x="25" y="5452"/>
                </a:lnTo>
                <a:lnTo>
                  <a:pt x="37" y="5353"/>
                </a:lnTo>
                <a:lnTo>
                  <a:pt x="37" y="4752"/>
                </a:lnTo>
                <a:lnTo>
                  <a:pt x="25" y="3730"/>
                </a:lnTo>
                <a:lnTo>
                  <a:pt x="25" y="2414"/>
                </a:lnTo>
                <a:lnTo>
                  <a:pt x="15" y="1593"/>
                </a:lnTo>
                <a:lnTo>
                  <a:pt x="6" y="1580"/>
                </a:lnTo>
                <a:lnTo>
                  <a:pt x="15" y="1516"/>
                </a:lnTo>
                <a:lnTo>
                  <a:pt x="6" y="661"/>
                </a:lnTo>
                <a:lnTo>
                  <a:pt x="6" y="281"/>
                </a:lnTo>
                <a:lnTo>
                  <a:pt x="0" y="31"/>
                </a:lnTo>
                <a:lnTo>
                  <a:pt x="52" y="19"/>
                </a:lnTo>
                <a:lnTo>
                  <a:pt x="2748" y="19"/>
                </a:lnTo>
                <a:lnTo>
                  <a:pt x="3440" y="15"/>
                </a:lnTo>
                <a:lnTo>
                  <a:pt x="5851" y="4"/>
                </a:lnTo>
                <a:lnTo>
                  <a:pt x="5857" y="0"/>
                </a:lnTo>
                <a:lnTo>
                  <a:pt x="5876" y="0"/>
                </a:lnTo>
                <a:lnTo>
                  <a:pt x="5872" y="24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13" name=""/>
          <p:cNvSpPr/>
          <p:nvPr/>
        </p:nvSpPr>
        <p:spPr>
          <a:xfrm>
            <a:off x="2233440" y="2236680"/>
            <a:ext cx="4623120" cy="3989520"/>
          </a:xfrm>
          <a:custGeom>
            <a:avLst/>
            <a:gdLst/>
            <a:ahLst/>
            <a:rect l="l" t="t" r="r" b="b"/>
            <a:pathLst>
              <a:path w="5826" h="5026">
                <a:moveTo>
                  <a:pt x="5826" y="2586"/>
                </a:moveTo>
                <a:lnTo>
                  <a:pt x="5820" y="3242"/>
                </a:lnTo>
                <a:lnTo>
                  <a:pt x="5814" y="3457"/>
                </a:lnTo>
                <a:lnTo>
                  <a:pt x="5814" y="3472"/>
                </a:lnTo>
                <a:lnTo>
                  <a:pt x="5789" y="3504"/>
                </a:lnTo>
                <a:lnTo>
                  <a:pt x="5764" y="3538"/>
                </a:lnTo>
                <a:lnTo>
                  <a:pt x="5748" y="3556"/>
                </a:lnTo>
                <a:lnTo>
                  <a:pt x="5737" y="3544"/>
                </a:lnTo>
                <a:lnTo>
                  <a:pt x="5737" y="3513"/>
                </a:lnTo>
                <a:lnTo>
                  <a:pt x="5727" y="3504"/>
                </a:lnTo>
                <a:lnTo>
                  <a:pt x="5706" y="3509"/>
                </a:lnTo>
                <a:lnTo>
                  <a:pt x="5591" y="3633"/>
                </a:lnTo>
                <a:lnTo>
                  <a:pt x="5551" y="3717"/>
                </a:lnTo>
                <a:lnTo>
                  <a:pt x="5461" y="3810"/>
                </a:lnTo>
                <a:lnTo>
                  <a:pt x="5450" y="3821"/>
                </a:lnTo>
                <a:lnTo>
                  <a:pt x="5518" y="3664"/>
                </a:lnTo>
                <a:lnTo>
                  <a:pt x="5529" y="3608"/>
                </a:lnTo>
                <a:lnTo>
                  <a:pt x="5523" y="3571"/>
                </a:lnTo>
                <a:lnTo>
                  <a:pt x="5508" y="3556"/>
                </a:lnTo>
                <a:lnTo>
                  <a:pt x="5428" y="3602"/>
                </a:lnTo>
                <a:lnTo>
                  <a:pt x="5283" y="3757"/>
                </a:lnTo>
                <a:lnTo>
                  <a:pt x="5267" y="3769"/>
                </a:lnTo>
                <a:lnTo>
                  <a:pt x="5262" y="3775"/>
                </a:lnTo>
                <a:lnTo>
                  <a:pt x="5267" y="3723"/>
                </a:lnTo>
                <a:lnTo>
                  <a:pt x="5279" y="3680"/>
                </a:lnTo>
                <a:lnTo>
                  <a:pt x="5279" y="3659"/>
                </a:lnTo>
                <a:lnTo>
                  <a:pt x="5262" y="3643"/>
                </a:lnTo>
                <a:lnTo>
                  <a:pt x="5236" y="3649"/>
                </a:lnTo>
                <a:lnTo>
                  <a:pt x="5070" y="3889"/>
                </a:lnTo>
                <a:lnTo>
                  <a:pt x="4876" y="4180"/>
                </a:lnTo>
                <a:lnTo>
                  <a:pt x="4558" y="4572"/>
                </a:lnTo>
                <a:lnTo>
                  <a:pt x="4276" y="4874"/>
                </a:lnTo>
                <a:lnTo>
                  <a:pt x="4110" y="5026"/>
                </a:lnTo>
                <a:lnTo>
                  <a:pt x="4137" y="4979"/>
                </a:lnTo>
                <a:lnTo>
                  <a:pt x="4209" y="4874"/>
                </a:lnTo>
                <a:lnTo>
                  <a:pt x="4245" y="4803"/>
                </a:lnTo>
                <a:lnTo>
                  <a:pt x="4240" y="4785"/>
                </a:lnTo>
                <a:lnTo>
                  <a:pt x="4230" y="4779"/>
                </a:lnTo>
                <a:lnTo>
                  <a:pt x="4199" y="4791"/>
                </a:lnTo>
                <a:lnTo>
                  <a:pt x="4156" y="4818"/>
                </a:lnTo>
                <a:lnTo>
                  <a:pt x="4178" y="4764"/>
                </a:lnTo>
                <a:lnTo>
                  <a:pt x="4178" y="4739"/>
                </a:lnTo>
                <a:lnTo>
                  <a:pt x="4156" y="4723"/>
                </a:lnTo>
                <a:lnTo>
                  <a:pt x="4094" y="4744"/>
                </a:lnTo>
                <a:lnTo>
                  <a:pt x="4038" y="4779"/>
                </a:lnTo>
                <a:lnTo>
                  <a:pt x="4032" y="4785"/>
                </a:lnTo>
                <a:lnTo>
                  <a:pt x="4020" y="4785"/>
                </a:lnTo>
                <a:lnTo>
                  <a:pt x="4298" y="4504"/>
                </a:lnTo>
                <a:lnTo>
                  <a:pt x="4554" y="4186"/>
                </a:lnTo>
                <a:lnTo>
                  <a:pt x="4622" y="4097"/>
                </a:lnTo>
                <a:lnTo>
                  <a:pt x="4771" y="3847"/>
                </a:lnTo>
                <a:lnTo>
                  <a:pt x="4819" y="3757"/>
                </a:lnTo>
                <a:lnTo>
                  <a:pt x="4986" y="3424"/>
                </a:lnTo>
                <a:lnTo>
                  <a:pt x="5169" y="2871"/>
                </a:lnTo>
                <a:lnTo>
                  <a:pt x="5184" y="2790"/>
                </a:lnTo>
                <a:lnTo>
                  <a:pt x="5205" y="2736"/>
                </a:lnTo>
                <a:lnTo>
                  <a:pt x="5215" y="2670"/>
                </a:lnTo>
                <a:lnTo>
                  <a:pt x="5215" y="2602"/>
                </a:lnTo>
                <a:lnTo>
                  <a:pt x="5279" y="2460"/>
                </a:lnTo>
                <a:lnTo>
                  <a:pt x="5279" y="2373"/>
                </a:lnTo>
                <a:lnTo>
                  <a:pt x="5252" y="2340"/>
                </a:lnTo>
                <a:lnTo>
                  <a:pt x="5304" y="2263"/>
                </a:lnTo>
                <a:lnTo>
                  <a:pt x="5320" y="2216"/>
                </a:lnTo>
                <a:lnTo>
                  <a:pt x="5310" y="2173"/>
                </a:lnTo>
                <a:lnTo>
                  <a:pt x="5295" y="2158"/>
                </a:lnTo>
                <a:lnTo>
                  <a:pt x="5252" y="2164"/>
                </a:lnTo>
                <a:lnTo>
                  <a:pt x="5075" y="2299"/>
                </a:lnTo>
                <a:lnTo>
                  <a:pt x="4971" y="2383"/>
                </a:lnTo>
                <a:lnTo>
                  <a:pt x="4850" y="2451"/>
                </a:lnTo>
                <a:lnTo>
                  <a:pt x="5060" y="2216"/>
                </a:lnTo>
                <a:lnTo>
                  <a:pt x="5163" y="2059"/>
                </a:lnTo>
                <a:lnTo>
                  <a:pt x="5184" y="2012"/>
                </a:lnTo>
                <a:lnTo>
                  <a:pt x="5231" y="1883"/>
                </a:lnTo>
                <a:lnTo>
                  <a:pt x="5231" y="1815"/>
                </a:lnTo>
                <a:lnTo>
                  <a:pt x="5184" y="1778"/>
                </a:lnTo>
                <a:lnTo>
                  <a:pt x="5157" y="1784"/>
                </a:lnTo>
                <a:lnTo>
                  <a:pt x="4788" y="2090"/>
                </a:lnTo>
                <a:lnTo>
                  <a:pt x="4496" y="2263"/>
                </a:lnTo>
                <a:lnTo>
                  <a:pt x="4804" y="1950"/>
                </a:lnTo>
                <a:lnTo>
                  <a:pt x="4850" y="1886"/>
                </a:lnTo>
                <a:lnTo>
                  <a:pt x="4847" y="1877"/>
                </a:lnTo>
                <a:lnTo>
                  <a:pt x="4835" y="1867"/>
                </a:lnTo>
                <a:lnTo>
                  <a:pt x="4771" y="1898"/>
                </a:lnTo>
                <a:lnTo>
                  <a:pt x="4657" y="1970"/>
                </a:lnTo>
                <a:lnTo>
                  <a:pt x="4548" y="2016"/>
                </a:lnTo>
                <a:lnTo>
                  <a:pt x="4788" y="1803"/>
                </a:lnTo>
                <a:lnTo>
                  <a:pt x="4887" y="1675"/>
                </a:lnTo>
                <a:lnTo>
                  <a:pt x="5002" y="1497"/>
                </a:lnTo>
                <a:lnTo>
                  <a:pt x="5023" y="1450"/>
                </a:lnTo>
                <a:lnTo>
                  <a:pt x="5042" y="1427"/>
                </a:lnTo>
                <a:lnTo>
                  <a:pt x="5042" y="1417"/>
                </a:lnTo>
                <a:lnTo>
                  <a:pt x="5027" y="1402"/>
                </a:lnTo>
                <a:lnTo>
                  <a:pt x="5011" y="1408"/>
                </a:lnTo>
                <a:lnTo>
                  <a:pt x="5002" y="1398"/>
                </a:lnTo>
                <a:lnTo>
                  <a:pt x="4850" y="1506"/>
                </a:lnTo>
                <a:lnTo>
                  <a:pt x="4261" y="1840"/>
                </a:lnTo>
                <a:lnTo>
                  <a:pt x="3766" y="2086"/>
                </a:lnTo>
                <a:lnTo>
                  <a:pt x="3567" y="2164"/>
                </a:lnTo>
                <a:lnTo>
                  <a:pt x="3363" y="2237"/>
                </a:lnTo>
                <a:lnTo>
                  <a:pt x="3165" y="2288"/>
                </a:lnTo>
                <a:lnTo>
                  <a:pt x="3144" y="2288"/>
                </a:lnTo>
                <a:lnTo>
                  <a:pt x="3347" y="2148"/>
                </a:lnTo>
                <a:lnTo>
                  <a:pt x="3526" y="2016"/>
                </a:lnTo>
                <a:lnTo>
                  <a:pt x="3526" y="2007"/>
                </a:lnTo>
                <a:lnTo>
                  <a:pt x="3516" y="1997"/>
                </a:lnTo>
                <a:lnTo>
                  <a:pt x="3446" y="2022"/>
                </a:lnTo>
                <a:lnTo>
                  <a:pt x="3411" y="2044"/>
                </a:lnTo>
                <a:lnTo>
                  <a:pt x="3229" y="2102"/>
                </a:lnTo>
                <a:lnTo>
                  <a:pt x="3062" y="2127"/>
                </a:lnTo>
                <a:lnTo>
                  <a:pt x="3057" y="2127"/>
                </a:lnTo>
                <a:lnTo>
                  <a:pt x="3057" y="2111"/>
                </a:lnTo>
                <a:lnTo>
                  <a:pt x="3233" y="2003"/>
                </a:lnTo>
                <a:lnTo>
                  <a:pt x="3609" y="1821"/>
                </a:lnTo>
                <a:lnTo>
                  <a:pt x="3652" y="1803"/>
                </a:lnTo>
                <a:lnTo>
                  <a:pt x="3865" y="1695"/>
                </a:lnTo>
                <a:lnTo>
                  <a:pt x="3922" y="1663"/>
                </a:lnTo>
                <a:lnTo>
                  <a:pt x="3937" y="1663"/>
                </a:lnTo>
                <a:lnTo>
                  <a:pt x="3949" y="1631"/>
                </a:lnTo>
                <a:lnTo>
                  <a:pt x="4335" y="1346"/>
                </a:lnTo>
                <a:lnTo>
                  <a:pt x="4455" y="1247"/>
                </a:lnTo>
                <a:lnTo>
                  <a:pt x="4542" y="1183"/>
                </a:lnTo>
                <a:lnTo>
                  <a:pt x="4554" y="1173"/>
                </a:lnTo>
                <a:lnTo>
                  <a:pt x="4554" y="1163"/>
                </a:lnTo>
                <a:lnTo>
                  <a:pt x="4538" y="1152"/>
                </a:lnTo>
                <a:lnTo>
                  <a:pt x="4183" y="1299"/>
                </a:lnTo>
                <a:lnTo>
                  <a:pt x="3958" y="1408"/>
                </a:lnTo>
                <a:lnTo>
                  <a:pt x="3334" y="1799"/>
                </a:lnTo>
                <a:lnTo>
                  <a:pt x="3088" y="1925"/>
                </a:lnTo>
                <a:lnTo>
                  <a:pt x="3053" y="1929"/>
                </a:lnTo>
                <a:lnTo>
                  <a:pt x="3181" y="1846"/>
                </a:lnTo>
                <a:lnTo>
                  <a:pt x="3282" y="1772"/>
                </a:lnTo>
                <a:lnTo>
                  <a:pt x="3516" y="1543"/>
                </a:lnTo>
                <a:lnTo>
                  <a:pt x="3557" y="1506"/>
                </a:lnTo>
                <a:lnTo>
                  <a:pt x="3563" y="1503"/>
                </a:lnTo>
                <a:lnTo>
                  <a:pt x="3563" y="1491"/>
                </a:lnTo>
                <a:lnTo>
                  <a:pt x="3553" y="1481"/>
                </a:lnTo>
                <a:lnTo>
                  <a:pt x="3468" y="1518"/>
                </a:lnTo>
                <a:lnTo>
                  <a:pt x="3124" y="1648"/>
                </a:lnTo>
                <a:lnTo>
                  <a:pt x="2828" y="1722"/>
                </a:lnTo>
                <a:lnTo>
                  <a:pt x="2682" y="1772"/>
                </a:lnTo>
                <a:lnTo>
                  <a:pt x="2603" y="1784"/>
                </a:lnTo>
                <a:lnTo>
                  <a:pt x="2401" y="1850"/>
                </a:lnTo>
                <a:lnTo>
                  <a:pt x="2766" y="1631"/>
                </a:lnTo>
                <a:lnTo>
                  <a:pt x="2983" y="1470"/>
                </a:lnTo>
                <a:lnTo>
                  <a:pt x="3029" y="1427"/>
                </a:lnTo>
                <a:lnTo>
                  <a:pt x="3053" y="1408"/>
                </a:lnTo>
                <a:lnTo>
                  <a:pt x="3035" y="1392"/>
                </a:lnTo>
                <a:lnTo>
                  <a:pt x="3020" y="1392"/>
                </a:lnTo>
                <a:lnTo>
                  <a:pt x="3010" y="1402"/>
                </a:lnTo>
                <a:lnTo>
                  <a:pt x="3014" y="1402"/>
                </a:lnTo>
                <a:lnTo>
                  <a:pt x="3014" y="1413"/>
                </a:lnTo>
                <a:lnTo>
                  <a:pt x="3010" y="1413"/>
                </a:lnTo>
                <a:lnTo>
                  <a:pt x="3010" y="1408"/>
                </a:lnTo>
                <a:lnTo>
                  <a:pt x="2977" y="1408"/>
                </a:lnTo>
                <a:lnTo>
                  <a:pt x="2849" y="1450"/>
                </a:lnTo>
                <a:lnTo>
                  <a:pt x="2566" y="1539"/>
                </a:lnTo>
                <a:lnTo>
                  <a:pt x="2525" y="1559"/>
                </a:lnTo>
                <a:lnTo>
                  <a:pt x="2515" y="1559"/>
                </a:lnTo>
                <a:lnTo>
                  <a:pt x="2556" y="1528"/>
                </a:lnTo>
                <a:lnTo>
                  <a:pt x="2578" y="1497"/>
                </a:lnTo>
                <a:lnTo>
                  <a:pt x="2566" y="1487"/>
                </a:lnTo>
                <a:lnTo>
                  <a:pt x="2550" y="1487"/>
                </a:lnTo>
                <a:lnTo>
                  <a:pt x="2545" y="1491"/>
                </a:lnTo>
                <a:lnTo>
                  <a:pt x="2473" y="1518"/>
                </a:lnTo>
                <a:lnTo>
                  <a:pt x="2269" y="1617"/>
                </a:lnTo>
                <a:lnTo>
                  <a:pt x="2077" y="1716"/>
                </a:lnTo>
                <a:lnTo>
                  <a:pt x="1951" y="1793"/>
                </a:lnTo>
                <a:lnTo>
                  <a:pt x="2102" y="1534"/>
                </a:lnTo>
                <a:lnTo>
                  <a:pt x="2118" y="1503"/>
                </a:lnTo>
                <a:lnTo>
                  <a:pt x="2118" y="1491"/>
                </a:lnTo>
                <a:lnTo>
                  <a:pt x="2083" y="1481"/>
                </a:lnTo>
                <a:lnTo>
                  <a:pt x="1936" y="1580"/>
                </a:lnTo>
                <a:lnTo>
                  <a:pt x="1749" y="1751"/>
                </a:lnTo>
                <a:lnTo>
                  <a:pt x="1645" y="1886"/>
                </a:lnTo>
                <a:lnTo>
                  <a:pt x="1627" y="1898"/>
                </a:lnTo>
                <a:lnTo>
                  <a:pt x="1627" y="1821"/>
                </a:lnTo>
                <a:lnTo>
                  <a:pt x="1633" y="1799"/>
                </a:lnTo>
                <a:lnTo>
                  <a:pt x="1633" y="1784"/>
                </a:lnTo>
                <a:lnTo>
                  <a:pt x="1623" y="1772"/>
                </a:lnTo>
                <a:lnTo>
                  <a:pt x="1612" y="1772"/>
                </a:lnTo>
                <a:lnTo>
                  <a:pt x="1460" y="2022"/>
                </a:lnTo>
                <a:lnTo>
                  <a:pt x="1451" y="2049"/>
                </a:lnTo>
                <a:lnTo>
                  <a:pt x="1435" y="2065"/>
                </a:lnTo>
                <a:lnTo>
                  <a:pt x="1408" y="1960"/>
                </a:lnTo>
                <a:lnTo>
                  <a:pt x="1404" y="1956"/>
                </a:lnTo>
                <a:lnTo>
                  <a:pt x="1393" y="1956"/>
                </a:lnTo>
                <a:lnTo>
                  <a:pt x="1362" y="2016"/>
                </a:lnTo>
                <a:lnTo>
                  <a:pt x="1309" y="2191"/>
                </a:lnTo>
                <a:lnTo>
                  <a:pt x="1263" y="2330"/>
                </a:lnTo>
                <a:lnTo>
                  <a:pt x="1222" y="2210"/>
                </a:lnTo>
                <a:lnTo>
                  <a:pt x="1201" y="2210"/>
                </a:lnTo>
                <a:lnTo>
                  <a:pt x="1189" y="2222"/>
                </a:lnTo>
                <a:lnTo>
                  <a:pt x="1179" y="2309"/>
                </a:lnTo>
                <a:lnTo>
                  <a:pt x="1160" y="2577"/>
                </a:lnTo>
                <a:lnTo>
                  <a:pt x="1164" y="2831"/>
                </a:lnTo>
                <a:lnTo>
                  <a:pt x="1170" y="2961"/>
                </a:lnTo>
                <a:lnTo>
                  <a:pt x="1127" y="2924"/>
                </a:lnTo>
                <a:lnTo>
                  <a:pt x="1111" y="2939"/>
                </a:lnTo>
                <a:lnTo>
                  <a:pt x="1107" y="3050"/>
                </a:lnTo>
                <a:lnTo>
                  <a:pt x="1107" y="3071"/>
                </a:lnTo>
                <a:lnTo>
                  <a:pt x="1055" y="3019"/>
                </a:lnTo>
                <a:lnTo>
                  <a:pt x="1028" y="2992"/>
                </a:lnTo>
                <a:lnTo>
                  <a:pt x="1012" y="3009"/>
                </a:lnTo>
                <a:lnTo>
                  <a:pt x="997" y="3081"/>
                </a:lnTo>
                <a:lnTo>
                  <a:pt x="991" y="3087"/>
                </a:lnTo>
                <a:lnTo>
                  <a:pt x="867" y="2893"/>
                </a:lnTo>
                <a:lnTo>
                  <a:pt x="867" y="2887"/>
                </a:lnTo>
                <a:lnTo>
                  <a:pt x="855" y="2877"/>
                </a:lnTo>
                <a:lnTo>
                  <a:pt x="836" y="2883"/>
                </a:lnTo>
                <a:lnTo>
                  <a:pt x="803" y="2996"/>
                </a:lnTo>
                <a:lnTo>
                  <a:pt x="787" y="3164"/>
                </a:lnTo>
                <a:lnTo>
                  <a:pt x="793" y="3226"/>
                </a:lnTo>
                <a:lnTo>
                  <a:pt x="793" y="3248"/>
                </a:lnTo>
                <a:lnTo>
                  <a:pt x="778" y="3222"/>
                </a:lnTo>
                <a:lnTo>
                  <a:pt x="762" y="3211"/>
                </a:lnTo>
                <a:lnTo>
                  <a:pt x="753" y="3211"/>
                </a:lnTo>
                <a:lnTo>
                  <a:pt x="741" y="3222"/>
                </a:lnTo>
                <a:lnTo>
                  <a:pt x="737" y="3269"/>
                </a:lnTo>
                <a:lnTo>
                  <a:pt x="731" y="3294"/>
                </a:lnTo>
                <a:lnTo>
                  <a:pt x="632" y="3215"/>
                </a:lnTo>
                <a:lnTo>
                  <a:pt x="623" y="3215"/>
                </a:lnTo>
                <a:lnTo>
                  <a:pt x="611" y="3226"/>
                </a:lnTo>
                <a:lnTo>
                  <a:pt x="580" y="3352"/>
                </a:lnTo>
                <a:lnTo>
                  <a:pt x="522" y="3482"/>
                </a:lnTo>
                <a:lnTo>
                  <a:pt x="469" y="3535"/>
                </a:lnTo>
                <a:lnTo>
                  <a:pt x="413" y="3575"/>
                </a:lnTo>
                <a:lnTo>
                  <a:pt x="382" y="3575"/>
                </a:lnTo>
                <a:lnTo>
                  <a:pt x="365" y="3550"/>
                </a:lnTo>
                <a:lnTo>
                  <a:pt x="184" y="3591"/>
                </a:lnTo>
                <a:lnTo>
                  <a:pt x="111" y="3581"/>
                </a:lnTo>
                <a:lnTo>
                  <a:pt x="21" y="3538"/>
                </a:lnTo>
                <a:lnTo>
                  <a:pt x="21" y="3529"/>
                </a:lnTo>
                <a:lnTo>
                  <a:pt x="111" y="3482"/>
                </a:lnTo>
                <a:lnTo>
                  <a:pt x="163" y="3418"/>
                </a:lnTo>
                <a:lnTo>
                  <a:pt x="167" y="3403"/>
                </a:lnTo>
                <a:lnTo>
                  <a:pt x="167" y="3389"/>
                </a:lnTo>
                <a:lnTo>
                  <a:pt x="151" y="3372"/>
                </a:lnTo>
                <a:lnTo>
                  <a:pt x="95" y="3372"/>
                </a:lnTo>
                <a:lnTo>
                  <a:pt x="146" y="3300"/>
                </a:lnTo>
                <a:lnTo>
                  <a:pt x="184" y="3215"/>
                </a:lnTo>
                <a:lnTo>
                  <a:pt x="266" y="2924"/>
                </a:lnTo>
                <a:lnTo>
                  <a:pt x="314" y="2710"/>
                </a:lnTo>
                <a:lnTo>
                  <a:pt x="318" y="2648"/>
                </a:lnTo>
                <a:lnTo>
                  <a:pt x="308" y="2639"/>
                </a:lnTo>
                <a:lnTo>
                  <a:pt x="293" y="2639"/>
                </a:lnTo>
                <a:lnTo>
                  <a:pt x="237" y="2716"/>
                </a:lnTo>
                <a:lnTo>
                  <a:pt x="231" y="2716"/>
                </a:lnTo>
                <a:lnTo>
                  <a:pt x="225" y="2720"/>
                </a:lnTo>
                <a:lnTo>
                  <a:pt x="237" y="2645"/>
                </a:lnTo>
                <a:lnTo>
                  <a:pt x="225" y="2633"/>
                </a:lnTo>
                <a:lnTo>
                  <a:pt x="225" y="2565"/>
                </a:lnTo>
                <a:lnTo>
                  <a:pt x="219" y="2330"/>
                </a:lnTo>
                <a:lnTo>
                  <a:pt x="126" y="1898"/>
                </a:lnTo>
                <a:lnTo>
                  <a:pt x="105" y="1850"/>
                </a:lnTo>
                <a:lnTo>
                  <a:pt x="83" y="1772"/>
                </a:lnTo>
                <a:lnTo>
                  <a:pt x="37" y="1636"/>
                </a:lnTo>
                <a:lnTo>
                  <a:pt x="12" y="1506"/>
                </a:lnTo>
                <a:lnTo>
                  <a:pt x="0" y="21"/>
                </a:lnTo>
                <a:lnTo>
                  <a:pt x="2921" y="10"/>
                </a:lnTo>
                <a:lnTo>
                  <a:pt x="3369" y="0"/>
                </a:lnTo>
                <a:lnTo>
                  <a:pt x="5826" y="6"/>
                </a:lnTo>
                <a:lnTo>
                  <a:pt x="5826" y="258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14" name=""/>
          <p:cNvSpPr/>
          <p:nvPr/>
        </p:nvSpPr>
        <p:spPr>
          <a:xfrm>
            <a:off x="2709720" y="3201840"/>
            <a:ext cx="3713400" cy="3351240"/>
          </a:xfrm>
          <a:custGeom>
            <a:avLst/>
            <a:gdLst/>
            <a:ahLst/>
            <a:rect l="l" t="t" r="r" b="b"/>
            <a:pathLst>
              <a:path w="4678" h="4221">
                <a:moveTo>
                  <a:pt x="3357" y="385"/>
                </a:moveTo>
                <a:lnTo>
                  <a:pt x="3200" y="484"/>
                </a:lnTo>
                <a:lnTo>
                  <a:pt x="2993" y="577"/>
                </a:lnTo>
                <a:lnTo>
                  <a:pt x="2648" y="750"/>
                </a:lnTo>
                <a:lnTo>
                  <a:pt x="2508" y="822"/>
                </a:lnTo>
                <a:lnTo>
                  <a:pt x="2413" y="886"/>
                </a:lnTo>
                <a:lnTo>
                  <a:pt x="2409" y="895"/>
                </a:lnTo>
                <a:lnTo>
                  <a:pt x="2366" y="928"/>
                </a:lnTo>
                <a:lnTo>
                  <a:pt x="2366" y="942"/>
                </a:lnTo>
                <a:lnTo>
                  <a:pt x="2376" y="954"/>
                </a:lnTo>
                <a:lnTo>
                  <a:pt x="2518" y="932"/>
                </a:lnTo>
                <a:lnTo>
                  <a:pt x="2684" y="901"/>
                </a:lnTo>
                <a:lnTo>
                  <a:pt x="2810" y="853"/>
                </a:lnTo>
                <a:lnTo>
                  <a:pt x="2810" y="864"/>
                </a:lnTo>
                <a:lnTo>
                  <a:pt x="2795" y="864"/>
                </a:lnTo>
                <a:lnTo>
                  <a:pt x="2549" y="1037"/>
                </a:lnTo>
                <a:lnTo>
                  <a:pt x="2444" y="1099"/>
                </a:lnTo>
                <a:lnTo>
                  <a:pt x="2438" y="1103"/>
                </a:lnTo>
                <a:lnTo>
                  <a:pt x="2438" y="1114"/>
                </a:lnTo>
                <a:lnTo>
                  <a:pt x="2452" y="1124"/>
                </a:lnTo>
                <a:lnTo>
                  <a:pt x="2514" y="1114"/>
                </a:lnTo>
                <a:lnTo>
                  <a:pt x="2533" y="1103"/>
                </a:lnTo>
                <a:lnTo>
                  <a:pt x="2657" y="1083"/>
                </a:lnTo>
                <a:lnTo>
                  <a:pt x="2873" y="1016"/>
                </a:lnTo>
                <a:lnTo>
                  <a:pt x="3076" y="932"/>
                </a:lnTo>
                <a:lnTo>
                  <a:pt x="3268" y="853"/>
                </a:lnTo>
                <a:lnTo>
                  <a:pt x="3811" y="577"/>
                </a:lnTo>
                <a:lnTo>
                  <a:pt x="4275" y="312"/>
                </a:lnTo>
                <a:lnTo>
                  <a:pt x="4379" y="238"/>
                </a:lnTo>
                <a:lnTo>
                  <a:pt x="4343" y="323"/>
                </a:lnTo>
                <a:lnTo>
                  <a:pt x="4191" y="535"/>
                </a:lnTo>
                <a:lnTo>
                  <a:pt x="4108" y="620"/>
                </a:lnTo>
                <a:lnTo>
                  <a:pt x="3885" y="818"/>
                </a:lnTo>
                <a:lnTo>
                  <a:pt x="3854" y="837"/>
                </a:lnTo>
                <a:lnTo>
                  <a:pt x="3838" y="853"/>
                </a:lnTo>
                <a:lnTo>
                  <a:pt x="3838" y="864"/>
                </a:lnTo>
                <a:lnTo>
                  <a:pt x="3848" y="874"/>
                </a:lnTo>
                <a:lnTo>
                  <a:pt x="3922" y="849"/>
                </a:lnTo>
                <a:lnTo>
                  <a:pt x="4141" y="740"/>
                </a:lnTo>
                <a:lnTo>
                  <a:pt x="4166" y="719"/>
                </a:lnTo>
                <a:lnTo>
                  <a:pt x="4170" y="719"/>
                </a:lnTo>
                <a:lnTo>
                  <a:pt x="3900" y="1000"/>
                </a:lnTo>
                <a:lnTo>
                  <a:pt x="3753" y="1103"/>
                </a:lnTo>
                <a:lnTo>
                  <a:pt x="3753" y="1118"/>
                </a:lnTo>
                <a:lnTo>
                  <a:pt x="3765" y="1130"/>
                </a:lnTo>
                <a:lnTo>
                  <a:pt x="3790" y="1130"/>
                </a:lnTo>
                <a:lnTo>
                  <a:pt x="3848" y="1093"/>
                </a:lnTo>
                <a:lnTo>
                  <a:pt x="3926" y="1062"/>
                </a:lnTo>
                <a:lnTo>
                  <a:pt x="4222" y="886"/>
                </a:lnTo>
                <a:lnTo>
                  <a:pt x="4343" y="787"/>
                </a:lnTo>
                <a:lnTo>
                  <a:pt x="4536" y="624"/>
                </a:lnTo>
                <a:lnTo>
                  <a:pt x="4577" y="599"/>
                </a:lnTo>
                <a:lnTo>
                  <a:pt x="4593" y="605"/>
                </a:lnTo>
                <a:lnTo>
                  <a:pt x="4604" y="634"/>
                </a:lnTo>
                <a:lnTo>
                  <a:pt x="4542" y="828"/>
                </a:lnTo>
                <a:lnTo>
                  <a:pt x="4370" y="1068"/>
                </a:lnTo>
                <a:lnTo>
                  <a:pt x="4120" y="1303"/>
                </a:lnTo>
                <a:lnTo>
                  <a:pt x="4092" y="1318"/>
                </a:lnTo>
                <a:lnTo>
                  <a:pt x="4083" y="1334"/>
                </a:lnTo>
                <a:lnTo>
                  <a:pt x="4083" y="1337"/>
                </a:lnTo>
                <a:lnTo>
                  <a:pt x="4092" y="1349"/>
                </a:lnTo>
                <a:lnTo>
                  <a:pt x="4222" y="1281"/>
                </a:lnTo>
                <a:lnTo>
                  <a:pt x="4364" y="1209"/>
                </a:lnTo>
                <a:lnTo>
                  <a:pt x="4509" y="1093"/>
                </a:lnTo>
                <a:lnTo>
                  <a:pt x="4655" y="979"/>
                </a:lnTo>
                <a:lnTo>
                  <a:pt x="4670" y="979"/>
                </a:lnTo>
                <a:lnTo>
                  <a:pt x="4678" y="975"/>
                </a:lnTo>
                <a:lnTo>
                  <a:pt x="4678" y="1037"/>
                </a:lnTo>
                <a:lnTo>
                  <a:pt x="4608" y="1142"/>
                </a:lnTo>
                <a:lnTo>
                  <a:pt x="4608" y="1157"/>
                </a:lnTo>
                <a:lnTo>
                  <a:pt x="4641" y="1167"/>
                </a:lnTo>
                <a:lnTo>
                  <a:pt x="4651" y="1198"/>
                </a:lnTo>
                <a:lnTo>
                  <a:pt x="4635" y="1272"/>
                </a:lnTo>
                <a:lnTo>
                  <a:pt x="4589" y="1392"/>
                </a:lnTo>
                <a:lnTo>
                  <a:pt x="4583" y="1392"/>
                </a:lnTo>
                <a:lnTo>
                  <a:pt x="4577" y="1485"/>
                </a:lnTo>
                <a:lnTo>
                  <a:pt x="4490" y="1793"/>
                </a:lnTo>
                <a:lnTo>
                  <a:pt x="4459" y="1875"/>
                </a:lnTo>
                <a:lnTo>
                  <a:pt x="4364" y="2161"/>
                </a:lnTo>
                <a:lnTo>
                  <a:pt x="4265" y="2381"/>
                </a:lnTo>
                <a:lnTo>
                  <a:pt x="4030" y="2807"/>
                </a:lnTo>
                <a:lnTo>
                  <a:pt x="3827" y="3079"/>
                </a:lnTo>
                <a:lnTo>
                  <a:pt x="3555" y="3393"/>
                </a:lnTo>
                <a:lnTo>
                  <a:pt x="3247" y="3684"/>
                </a:lnTo>
                <a:lnTo>
                  <a:pt x="3065" y="3831"/>
                </a:lnTo>
                <a:lnTo>
                  <a:pt x="2762" y="4050"/>
                </a:lnTo>
                <a:lnTo>
                  <a:pt x="2632" y="4133"/>
                </a:lnTo>
                <a:lnTo>
                  <a:pt x="2554" y="4174"/>
                </a:lnTo>
                <a:lnTo>
                  <a:pt x="2514" y="4199"/>
                </a:lnTo>
                <a:lnTo>
                  <a:pt x="2502" y="4221"/>
                </a:lnTo>
                <a:lnTo>
                  <a:pt x="1245" y="4205"/>
                </a:lnTo>
                <a:lnTo>
                  <a:pt x="1084" y="4075"/>
                </a:lnTo>
                <a:lnTo>
                  <a:pt x="875" y="3846"/>
                </a:lnTo>
                <a:lnTo>
                  <a:pt x="578" y="3439"/>
                </a:lnTo>
                <a:lnTo>
                  <a:pt x="386" y="3189"/>
                </a:lnTo>
                <a:lnTo>
                  <a:pt x="254" y="2976"/>
                </a:lnTo>
                <a:lnTo>
                  <a:pt x="121" y="2683"/>
                </a:lnTo>
                <a:lnTo>
                  <a:pt x="57" y="2470"/>
                </a:lnTo>
                <a:lnTo>
                  <a:pt x="0" y="2173"/>
                </a:lnTo>
                <a:lnTo>
                  <a:pt x="41" y="2047"/>
                </a:lnTo>
                <a:lnTo>
                  <a:pt x="140" y="2130"/>
                </a:lnTo>
                <a:lnTo>
                  <a:pt x="140" y="2136"/>
                </a:lnTo>
                <a:lnTo>
                  <a:pt x="155" y="2152"/>
                </a:lnTo>
                <a:lnTo>
                  <a:pt x="177" y="2125"/>
                </a:lnTo>
                <a:lnTo>
                  <a:pt x="173" y="2074"/>
                </a:lnTo>
                <a:lnTo>
                  <a:pt x="173" y="2053"/>
                </a:lnTo>
                <a:lnTo>
                  <a:pt x="198" y="2078"/>
                </a:lnTo>
                <a:lnTo>
                  <a:pt x="208" y="2078"/>
                </a:lnTo>
                <a:lnTo>
                  <a:pt x="225" y="2053"/>
                </a:lnTo>
                <a:lnTo>
                  <a:pt x="225" y="1964"/>
                </a:lnTo>
                <a:lnTo>
                  <a:pt x="229" y="1812"/>
                </a:lnTo>
                <a:lnTo>
                  <a:pt x="250" y="1729"/>
                </a:lnTo>
                <a:lnTo>
                  <a:pt x="250" y="1717"/>
                </a:lnTo>
                <a:lnTo>
                  <a:pt x="390" y="1906"/>
                </a:lnTo>
                <a:lnTo>
                  <a:pt x="406" y="1906"/>
                </a:lnTo>
                <a:lnTo>
                  <a:pt x="417" y="1890"/>
                </a:lnTo>
                <a:lnTo>
                  <a:pt x="427" y="1880"/>
                </a:lnTo>
                <a:lnTo>
                  <a:pt x="433" y="1834"/>
                </a:lnTo>
                <a:lnTo>
                  <a:pt x="516" y="1890"/>
                </a:lnTo>
                <a:lnTo>
                  <a:pt x="526" y="1890"/>
                </a:lnTo>
                <a:lnTo>
                  <a:pt x="541" y="1871"/>
                </a:lnTo>
                <a:lnTo>
                  <a:pt x="541" y="1770"/>
                </a:lnTo>
                <a:lnTo>
                  <a:pt x="574" y="1793"/>
                </a:lnTo>
                <a:lnTo>
                  <a:pt x="584" y="1793"/>
                </a:lnTo>
                <a:lnTo>
                  <a:pt x="600" y="1770"/>
                </a:lnTo>
                <a:lnTo>
                  <a:pt x="594" y="1599"/>
                </a:lnTo>
                <a:lnTo>
                  <a:pt x="578" y="1429"/>
                </a:lnTo>
                <a:lnTo>
                  <a:pt x="605" y="1089"/>
                </a:lnTo>
                <a:lnTo>
                  <a:pt x="609" y="1083"/>
                </a:lnTo>
                <a:lnTo>
                  <a:pt x="609" y="1062"/>
                </a:lnTo>
                <a:lnTo>
                  <a:pt x="650" y="1147"/>
                </a:lnTo>
                <a:lnTo>
                  <a:pt x="667" y="1161"/>
                </a:lnTo>
                <a:lnTo>
                  <a:pt x="698" y="1114"/>
                </a:lnTo>
                <a:lnTo>
                  <a:pt x="708" y="1062"/>
                </a:lnTo>
                <a:lnTo>
                  <a:pt x="782" y="837"/>
                </a:lnTo>
                <a:lnTo>
                  <a:pt x="792" y="800"/>
                </a:lnTo>
                <a:lnTo>
                  <a:pt x="813" y="870"/>
                </a:lnTo>
                <a:lnTo>
                  <a:pt x="825" y="880"/>
                </a:lnTo>
                <a:lnTo>
                  <a:pt x="850" y="874"/>
                </a:lnTo>
                <a:lnTo>
                  <a:pt x="995" y="630"/>
                </a:lnTo>
                <a:lnTo>
                  <a:pt x="995" y="698"/>
                </a:lnTo>
                <a:lnTo>
                  <a:pt x="1017" y="713"/>
                </a:lnTo>
                <a:lnTo>
                  <a:pt x="1053" y="703"/>
                </a:lnTo>
                <a:lnTo>
                  <a:pt x="1110" y="620"/>
                </a:lnTo>
                <a:lnTo>
                  <a:pt x="1174" y="535"/>
                </a:lnTo>
                <a:lnTo>
                  <a:pt x="1383" y="352"/>
                </a:lnTo>
                <a:lnTo>
                  <a:pt x="1465" y="306"/>
                </a:lnTo>
                <a:lnTo>
                  <a:pt x="1476" y="306"/>
                </a:lnTo>
                <a:lnTo>
                  <a:pt x="1383" y="469"/>
                </a:lnTo>
                <a:lnTo>
                  <a:pt x="1267" y="645"/>
                </a:lnTo>
                <a:lnTo>
                  <a:pt x="1267" y="651"/>
                </a:lnTo>
                <a:lnTo>
                  <a:pt x="1276" y="661"/>
                </a:lnTo>
                <a:lnTo>
                  <a:pt x="1335" y="624"/>
                </a:lnTo>
                <a:lnTo>
                  <a:pt x="1532" y="500"/>
                </a:lnTo>
                <a:lnTo>
                  <a:pt x="1699" y="411"/>
                </a:lnTo>
                <a:lnTo>
                  <a:pt x="1752" y="389"/>
                </a:lnTo>
                <a:lnTo>
                  <a:pt x="1883" y="323"/>
                </a:lnTo>
                <a:lnTo>
                  <a:pt x="1909" y="318"/>
                </a:lnTo>
                <a:lnTo>
                  <a:pt x="1914" y="312"/>
                </a:lnTo>
                <a:lnTo>
                  <a:pt x="1831" y="374"/>
                </a:lnTo>
                <a:lnTo>
                  <a:pt x="1816" y="395"/>
                </a:lnTo>
                <a:lnTo>
                  <a:pt x="1816" y="401"/>
                </a:lnTo>
                <a:lnTo>
                  <a:pt x="1862" y="401"/>
                </a:lnTo>
                <a:lnTo>
                  <a:pt x="1918" y="368"/>
                </a:lnTo>
                <a:lnTo>
                  <a:pt x="2054" y="318"/>
                </a:lnTo>
                <a:lnTo>
                  <a:pt x="2316" y="244"/>
                </a:lnTo>
                <a:lnTo>
                  <a:pt x="2362" y="228"/>
                </a:lnTo>
                <a:lnTo>
                  <a:pt x="2304" y="287"/>
                </a:lnTo>
                <a:lnTo>
                  <a:pt x="2054" y="451"/>
                </a:lnTo>
                <a:lnTo>
                  <a:pt x="1788" y="608"/>
                </a:lnTo>
                <a:lnTo>
                  <a:pt x="1695" y="688"/>
                </a:lnTo>
                <a:lnTo>
                  <a:pt x="1689" y="703"/>
                </a:lnTo>
                <a:lnTo>
                  <a:pt x="1689" y="713"/>
                </a:lnTo>
                <a:lnTo>
                  <a:pt x="1699" y="725"/>
                </a:lnTo>
                <a:lnTo>
                  <a:pt x="1748" y="703"/>
                </a:lnTo>
                <a:lnTo>
                  <a:pt x="1810" y="661"/>
                </a:lnTo>
                <a:lnTo>
                  <a:pt x="2039" y="587"/>
                </a:lnTo>
                <a:lnTo>
                  <a:pt x="2143" y="568"/>
                </a:lnTo>
                <a:lnTo>
                  <a:pt x="2283" y="515"/>
                </a:lnTo>
                <a:lnTo>
                  <a:pt x="2341" y="500"/>
                </a:lnTo>
                <a:lnTo>
                  <a:pt x="2376" y="500"/>
                </a:lnTo>
                <a:lnTo>
                  <a:pt x="2638" y="420"/>
                </a:lnTo>
                <a:lnTo>
                  <a:pt x="2783" y="364"/>
                </a:lnTo>
                <a:lnTo>
                  <a:pt x="2861" y="339"/>
                </a:lnTo>
                <a:lnTo>
                  <a:pt x="2622" y="568"/>
                </a:lnTo>
                <a:lnTo>
                  <a:pt x="2452" y="682"/>
                </a:lnTo>
                <a:lnTo>
                  <a:pt x="2353" y="725"/>
                </a:lnTo>
                <a:lnTo>
                  <a:pt x="2341" y="740"/>
                </a:lnTo>
                <a:lnTo>
                  <a:pt x="2341" y="754"/>
                </a:lnTo>
                <a:lnTo>
                  <a:pt x="2353" y="765"/>
                </a:lnTo>
                <a:lnTo>
                  <a:pt x="2465" y="744"/>
                </a:lnTo>
                <a:lnTo>
                  <a:pt x="2607" y="682"/>
                </a:lnTo>
                <a:lnTo>
                  <a:pt x="2857" y="541"/>
                </a:lnTo>
                <a:lnTo>
                  <a:pt x="3185" y="327"/>
                </a:lnTo>
                <a:lnTo>
                  <a:pt x="3483" y="155"/>
                </a:lnTo>
                <a:lnTo>
                  <a:pt x="3842" y="0"/>
                </a:lnTo>
                <a:lnTo>
                  <a:pt x="3858" y="0"/>
                </a:lnTo>
                <a:lnTo>
                  <a:pt x="3357" y="385"/>
                </a:lnTo>
                <a:close/>
              </a:path>
            </a:pathLst>
          </a:custGeom>
          <a:solidFill>
            <a:srgbClr val="e58d35"/>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15" name=""/>
          <p:cNvSpPr/>
          <p:nvPr/>
        </p:nvSpPr>
        <p:spPr>
          <a:xfrm>
            <a:off x="2249640" y="4967280"/>
            <a:ext cx="1404720" cy="1573200"/>
          </a:xfrm>
          <a:custGeom>
            <a:avLst/>
            <a:gdLst/>
            <a:ahLst/>
            <a:rect l="l" t="t" r="r" b="b"/>
            <a:pathLst>
              <a:path w="1769" h="1981">
                <a:moveTo>
                  <a:pt x="679" y="496"/>
                </a:moveTo>
                <a:lnTo>
                  <a:pt x="850" y="845"/>
                </a:lnTo>
                <a:lnTo>
                  <a:pt x="1106" y="1206"/>
                </a:lnTo>
                <a:lnTo>
                  <a:pt x="1476" y="1694"/>
                </a:lnTo>
                <a:lnTo>
                  <a:pt x="1728" y="1944"/>
                </a:lnTo>
                <a:lnTo>
                  <a:pt x="1769" y="1981"/>
                </a:lnTo>
                <a:lnTo>
                  <a:pt x="1488" y="1981"/>
                </a:lnTo>
                <a:lnTo>
                  <a:pt x="809" y="1971"/>
                </a:lnTo>
                <a:lnTo>
                  <a:pt x="183" y="1966"/>
                </a:lnTo>
                <a:lnTo>
                  <a:pt x="16" y="1960"/>
                </a:lnTo>
                <a:lnTo>
                  <a:pt x="12" y="1721"/>
                </a:lnTo>
                <a:lnTo>
                  <a:pt x="0" y="277"/>
                </a:lnTo>
                <a:lnTo>
                  <a:pt x="31" y="265"/>
                </a:lnTo>
                <a:lnTo>
                  <a:pt x="53" y="261"/>
                </a:lnTo>
                <a:lnTo>
                  <a:pt x="53" y="255"/>
                </a:lnTo>
                <a:lnTo>
                  <a:pt x="84" y="246"/>
                </a:lnTo>
                <a:lnTo>
                  <a:pt x="78" y="240"/>
                </a:lnTo>
                <a:lnTo>
                  <a:pt x="105" y="240"/>
                </a:lnTo>
                <a:lnTo>
                  <a:pt x="262" y="157"/>
                </a:lnTo>
                <a:lnTo>
                  <a:pt x="330" y="141"/>
                </a:lnTo>
                <a:lnTo>
                  <a:pt x="334" y="151"/>
                </a:lnTo>
                <a:lnTo>
                  <a:pt x="367" y="172"/>
                </a:lnTo>
                <a:lnTo>
                  <a:pt x="429" y="151"/>
                </a:lnTo>
                <a:lnTo>
                  <a:pt x="501" y="89"/>
                </a:lnTo>
                <a:lnTo>
                  <a:pt x="543" y="32"/>
                </a:lnTo>
                <a:lnTo>
                  <a:pt x="553" y="0"/>
                </a:lnTo>
                <a:lnTo>
                  <a:pt x="606" y="246"/>
                </a:lnTo>
                <a:lnTo>
                  <a:pt x="679" y="496"/>
                </a:lnTo>
                <a:close/>
              </a:path>
            </a:pathLst>
          </a:custGeom>
          <a:solidFill>
            <a:srgbClr val="e58d35"/>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16" name=""/>
          <p:cNvSpPr/>
          <p:nvPr/>
        </p:nvSpPr>
        <p:spPr>
          <a:xfrm>
            <a:off x="2709720" y="3201840"/>
            <a:ext cx="3705480" cy="3351240"/>
          </a:xfrm>
          <a:custGeom>
            <a:avLst/>
            <a:gdLst/>
            <a:ahLst/>
            <a:rect l="l" t="t" r="r" b="b"/>
            <a:pathLst>
              <a:path w="4668" h="4221">
                <a:moveTo>
                  <a:pt x="1503" y="4209"/>
                </a:moveTo>
                <a:lnTo>
                  <a:pt x="1540" y="4197"/>
                </a:lnTo>
                <a:lnTo>
                  <a:pt x="1738" y="4091"/>
                </a:lnTo>
                <a:lnTo>
                  <a:pt x="1779" y="3945"/>
                </a:lnTo>
                <a:lnTo>
                  <a:pt x="1672" y="3773"/>
                </a:lnTo>
                <a:lnTo>
                  <a:pt x="1540" y="3534"/>
                </a:lnTo>
                <a:lnTo>
                  <a:pt x="2297" y="3773"/>
                </a:lnTo>
                <a:lnTo>
                  <a:pt x="2640" y="3468"/>
                </a:lnTo>
                <a:lnTo>
                  <a:pt x="2560" y="3162"/>
                </a:lnTo>
                <a:lnTo>
                  <a:pt x="2560" y="2910"/>
                </a:lnTo>
                <a:lnTo>
                  <a:pt x="2428" y="2951"/>
                </a:lnTo>
                <a:lnTo>
                  <a:pt x="2310" y="2898"/>
                </a:lnTo>
                <a:lnTo>
                  <a:pt x="2217" y="2817"/>
                </a:lnTo>
                <a:lnTo>
                  <a:pt x="2136" y="2712"/>
                </a:lnTo>
                <a:lnTo>
                  <a:pt x="1978" y="2671"/>
                </a:lnTo>
                <a:lnTo>
                  <a:pt x="2083" y="2631"/>
                </a:lnTo>
                <a:lnTo>
                  <a:pt x="2217" y="2619"/>
                </a:lnTo>
                <a:lnTo>
                  <a:pt x="2283" y="2685"/>
                </a:lnTo>
                <a:lnTo>
                  <a:pt x="2322" y="2778"/>
                </a:lnTo>
                <a:lnTo>
                  <a:pt x="2454" y="2830"/>
                </a:lnTo>
                <a:lnTo>
                  <a:pt x="2560" y="2805"/>
                </a:lnTo>
                <a:lnTo>
                  <a:pt x="2615" y="2658"/>
                </a:lnTo>
                <a:lnTo>
                  <a:pt x="2653" y="2460"/>
                </a:lnTo>
                <a:lnTo>
                  <a:pt x="2679" y="2222"/>
                </a:lnTo>
                <a:lnTo>
                  <a:pt x="2746" y="1929"/>
                </a:lnTo>
                <a:lnTo>
                  <a:pt x="2840" y="1638"/>
                </a:lnTo>
                <a:lnTo>
                  <a:pt x="2958" y="1413"/>
                </a:lnTo>
                <a:lnTo>
                  <a:pt x="3065" y="1227"/>
                </a:lnTo>
                <a:lnTo>
                  <a:pt x="3289" y="1095"/>
                </a:lnTo>
                <a:lnTo>
                  <a:pt x="3569" y="1027"/>
                </a:lnTo>
                <a:lnTo>
                  <a:pt x="3753" y="1027"/>
                </a:lnTo>
                <a:lnTo>
                  <a:pt x="3873" y="1018"/>
                </a:lnTo>
                <a:lnTo>
                  <a:pt x="3753" y="1103"/>
                </a:lnTo>
                <a:lnTo>
                  <a:pt x="3753" y="1118"/>
                </a:lnTo>
                <a:lnTo>
                  <a:pt x="3765" y="1130"/>
                </a:lnTo>
                <a:lnTo>
                  <a:pt x="3790" y="1130"/>
                </a:lnTo>
                <a:lnTo>
                  <a:pt x="3848" y="1093"/>
                </a:lnTo>
                <a:lnTo>
                  <a:pt x="3926" y="1062"/>
                </a:lnTo>
                <a:lnTo>
                  <a:pt x="4222" y="886"/>
                </a:lnTo>
                <a:lnTo>
                  <a:pt x="4343" y="787"/>
                </a:lnTo>
                <a:lnTo>
                  <a:pt x="4536" y="624"/>
                </a:lnTo>
                <a:lnTo>
                  <a:pt x="4577" y="599"/>
                </a:lnTo>
                <a:lnTo>
                  <a:pt x="4593" y="605"/>
                </a:lnTo>
                <a:lnTo>
                  <a:pt x="4604" y="634"/>
                </a:lnTo>
                <a:lnTo>
                  <a:pt x="4542" y="828"/>
                </a:lnTo>
                <a:lnTo>
                  <a:pt x="4370" y="1068"/>
                </a:lnTo>
                <a:lnTo>
                  <a:pt x="4120" y="1303"/>
                </a:lnTo>
                <a:lnTo>
                  <a:pt x="4092" y="1318"/>
                </a:lnTo>
                <a:lnTo>
                  <a:pt x="4083" y="1334"/>
                </a:lnTo>
                <a:lnTo>
                  <a:pt x="4083" y="1337"/>
                </a:lnTo>
                <a:lnTo>
                  <a:pt x="4092" y="1349"/>
                </a:lnTo>
                <a:lnTo>
                  <a:pt x="4222" y="1281"/>
                </a:lnTo>
                <a:lnTo>
                  <a:pt x="4364" y="1209"/>
                </a:lnTo>
                <a:lnTo>
                  <a:pt x="4509" y="1093"/>
                </a:lnTo>
                <a:lnTo>
                  <a:pt x="4655" y="979"/>
                </a:lnTo>
                <a:lnTo>
                  <a:pt x="4668" y="979"/>
                </a:lnTo>
                <a:lnTo>
                  <a:pt x="4666" y="1054"/>
                </a:lnTo>
                <a:lnTo>
                  <a:pt x="4608" y="1142"/>
                </a:lnTo>
                <a:lnTo>
                  <a:pt x="4608" y="1157"/>
                </a:lnTo>
                <a:lnTo>
                  <a:pt x="4641" y="1167"/>
                </a:lnTo>
                <a:lnTo>
                  <a:pt x="4651" y="1198"/>
                </a:lnTo>
                <a:lnTo>
                  <a:pt x="4635" y="1272"/>
                </a:lnTo>
                <a:lnTo>
                  <a:pt x="4589" y="1392"/>
                </a:lnTo>
                <a:lnTo>
                  <a:pt x="4583" y="1392"/>
                </a:lnTo>
                <a:lnTo>
                  <a:pt x="4577" y="1485"/>
                </a:lnTo>
                <a:lnTo>
                  <a:pt x="4490" y="1793"/>
                </a:lnTo>
                <a:lnTo>
                  <a:pt x="4459" y="1875"/>
                </a:lnTo>
                <a:lnTo>
                  <a:pt x="4364" y="2161"/>
                </a:lnTo>
                <a:lnTo>
                  <a:pt x="4265" y="2381"/>
                </a:lnTo>
                <a:lnTo>
                  <a:pt x="4030" y="2807"/>
                </a:lnTo>
                <a:lnTo>
                  <a:pt x="3827" y="3079"/>
                </a:lnTo>
                <a:lnTo>
                  <a:pt x="3555" y="3393"/>
                </a:lnTo>
                <a:lnTo>
                  <a:pt x="3247" y="3684"/>
                </a:lnTo>
                <a:lnTo>
                  <a:pt x="3065" y="3831"/>
                </a:lnTo>
                <a:lnTo>
                  <a:pt x="2762" y="4050"/>
                </a:lnTo>
                <a:lnTo>
                  <a:pt x="2632" y="4133"/>
                </a:lnTo>
                <a:lnTo>
                  <a:pt x="2554" y="4174"/>
                </a:lnTo>
                <a:lnTo>
                  <a:pt x="2514" y="4199"/>
                </a:lnTo>
                <a:lnTo>
                  <a:pt x="2502" y="4221"/>
                </a:lnTo>
                <a:lnTo>
                  <a:pt x="1503" y="4209"/>
                </a:lnTo>
                <a:close/>
                <a:moveTo>
                  <a:pt x="3970" y="928"/>
                </a:moveTo>
                <a:lnTo>
                  <a:pt x="4170" y="719"/>
                </a:lnTo>
                <a:lnTo>
                  <a:pt x="4166" y="719"/>
                </a:lnTo>
                <a:lnTo>
                  <a:pt x="4141" y="740"/>
                </a:lnTo>
                <a:lnTo>
                  <a:pt x="4036" y="791"/>
                </a:lnTo>
                <a:lnTo>
                  <a:pt x="4032" y="829"/>
                </a:lnTo>
                <a:lnTo>
                  <a:pt x="3970" y="928"/>
                </a:lnTo>
                <a:close/>
                <a:moveTo>
                  <a:pt x="4050" y="670"/>
                </a:moveTo>
                <a:lnTo>
                  <a:pt x="4108" y="620"/>
                </a:lnTo>
                <a:lnTo>
                  <a:pt x="4191" y="535"/>
                </a:lnTo>
                <a:lnTo>
                  <a:pt x="4343" y="323"/>
                </a:lnTo>
                <a:lnTo>
                  <a:pt x="4379" y="238"/>
                </a:lnTo>
                <a:lnTo>
                  <a:pt x="4275" y="312"/>
                </a:lnTo>
                <a:lnTo>
                  <a:pt x="3811" y="577"/>
                </a:lnTo>
                <a:lnTo>
                  <a:pt x="3268" y="853"/>
                </a:lnTo>
                <a:lnTo>
                  <a:pt x="3076" y="932"/>
                </a:lnTo>
                <a:lnTo>
                  <a:pt x="2873" y="1016"/>
                </a:lnTo>
                <a:lnTo>
                  <a:pt x="2657" y="1083"/>
                </a:lnTo>
                <a:lnTo>
                  <a:pt x="2533" y="1103"/>
                </a:lnTo>
                <a:lnTo>
                  <a:pt x="2514" y="1114"/>
                </a:lnTo>
                <a:lnTo>
                  <a:pt x="2487" y="1118"/>
                </a:lnTo>
                <a:lnTo>
                  <a:pt x="2401" y="1175"/>
                </a:lnTo>
                <a:lnTo>
                  <a:pt x="2706" y="1120"/>
                </a:lnTo>
                <a:lnTo>
                  <a:pt x="3051" y="1016"/>
                </a:lnTo>
                <a:lnTo>
                  <a:pt x="3462" y="829"/>
                </a:lnTo>
                <a:lnTo>
                  <a:pt x="3769" y="657"/>
                </a:lnTo>
                <a:lnTo>
                  <a:pt x="4032" y="484"/>
                </a:lnTo>
                <a:lnTo>
                  <a:pt x="4059" y="591"/>
                </a:lnTo>
                <a:lnTo>
                  <a:pt x="4050" y="670"/>
                </a:lnTo>
                <a:close/>
                <a:moveTo>
                  <a:pt x="2671" y="952"/>
                </a:moveTo>
                <a:lnTo>
                  <a:pt x="2795" y="864"/>
                </a:lnTo>
                <a:lnTo>
                  <a:pt x="2810" y="864"/>
                </a:lnTo>
                <a:lnTo>
                  <a:pt x="2810" y="853"/>
                </a:lnTo>
                <a:lnTo>
                  <a:pt x="2684" y="901"/>
                </a:lnTo>
                <a:lnTo>
                  <a:pt x="2518" y="932"/>
                </a:lnTo>
                <a:lnTo>
                  <a:pt x="2508" y="934"/>
                </a:lnTo>
                <a:lnTo>
                  <a:pt x="2415" y="988"/>
                </a:lnTo>
                <a:lnTo>
                  <a:pt x="2671" y="952"/>
                </a:lnTo>
                <a:close/>
                <a:moveTo>
                  <a:pt x="3642" y="166"/>
                </a:moveTo>
                <a:lnTo>
                  <a:pt x="3858" y="0"/>
                </a:lnTo>
                <a:lnTo>
                  <a:pt x="3842" y="0"/>
                </a:lnTo>
                <a:lnTo>
                  <a:pt x="3483" y="155"/>
                </a:lnTo>
                <a:lnTo>
                  <a:pt x="3185" y="327"/>
                </a:lnTo>
                <a:lnTo>
                  <a:pt x="2857" y="541"/>
                </a:lnTo>
                <a:lnTo>
                  <a:pt x="2607" y="682"/>
                </a:lnTo>
                <a:lnTo>
                  <a:pt x="2465" y="744"/>
                </a:lnTo>
                <a:lnTo>
                  <a:pt x="2384" y="760"/>
                </a:lnTo>
                <a:lnTo>
                  <a:pt x="2335" y="802"/>
                </a:lnTo>
                <a:lnTo>
                  <a:pt x="2785" y="643"/>
                </a:lnTo>
                <a:lnTo>
                  <a:pt x="3065" y="459"/>
                </a:lnTo>
                <a:lnTo>
                  <a:pt x="3369" y="287"/>
                </a:lnTo>
                <a:lnTo>
                  <a:pt x="3642" y="166"/>
                </a:lnTo>
                <a:close/>
                <a:moveTo>
                  <a:pt x="2547" y="618"/>
                </a:moveTo>
                <a:lnTo>
                  <a:pt x="2622" y="568"/>
                </a:lnTo>
                <a:lnTo>
                  <a:pt x="2816" y="382"/>
                </a:lnTo>
                <a:lnTo>
                  <a:pt x="2547" y="618"/>
                </a:lnTo>
                <a:close/>
                <a:moveTo>
                  <a:pt x="2857" y="343"/>
                </a:moveTo>
                <a:lnTo>
                  <a:pt x="2861" y="339"/>
                </a:lnTo>
                <a:lnTo>
                  <a:pt x="2783" y="364"/>
                </a:lnTo>
                <a:lnTo>
                  <a:pt x="2638" y="420"/>
                </a:lnTo>
                <a:lnTo>
                  <a:pt x="2376" y="500"/>
                </a:lnTo>
                <a:lnTo>
                  <a:pt x="2341" y="500"/>
                </a:lnTo>
                <a:lnTo>
                  <a:pt x="2283" y="515"/>
                </a:lnTo>
                <a:lnTo>
                  <a:pt x="2143" y="568"/>
                </a:lnTo>
                <a:lnTo>
                  <a:pt x="2039" y="587"/>
                </a:lnTo>
                <a:lnTo>
                  <a:pt x="1810" y="661"/>
                </a:lnTo>
                <a:lnTo>
                  <a:pt x="1748" y="703"/>
                </a:lnTo>
                <a:lnTo>
                  <a:pt x="1699" y="725"/>
                </a:lnTo>
                <a:lnTo>
                  <a:pt x="1689" y="713"/>
                </a:lnTo>
                <a:lnTo>
                  <a:pt x="1689" y="703"/>
                </a:lnTo>
                <a:lnTo>
                  <a:pt x="1695" y="688"/>
                </a:lnTo>
                <a:lnTo>
                  <a:pt x="1788" y="608"/>
                </a:lnTo>
                <a:lnTo>
                  <a:pt x="2054" y="451"/>
                </a:lnTo>
                <a:lnTo>
                  <a:pt x="2304" y="287"/>
                </a:lnTo>
                <a:lnTo>
                  <a:pt x="2362" y="228"/>
                </a:lnTo>
                <a:lnTo>
                  <a:pt x="2316" y="244"/>
                </a:lnTo>
                <a:lnTo>
                  <a:pt x="2054" y="318"/>
                </a:lnTo>
                <a:lnTo>
                  <a:pt x="1918" y="368"/>
                </a:lnTo>
                <a:lnTo>
                  <a:pt x="1862" y="401"/>
                </a:lnTo>
                <a:lnTo>
                  <a:pt x="1816" y="401"/>
                </a:lnTo>
                <a:lnTo>
                  <a:pt x="1816" y="395"/>
                </a:lnTo>
                <a:lnTo>
                  <a:pt x="1831" y="374"/>
                </a:lnTo>
                <a:lnTo>
                  <a:pt x="1914" y="312"/>
                </a:lnTo>
                <a:lnTo>
                  <a:pt x="1909" y="318"/>
                </a:lnTo>
                <a:lnTo>
                  <a:pt x="1883" y="323"/>
                </a:lnTo>
                <a:lnTo>
                  <a:pt x="1752" y="389"/>
                </a:lnTo>
                <a:lnTo>
                  <a:pt x="1699" y="411"/>
                </a:lnTo>
                <a:lnTo>
                  <a:pt x="1532" y="500"/>
                </a:lnTo>
                <a:lnTo>
                  <a:pt x="1335" y="624"/>
                </a:lnTo>
                <a:lnTo>
                  <a:pt x="1276" y="661"/>
                </a:lnTo>
                <a:lnTo>
                  <a:pt x="1267" y="651"/>
                </a:lnTo>
                <a:lnTo>
                  <a:pt x="1267" y="645"/>
                </a:lnTo>
                <a:lnTo>
                  <a:pt x="1383" y="469"/>
                </a:lnTo>
                <a:lnTo>
                  <a:pt x="1476" y="306"/>
                </a:lnTo>
                <a:lnTo>
                  <a:pt x="1465" y="306"/>
                </a:lnTo>
                <a:lnTo>
                  <a:pt x="1383" y="352"/>
                </a:lnTo>
                <a:lnTo>
                  <a:pt x="1174" y="535"/>
                </a:lnTo>
                <a:lnTo>
                  <a:pt x="1110" y="620"/>
                </a:lnTo>
                <a:lnTo>
                  <a:pt x="1053" y="703"/>
                </a:lnTo>
                <a:lnTo>
                  <a:pt x="1017" y="713"/>
                </a:lnTo>
                <a:lnTo>
                  <a:pt x="995" y="698"/>
                </a:lnTo>
                <a:lnTo>
                  <a:pt x="995" y="630"/>
                </a:lnTo>
                <a:lnTo>
                  <a:pt x="850" y="874"/>
                </a:lnTo>
                <a:lnTo>
                  <a:pt x="825" y="880"/>
                </a:lnTo>
                <a:lnTo>
                  <a:pt x="813" y="870"/>
                </a:lnTo>
                <a:lnTo>
                  <a:pt x="792" y="800"/>
                </a:lnTo>
                <a:lnTo>
                  <a:pt x="782" y="837"/>
                </a:lnTo>
                <a:lnTo>
                  <a:pt x="708" y="1062"/>
                </a:lnTo>
                <a:lnTo>
                  <a:pt x="698" y="1114"/>
                </a:lnTo>
                <a:lnTo>
                  <a:pt x="667" y="1161"/>
                </a:lnTo>
                <a:lnTo>
                  <a:pt x="650" y="1147"/>
                </a:lnTo>
                <a:lnTo>
                  <a:pt x="609" y="1062"/>
                </a:lnTo>
                <a:lnTo>
                  <a:pt x="609" y="1083"/>
                </a:lnTo>
                <a:lnTo>
                  <a:pt x="605" y="1089"/>
                </a:lnTo>
                <a:lnTo>
                  <a:pt x="578" y="1429"/>
                </a:lnTo>
                <a:lnTo>
                  <a:pt x="594" y="1599"/>
                </a:lnTo>
                <a:lnTo>
                  <a:pt x="600" y="1770"/>
                </a:lnTo>
                <a:lnTo>
                  <a:pt x="598" y="1772"/>
                </a:lnTo>
                <a:lnTo>
                  <a:pt x="638" y="1797"/>
                </a:lnTo>
                <a:lnTo>
                  <a:pt x="625" y="1452"/>
                </a:lnTo>
                <a:lnTo>
                  <a:pt x="650" y="1188"/>
                </a:lnTo>
                <a:lnTo>
                  <a:pt x="731" y="1202"/>
                </a:lnTo>
                <a:lnTo>
                  <a:pt x="836" y="923"/>
                </a:lnTo>
                <a:lnTo>
                  <a:pt x="970" y="857"/>
                </a:lnTo>
                <a:lnTo>
                  <a:pt x="1222" y="816"/>
                </a:lnTo>
                <a:lnTo>
                  <a:pt x="1513" y="802"/>
                </a:lnTo>
                <a:lnTo>
                  <a:pt x="1686" y="802"/>
                </a:lnTo>
                <a:lnTo>
                  <a:pt x="1831" y="857"/>
                </a:lnTo>
                <a:lnTo>
                  <a:pt x="1978" y="961"/>
                </a:lnTo>
                <a:lnTo>
                  <a:pt x="2176" y="1082"/>
                </a:lnTo>
                <a:lnTo>
                  <a:pt x="2322" y="1281"/>
                </a:lnTo>
                <a:lnTo>
                  <a:pt x="2440" y="1452"/>
                </a:lnTo>
                <a:lnTo>
                  <a:pt x="2428" y="1202"/>
                </a:lnTo>
                <a:lnTo>
                  <a:pt x="2310" y="1002"/>
                </a:lnTo>
                <a:lnTo>
                  <a:pt x="2136" y="802"/>
                </a:lnTo>
                <a:lnTo>
                  <a:pt x="2044" y="657"/>
                </a:lnTo>
                <a:lnTo>
                  <a:pt x="2467" y="525"/>
                </a:lnTo>
                <a:lnTo>
                  <a:pt x="2857" y="343"/>
                </a:lnTo>
                <a:close/>
                <a:moveTo>
                  <a:pt x="541" y="1781"/>
                </a:moveTo>
                <a:lnTo>
                  <a:pt x="611" y="1890"/>
                </a:lnTo>
                <a:lnTo>
                  <a:pt x="541" y="1871"/>
                </a:lnTo>
                <a:lnTo>
                  <a:pt x="541" y="1781"/>
                </a:lnTo>
                <a:close/>
                <a:moveTo>
                  <a:pt x="464" y="1855"/>
                </a:moveTo>
                <a:lnTo>
                  <a:pt x="411" y="1956"/>
                </a:lnTo>
                <a:lnTo>
                  <a:pt x="266" y="1783"/>
                </a:lnTo>
                <a:lnTo>
                  <a:pt x="293" y="1995"/>
                </a:lnTo>
                <a:lnTo>
                  <a:pt x="223" y="2053"/>
                </a:lnTo>
                <a:lnTo>
                  <a:pt x="225" y="2053"/>
                </a:lnTo>
                <a:lnTo>
                  <a:pt x="225" y="1964"/>
                </a:lnTo>
                <a:lnTo>
                  <a:pt x="229" y="1812"/>
                </a:lnTo>
                <a:lnTo>
                  <a:pt x="250" y="1729"/>
                </a:lnTo>
                <a:lnTo>
                  <a:pt x="250" y="1717"/>
                </a:lnTo>
                <a:lnTo>
                  <a:pt x="390" y="1906"/>
                </a:lnTo>
                <a:lnTo>
                  <a:pt x="406" y="1906"/>
                </a:lnTo>
                <a:lnTo>
                  <a:pt x="417" y="1890"/>
                </a:lnTo>
                <a:lnTo>
                  <a:pt x="427" y="1880"/>
                </a:lnTo>
                <a:lnTo>
                  <a:pt x="433" y="1834"/>
                </a:lnTo>
                <a:lnTo>
                  <a:pt x="464" y="1855"/>
                </a:lnTo>
                <a:close/>
                <a:moveTo>
                  <a:pt x="206" y="2078"/>
                </a:moveTo>
                <a:lnTo>
                  <a:pt x="159" y="2181"/>
                </a:lnTo>
                <a:lnTo>
                  <a:pt x="12" y="2243"/>
                </a:lnTo>
                <a:lnTo>
                  <a:pt x="0" y="2173"/>
                </a:lnTo>
                <a:lnTo>
                  <a:pt x="41" y="2047"/>
                </a:lnTo>
                <a:lnTo>
                  <a:pt x="140" y="2130"/>
                </a:lnTo>
                <a:lnTo>
                  <a:pt x="140" y="2136"/>
                </a:lnTo>
                <a:lnTo>
                  <a:pt x="155" y="2152"/>
                </a:lnTo>
                <a:lnTo>
                  <a:pt x="177" y="2125"/>
                </a:lnTo>
                <a:lnTo>
                  <a:pt x="173" y="2074"/>
                </a:lnTo>
                <a:lnTo>
                  <a:pt x="173" y="2053"/>
                </a:lnTo>
                <a:lnTo>
                  <a:pt x="198" y="2078"/>
                </a:lnTo>
                <a:lnTo>
                  <a:pt x="206" y="2078"/>
                </a:lnTo>
                <a:close/>
              </a:path>
            </a:pathLst>
          </a:custGeom>
          <a:solidFill>
            <a:srgbClr val="e58d35"/>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17" name=""/>
          <p:cNvSpPr/>
          <p:nvPr/>
        </p:nvSpPr>
        <p:spPr>
          <a:xfrm>
            <a:off x="2241720" y="3567240"/>
            <a:ext cx="210960" cy="1442880"/>
          </a:xfrm>
          <a:custGeom>
            <a:avLst/>
            <a:gdLst/>
            <a:ahLst/>
            <a:rect l="l" t="t" r="r" b="b"/>
            <a:pathLst>
              <a:path w="265" h="1819">
                <a:moveTo>
                  <a:pt x="130" y="452"/>
                </a:moveTo>
                <a:lnTo>
                  <a:pt x="188" y="718"/>
                </a:lnTo>
                <a:lnTo>
                  <a:pt x="182" y="927"/>
                </a:lnTo>
                <a:lnTo>
                  <a:pt x="172" y="964"/>
                </a:lnTo>
                <a:lnTo>
                  <a:pt x="192" y="999"/>
                </a:lnTo>
                <a:lnTo>
                  <a:pt x="172" y="1055"/>
                </a:lnTo>
                <a:lnTo>
                  <a:pt x="176" y="1098"/>
                </a:lnTo>
                <a:lnTo>
                  <a:pt x="192" y="1098"/>
                </a:lnTo>
                <a:lnTo>
                  <a:pt x="265" y="1026"/>
                </a:lnTo>
                <a:lnTo>
                  <a:pt x="265" y="1092"/>
                </a:lnTo>
                <a:lnTo>
                  <a:pt x="198" y="1348"/>
                </a:lnTo>
                <a:lnTo>
                  <a:pt x="114" y="1604"/>
                </a:lnTo>
                <a:lnTo>
                  <a:pt x="71" y="1662"/>
                </a:lnTo>
                <a:lnTo>
                  <a:pt x="35" y="1693"/>
                </a:lnTo>
                <a:lnTo>
                  <a:pt x="35" y="1702"/>
                </a:lnTo>
                <a:lnTo>
                  <a:pt x="31" y="1706"/>
                </a:lnTo>
                <a:lnTo>
                  <a:pt x="40" y="1718"/>
                </a:lnTo>
                <a:lnTo>
                  <a:pt x="120" y="1728"/>
                </a:lnTo>
                <a:lnTo>
                  <a:pt x="93" y="1776"/>
                </a:lnTo>
                <a:lnTo>
                  <a:pt x="31" y="1813"/>
                </a:lnTo>
                <a:lnTo>
                  <a:pt x="9" y="1819"/>
                </a:lnTo>
                <a:lnTo>
                  <a:pt x="6" y="363"/>
                </a:lnTo>
                <a:lnTo>
                  <a:pt x="0" y="0"/>
                </a:lnTo>
                <a:lnTo>
                  <a:pt x="83" y="233"/>
                </a:lnTo>
                <a:lnTo>
                  <a:pt x="130" y="452"/>
                </a:lnTo>
                <a:close/>
              </a:path>
            </a:pathLst>
          </a:custGeom>
          <a:solidFill>
            <a:srgbClr val="cc99cc"/>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18" name=""/>
          <p:cNvSpPr/>
          <p:nvPr/>
        </p:nvSpPr>
        <p:spPr>
          <a:xfrm>
            <a:off x="3719520" y="3807000"/>
            <a:ext cx="509760" cy="123480"/>
          </a:xfrm>
          <a:custGeom>
            <a:avLst/>
            <a:gdLst/>
            <a:ahLst/>
            <a:rect l="l" t="t" r="r" b="b"/>
            <a:pathLst>
              <a:path w="641" h="155">
                <a:moveTo>
                  <a:pt x="515" y="71"/>
                </a:moveTo>
                <a:lnTo>
                  <a:pt x="620" y="124"/>
                </a:lnTo>
                <a:lnTo>
                  <a:pt x="641" y="145"/>
                </a:lnTo>
                <a:lnTo>
                  <a:pt x="641" y="155"/>
                </a:lnTo>
                <a:lnTo>
                  <a:pt x="469" y="75"/>
                </a:lnTo>
                <a:lnTo>
                  <a:pt x="275" y="29"/>
                </a:lnTo>
                <a:lnTo>
                  <a:pt x="228" y="25"/>
                </a:lnTo>
                <a:lnTo>
                  <a:pt x="124" y="19"/>
                </a:lnTo>
                <a:lnTo>
                  <a:pt x="3" y="44"/>
                </a:lnTo>
                <a:lnTo>
                  <a:pt x="0" y="38"/>
                </a:lnTo>
                <a:lnTo>
                  <a:pt x="0" y="29"/>
                </a:lnTo>
                <a:lnTo>
                  <a:pt x="83" y="9"/>
                </a:lnTo>
                <a:lnTo>
                  <a:pt x="139" y="0"/>
                </a:lnTo>
                <a:lnTo>
                  <a:pt x="302" y="13"/>
                </a:lnTo>
                <a:lnTo>
                  <a:pt x="515" y="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19" name=""/>
          <p:cNvSpPr/>
          <p:nvPr/>
        </p:nvSpPr>
        <p:spPr>
          <a:xfrm>
            <a:off x="3665520" y="3846600"/>
            <a:ext cx="741240" cy="295200"/>
          </a:xfrm>
          <a:custGeom>
            <a:avLst/>
            <a:gdLst/>
            <a:ahLst/>
            <a:rect l="l" t="t" r="r" b="b"/>
            <a:pathLst>
              <a:path w="932" h="370">
                <a:moveTo>
                  <a:pt x="302" y="10"/>
                </a:moveTo>
                <a:lnTo>
                  <a:pt x="318" y="10"/>
                </a:lnTo>
                <a:lnTo>
                  <a:pt x="339" y="41"/>
                </a:lnTo>
                <a:lnTo>
                  <a:pt x="355" y="31"/>
                </a:lnTo>
                <a:lnTo>
                  <a:pt x="349" y="25"/>
                </a:lnTo>
                <a:lnTo>
                  <a:pt x="358" y="16"/>
                </a:lnTo>
                <a:lnTo>
                  <a:pt x="401" y="47"/>
                </a:lnTo>
                <a:lnTo>
                  <a:pt x="494" y="62"/>
                </a:lnTo>
                <a:lnTo>
                  <a:pt x="626" y="111"/>
                </a:lnTo>
                <a:lnTo>
                  <a:pt x="760" y="178"/>
                </a:lnTo>
                <a:lnTo>
                  <a:pt x="932" y="324"/>
                </a:lnTo>
                <a:lnTo>
                  <a:pt x="929" y="355"/>
                </a:lnTo>
                <a:lnTo>
                  <a:pt x="818" y="370"/>
                </a:lnTo>
                <a:lnTo>
                  <a:pt x="562" y="365"/>
                </a:lnTo>
                <a:lnTo>
                  <a:pt x="376" y="312"/>
                </a:lnTo>
                <a:lnTo>
                  <a:pt x="166" y="209"/>
                </a:lnTo>
                <a:lnTo>
                  <a:pt x="31" y="105"/>
                </a:lnTo>
                <a:lnTo>
                  <a:pt x="21" y="105"/>
                </a:lnTo>
                <a:lnTo>
                  <a:pt x="15" y="68"/>
                </a:lnTo>
                <a:lnTo>
                  <a:pt x="5" y="68"/>
                </a:lnTo>
                <a:lnTo>
                  <a:pt x="0" y="62"/>
                </a:lnTo>
                <a:lnTo>
                  <a:pt x="0" y="47"/>
                </a:lnTo>
                <a:lnTo>
                  <a:pt x="71" y="68"/>
                </a:lnTo>
                <a:lnTo>
                  <a:pt x="77" y="62"/>
                </a:lnTo>
                <a:lnTo>
                  <a:pt x="77" y="58"/>
                </a:lnTo>
                <a:lnTo>
                  <a:pt x="46" y="41"/>
                </a:lnTo>
                <a:lnTo>
                  <a:pt x="40" y="37"/>
                </a:lnTo>
                <a:lnTo>
                  <a:pt x="40" y="21"/>
                </a:lnTo>
                <a:lnTo>
                  <a:pt x="124" y="52"/>
                </a:lnTo>
                <a:lnTo>
                  <a:pt x="130" y="47"/>
                </a:lnTo>
                <a:lnTo>
                  <a:pt x="108" y="21"/>
                </a:lnTo>
                <a:lnTo>
                  <a:pt x="108" y="16"/>
                </a:lnTo>
                <a:lnTo>
                  <a:pt x="114" y="10"/>
                </a:lnTo>
                <a:lnTo>
                  <a:pt x="130" y="10"/>
                </a:lnTo>
                <a:lnTo>
                  <a:pt x="172" y="41"/>
                </a:lnTo>
                <a:lnTo>
                  <a:pt x="192" y="41"/>
                </a:lnTo>
                <a:lnTo>
                  <a:pt x="197" y="37"/>
                </a:lnTo>
                <a:lnTo>
                  <a:pt x="178" y="21"/>
                </a:lnTo>
                <a:lnTo>
                  <a:pt x="182" y="16"/>
                </a:lnTo>
                <a:lnTo>
                  <a:pt x="182" y="6"/>
                </a:lnTo>
                <a:lnTo>
                  <a:pt x="213" y="16"/>
                </a:lnTo>
                <a:lnTo>
                  <a:pt x="219" y="25"/>
                </a:lnTo>
                <a:lnTo>
                  <a:pt x="228" y="37"/>
                </a:lnTo>
                <a:lnTo>
                  <a:pt x="244" y="37"/>
                </a:lnTo>
                <a:lnTo>
                  <a:pt x="250" y="31"/>
                </a:lnTo>
                <a:lnTo>
                  <a:pt x="240" y="16"/>
                </a:lnTo>
                <a:lnTo>
                  <a:pt x="244" y="0"/>
                </a:lnTo>
                <a:lnTo>
                  <a:pt x="296" y="37"/>
                </a:lnTo>
                <a:lnTo>
                  <a:pt x="302"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20" name=""/>
          <p:cNvSpPr/>
          <p:nvPr/>
        </p:nvSpPr>
        <p:spPr>
          <a:xfrm>
            <a:off x="3722760" y="3897360"/>
            <a:ext cx="125280" cy="115920"/>
          </a:xfrm>
          <a:custGeom>
            <a:avLst/>
            <a:gdLst/>
            <a:ahLst/>
            <a:rect l="l" t="t" r="r" b="b"/>
            <a:pathLst>
              <a:path w="157" h="147">
                <a:moveTo>
                  <a:pt x="157" y="6"/>
                </a:moveTo>
                <a:lnTo>
                  <a:pt x="148" y="37"/>
                </a:lnTo>
                <a:lnTo>
                  <a:pt x="142" y="111"/>
                </a:lnTo>
                <a:lnTo>
                  <a:pt x="157" y="142"/>
                </a:lnTo>
                <a:lnTo>
                  <a:pt x="157" y="147"/>
                </a:lnTo>
                <a:lnTo>
                  <a:pt x="22" y="64"/>
                </a:lnTo>
                <a:lnTo>
                  <a:pt x="12" y="49"/>
                </a:lnTo>
                <a:lnTo>
                  <a:pt x="0" y="37"/>
                </a:lnTo>
                <a:lnTo>
                  <a:pt x="53" y="16"/>
                </a:lnTo>
                <a:lnTo>
                  <a:pt x="142" y="0"/>
                </a:lnTo>
                <a:lnTo>
                  <a:pt x="148" y="6"/>
                </a:lnTo>
                <a:lnTo>
                  <a:pt x="157" y="6"/>
                </a:lnTo>
                <a:close/>
              </a:path>
            </a:pathLst>
          </a:custGeom>
          <a:solidFill>
            <a:srgbClr val="e6f5fa"/>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21" name=""/>
          <p:cNvSpPr/>
          <p:nvPr/>
        </p:nvSpPr>
        <p:spPr>
          <a:xfrm>
            <a:off x="3863880" y="3897360"/>
            <a:ext cx="282600" cy="201600"/>
          </a:xfrm>
          <a:custGeom>
            <a:avLst/>
            <a:gdLst/>
            <a:ahLst/>
            <a:rect l="l" t="t" r="r" b="b"/>
            <a:pathLst>
              <a:path w="355" h="256">
                <a:moveTo>
                  <a:pt x="339" y="64"/>
                </a:moveTo>
                <a:lnTo>
                  <a:pt x="355" y="116"/>
                </a:lnTo>
                <a:lnTo>
                  <a:pt x="345" y="188"/>
                </a:lnTo>
                <a:lnTo>
                  <a:pt x="318" y="225"/>
                </a:lnTo>
                <a:lnTo>
                  <a:pt x="260" y="256"/>
                </a:lnTo>
                <a:lnTo>
                  <a:pt x="203" y="250"/>
                </a:lnTo>
                <a:lnTo>
                  <a:pt x="68" y="198"/>
                </a:lnTo>
                <a:lnTo>
                  <a:pt x="27" y="178"/>
                </a:lnTo>
                <a:lnTo>
                  <a:pt x="0" y="116"/>
                </a:lnTo>
                <a:lnTo>
                  <a:pt x="0" y="33"/>
                </a:lnTo>
                <a:lnTo>
                  <a:pt x="15" y="0"/>
                </a:lnTo>
                <a:lnTo>
                  <a:pt x="194" y="16"/>
                </a:lnTo>
                <a:lnTo>
                  <a:pt x="339" y="64"/>
                </a:lnTo>
                <a:close/>
              </a:path>
            </a:pathLst>
          </a:custGeom>
          <a:solidFill>
            <a:srgbClr val="cc9933"/>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22" name=""/>
          <p:cNvSpPr/>
          <p:nvPr/>
        </p:nvSpPr>
        <p:spPr>
          <a:xfrm>
            <a:off x="3948120" y="3940200"/>
            <a:ext cx="108000" cy="93600"/>
          </a:xfrm>
          <a:custGeom>
            <a:avLst/>
            <a:gdLst/>
            <a:ahLst/>
            <a:rect l="l" t="t" r="r" b="b"/>
            <a:pathLst>
              <a:path w="135" h="119">
                <a:moveTo>
                  <a:pt x="135" y="57"/>
                </a:moveTo>
                <a:lnTo>
                  <a:pt x="129" y="93"/>
                </a:lnTo>
                <a:lnTo>
                  <a:pt x="93" y="119"/>
                </a:lnTo>
                <a:lnTo>
                  <a:pt x="36" y="109"/>
                </a:lnTo>
                <a:lnTo>
                  <a:pt x="21" y="97"/>
                </a:lnTo>
                <a:lnTo>
                  <a:pt x="0" y="66"/>
                </a:lnTo>
                <a:lnTo>
                  <a:pt x="3" y="41"/>
                </a:lnTo>
                <a:lnTo>
                  <a:pt x="40" y="4"/>
                </a:lnTo>
                <a:lnTo>
                  <a:pt x="56" y="0"/>
                </a:lnTo>
                <a:lnTo>
                  <a:pt x="108" y="4"/>
                </a:lnTo>
                <a:lnTo>
                  <a:pt x="135"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23" name=""/>
          <p:cNvSpPr/>
          <p:nvPr/>
        </p:nvSpPr>
        <p:spPr>
          <a:xfrm>
            <a:off x="4110120" y="3959280"/>
            <a:ext cx="258840" cy="164880"/>
          </a:xfrm>
          <a:custGeom>
            <a:avLst/>
            <a:gdLst/>
            <a:ahLst/>
            <a:rect l="l" t="t" r="r" b="b"/>
            <a:pathLst>
              <a:path w="328" h="207">
                <a:moveTo>
                  <a:pt x="214" y="77"/>
                </a:moveTo>
                <a:lnTo>
                  <a:pt x="318" y="164"/>
                </a:lnTo>
                <a:lnTo>
                  <a:pt x="328" y="176"/>
                </a:lnTo>
                <a:lnTo>
                  <a:pt x="328" y="193"/>
                </a:lnTo>
                <a:lnTo>
                  <a:pt x="146" y="207"/>
                </a:lnTo>
                <a:lnTo>
                  <a:pt x="0" y="193"/>
                </a:lnTo>
                <a:lnTo>
                  <a:pt x="68" y="118"/>
                </a:lnTo>
                <a:lnTo>
                  <a:pt x="84" y="62"/>
                </a:lnTo>
                <a:lnTo>
                  <a:pt x="78" y="0"/>
                </a:lnTo>
                <a:lnTo>
                  <a:pt x="171" y="52"/>
                </a:lnTo>
                <a:lnTo>
                  <a:pt x="214" y="77"/>
                </a:lnTo>
                <a:close/>
              </a:path>
            </a:pathLst>
          </a:custGeom>
          <a:solidFill>
            <a:srgbClr val="e6f5fa"/>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24" name=""/>
          <p:cNvSpPr/>
          <p:nvPr/>
        </p:nvSpPr>
        <p:spPr>
          <a:xfrm>
            <a:off x="2254320" y="5079960"/>
            <a:ext cx="110880" cy="77760"/>
          </a:xfrm>
          <a:custGeom>
            <a:avLst/>
            <a:gdLst/>
            <a:ahLst/>
            <a:rect l="l" t="t" r="r" b="b"/>
            <a:pathLst>
              <a:path w="140" h="99">
                <a:moveTo>
                  <a:pt x="140" y="43"/>
                </a:moveTo>
                <a:lnTo>
                  <a:pt x="72" y="78"/>
                </a:lnTo>
                <a:lnTo>
                  <a:pt x="0" y="99"/>
                </a:lnTo>
                <a:lnTo>
                  <a:pt x="0" y="0"/>
                </a:lnTo>
                <a:lnTo>
                  <a:pt x="115" y="37"/>
                </a:lnTo>
                <a:lnTo>
                  <a:pt x="140" y="43"/>
                </a:lnTo>
                <a:close/>
              </a:path>
            </a:pathLst>
          </a:custGeom>
          <a:solidFill>
            <a:srgbClr val="cc99cc"/>
          </a:solidFill>
          <a:ln w="0">
            <a:noFill/>
          </a:ln>
        </p:spPr>
        <p:style>
          <a:lnRef idx="0"/>
          <a:fillRef idx="0"/>
          <a:effectRef idx="0"/>
          <a:fontRef idx="minor"/>
        </p:style>
        <p:txBody>
          <a:bodyPr lIns="90000" rIns="90000" tIns="30960" bIns="30960" anchor="t">
            <a:noAutofit/>
          </a:bodyPr>
          <a:p>
            <a:endParaRPr b="0" lang="en-US" sz="2400" spc="-1" strike="noStrike">
              <a:solidFill>
                <a:srgbClr val="ffff00"/>
              </a:solidFill>
              <a:latin typeface="Times New Roman"/>
            </a:endParaRPr>
          </a:p>
        </p:txBody>
      </p:sp>
      <p:sp>
        <p:nvSpPr>
          <p:cNvPr id="125" name=""/>
          <p:cNvSpPr/>
          <p:nvPr/>
        </p:nvSpPr>
        <p:spPr>
          <a:xfrm>
            <a:off x="4732200" y="5033880"/>
            <a:ext cx="2116440" cy="1532160"/>
          </a:xfrm>
          <a:custGeom>
            <a:avLst/>
            <a:gdLst/>
            <a:ahLst/>
            <a:rect l="l" t="t" r="r" b="b"/>
            <a:pathLst>
              <a:path w="2664" h="1929">
                <a:moveTo>
                  <a:pt x="2645" y="1892"/>
                </a:moveTo>
                <a:lnTo>
                  <a:pt x="2639" y="1929"/>
                </a:lnTo>
                <a:lnTo>
                  <a:pt x="1493" y="1929"/>
                </a:lnTo>
                <a:lnTo>
                  <a:pt x="403" y="1919"/>
                </a:lnTo>
                <a:lnTo>
                  <a:pt x="355" y="1919"/>
                </a:lnTo>
                <a:lnTo>
                  <a:pt x="0" y="1914"/>
                </a:lnTo>
                <a:lnTo>
                  <a:pt x="108" y="1846"/>
                </a:lnTo>
                <a:lnTo>
                  <a:pt x="312" y="1704"/>
                </a:lnTo>
                <a:lnTo>
                  <a:pt x="607" y="1499"/>
                </a:lnTo>
                <a:lnTo>
                  <a:pt x="804" y="1324"/>
                </a:lnTo>
                <a:lnTo>
                  <a:pt x="839" y="1314"/>
                </a:lnTo>
                <a:lnTo>
                  <a:pt x="923" y="1268"/>
                </a:lnTo>
                <a:lnTo>
                  <a:pt x="996" y="1231"/>
                </a:lnTo>
                <a:lnTo>
                  <a:pt x="981" y="1283"/>
                </a:lnTo>
                <a:lnTo>
                  <a:pt x="960" y="1309"/>
                </a:lnTo>
                <a:lnTo>
                  <a:pt x="960" y="1320"/>
                </a:lnTo>
                <a:lnTo>
                  <a:pt x="975" y="1336"/>
                </a:lnTo>
                <a:lnTo>
                  <a:pt x="1059" y="1295"/>
                </a:lnTo>
                <a:lnTo>
                  <a:pt x="987" y="1419"/>
                </a:lnTo>
                <a:lnTo>
                  <a:pt x="851" y="1596"/>
                </a:lnTo>
                <a:lnTo>
                  <a:pt x="851" y="1607"/>
                </a:lnTo>
                <a:lnTo>
                  <a:pt x="861" y="1617"/>
                </a:lnTo>
                <a:lnTo>
                  <a:pt x="898" y="1596"/>
                </a:lnTo>
                <a:lnTo>
                  <a:pt x="1084" y="1423"/>
                </a:lnTo>
                <a:lnTo>
                  <a:pt x="1324" y="1179"/>
                </a:lnTo>
                <a:lnTo>
                  <a:pt x="1596" y="867"/>
                </a:lnTo>
                <a:lnTo>
                  <a:pt x="1821" y="574"/>
                </a:lnTo>
                <a:lnTo>
                  <a:pt x="1956" y="361"/>
                </a:lnTo>
                <a:lnTo>
                  <a:pt x="2092" y="169"/>
                </a:lnTo>
                <a:lnTo>
                  <a:pt x="2096" y="163"/>
                </a:lnTo>
                <a:lnTo>
                  <a:pt x="2077" y="262"/>
                </a:lnTo>
                <a:lnTo>
                  <a:pt x="2077" y="271"/>
                </a:lnTo>
                <a:lnTo>
                  <a:pt x="2092" y="281"/>
                </a:lnTo>
                <a:lnTo>
                  <a:pt x="2121" y="277"/>
                </a:lnTo>
                <a:lnTo>
                  <a:pt x="2207" y="203"/>
                </a:lnTo>
                <a:lnTo>
                  <a:pt x="2269" y="126"/>
                </a:lnTo>
                <a:lnTo>
                  <a:pt x="2340" y="68"/>
                </a:lnTo>
                <a:lnTo>
                  <a:pt x="2340" y="147"/>
                </a:lnTo>
                <a:lnTo>
                  <a:pt x="2290" y="262"/>
                </a:lnTo>
                <a:lnTo>
                  <a:pt x="2207" y="388"/>
                </a:lnTo>
                <a:lnTo>
                  <a:pt x="2207" y="397"/>
                </a:lnTo>
                <a:lnTo>
                  <a:pt x="2216" y="409"/>
                </a:lnTo>
                <a:lnTo>
                  <a:pt x="2247" y="392"/>
                </a:lnTo>
                <a:lnTo>
                  <a:pt x="2435" y="194"/>
                </a:lnTo>
                <a:lnTo>
                  <a:pt x="2488" y="95"/>
                </a:lnTo>
                <a:lnTo>
                  <a:pt x="2556" y="27"/>
                </a:lnTo>
                <a:lnTo>
                  <a:pt x="2577" y="68"/>
                </a:lnTo>
                <a:lnTo>
                  <a:pt x="2602" y="68"/>
                </a:lnTo>
                <a:lnTo>
                  <a:pt x="2664" y="0"/>
                </a:lnTo>
                <a:lnTo>
                  <a:pt x="2660" y="981"/>
                </a:lnTo>
                <a:lnTo>
                  <a:pt x="2645" y="1892"/>
                </a:lnTo>
                <a:close/>
              </a:path>
            </a:pathLst>
          </a:custGeom>
          <a:solidFill>
            <a:srgbClr val="cc99cc"/>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26" name=""/>
          <p:cNvSpPr/>
          <p:nvPr/>
        </p:nvSpPr>
        <p:spPr>
          <a:xfrm>
            <a:off x="4175280" y="5087880"/>
            <a:ext cx="814320" cy="460440"/>
          </a:xfrm>
          <a:custGeom>
            <a:avLst/>
            <a:gdLst/>
            <a:ahLst/>
            <a:rect l="l" t="t" r="r" b="b"/>
            <a:pathLst>
              <a:path w="1026" h="579">
                <a:moveTo>
                  <a:pt x="118" y="21"/>
                </a:moveTo>
                <a:lnTo>
                  <a:pt x="67" y="58"/>
                </a:lnTo>
                <a:lnTo>
                  <a:pt x="31" y="122"/>
                </a:lnTo>
                <a:lnTo>
                  <a:pt x="31" y="199"/>
                </a:lnTo>
                <a:lnTo>
                  <a:pt x="83" y="262"/>
                </a:lnTo>
                <a:lnTo>
                  <a:pt x="145" y="293"/>
                </a:lnTo>
                <a:lnTo>
                  <a:pt x="302" y="341"/>
                </a:lnTo>
                <a:lnTo>
                  <a:pt x="395" y="432"/>
                </a:lnTo>
                <a:lnTo>
                  <a:pt x="479" y="516"/>
                </a:lnTo>
                <a:lnTo>
                  <a:pt x="519" y="537"/>
                </a:lnTo>
                <a:lnTo>
                  <a:pt x="587" y="558"/>
                </a:lnTo>
                <a:lnTo>
                  <a:pt x="686" y="554"/>
                </a:lnTo>
                <a:lnTo>
                  <a:pt x="744" y="533"/>
                </a:lnTo>
                <a:lnTo>
                  <a:pt x="797" y="506"/>
                </a:lnTo>
                <a:lnTo>
                  <a:pt x="905" y="490"/>
                </a:lnTo>
                <a:lnTo>
                  <a:pt x="958" y="459"/>
                </a:lnTo>
                <a:lnTo>
                  <a:pt x="994" y="407"/>
                </a:lnTo>
                <a:lnTo>
                  <a:pt x="1004" y="351"/>
                </a:lnTo>
                <a:lnTo>
                  <a:pt x="989" y="240"/>
                </a:lnTo>
                <a:lnTo>
                  <a:pt x="989" y="234"/>
                </a:lnTo>
                <a:lnTo>
                  <a:pt x="1010" y="256"/>
                </a:lnTo>
                <a:lnTo>
                  <a:pt x="1026" y="366"/>
                </a:lnTo>
                <a:lnTo>
                  <a:pt x="1004" y="432"/>
                </a:lnTo>
                <a:lnTo>
                  <a:pt x="973" y="481"/>
                </a:lnTo>
                <a:lnTo>
                  <a:pt x="886" y="521"/>
                </a:lnTo>
                <a:lnTo>
                  <a:pt x="775" y="537"/>
                </a:lnTo>
                <a:lnTo>
                  <a:pt x="692" y="574"/>
                </a:lnTo>
                <a:lnTo>
                  <a:pt x="566" y="579"/>
                </a:lnTo>
                <a:lnTo>
                  <a:pt x="473" y="543"/>
                </a:lnTo>
                <a:lnTo>
                  <a:pt x="391" y="465"/>
                </a:lnTo>
                <a:lnTo>
                  <a:pt x="296" y="360"/>
                </a:lnTo>
                <a:lnTo>
                  <a:pt x="225" y="333"/>
                </a:lnTo>
                <a:lnTo>
                  <a:pt x="145" y="314"/>
                </a:lnTo>
                <a:lnTo>
                  <a:pt x="83" y="293"/>
                </a:lnTo>
                <a:lnTo>
                  <a:pt x="9" y="209"/>
                </a:lnTo>
                <a:lnTo>
                  <a:pt x="0" y="147"/>
                </a:lnTo>
                <a:lnTo>
                  <a:pt x="21" y="85"/>
                </a:lnTo>
                <a:lnTo>
                  <a:pt x="46" y="46"/>
                </a:lnTo>
                <a:lnTo>
                  <a:pt x="108" y="0"/>
                </a:lnTo>
                <a:lnTo>
                  <a:pt x="118" y="0"/>
                </a:lnTo>
                <a:lnTo>
                  <a:pt x="118"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27" name=""/>
          <p:cNvSpPr/>
          <p:nvPr/>
        </p:nvSpPr>
        <p:spPr>
          <a:xfrm>
            <a:off x="3649680" y="5430960"/>
            <a:ext cx="1285920" cy="836640"/>
          </a:xfrm>
          <a:custGeom>
            <a:avLst/>
            <a:gdLst/>
            <a:ahLst/>
            <a:rect l="l" t="t" r="r" b="b"/>
            <a:pathLst>
              <a:path w="1622" h="1055">
                <a:moveTo>
                  <a:pt x="408" y="194"/>
                </a:moveTo>
                <a:lnTo>
                  <a:pt x="700" y="281"/>
                </a:lnTo>
                <a:lnTo>
                  <a:pt x="813" y="324"/>
                </a:lnTo>
                <a:lnTo>
                  <a:pt x="1001" y="434"/>
                </a:lnTo>
                <a:lnTo>
                  <a:pt x="1143" y="456"/>
                </a:lnTo>
                <a:lnTo>
                  <a:pt x="1230" y="456"/>
                </a:lnTo>
                <a:lnTo>
                  <a:pt x="1360" y="491"/>
                </a:lnTo>
                <a:lnTo>
                  <a:pt x="1486" y="555"/>
                </a:lnTo>
                <a:lnTo>
                  <a:pt x="1507" y="570"/>
                </a:lnTo>
                <a:lnTo>
                  <a:pt x="1560" y="586"/>
                </a:lnTo>
                <a:lnTo>
                  <a:pt x="1622" y="613"/>
                </a:lnTo>
                <a:lnTo>
                  <a:pt x="1622" y="642"/>
                </a:lnTo>
                <a:lnTo>
                  <a:pt x="1381" y="898"/>
                </a:lnTo>
                <a:lnTo>
                  <a:pt x="1179" y="1018"/>
                </a:lnTo>
                <a:lnTo>
                  <a:pt x="1121" y="1039"/>
                </a:lnTo>
                <a:lnTo>
                  <a:pt x="1013" y="1055"/>
                </a:lnTo>
                <a:lnTo>
                  <a:pt x="852" y="1039"/>
                </a:lnTo>
                <a:lnTo>
                  <a:pt x="700" y="999"/>
                </a:lnTo>
                <a:lnTo>
                  <a:pt x="522" y="919"/>
                </a:lnTo>
                <a:lnTo>
                  <a:pt x="454" y="882"/>
                </a:lnTo>
                <a:lnTo>
                  <a:pt x="349" y="799"/>
                </a:lnTo>
                <a:lnTo>
                  <a:pt x="247" y="679"/>
                </a:lnTo>
                <a:lnTo>
                  <a:pt x="167" y="543"/>
                </a:lnTo>
                <a:lnTo>
                  <a:pt x="109" y="429"/>
                </a:lnTo>
                <a:lnTo>
                  <a:pt x="47" y="281"/>
                </a:lnTo>
                <a:lnTo>
                  <a:pt x="43" y="241"/>
                </a:lnTo>
                <a:lnTo>
                  <a:pt x="10" y="169"/>
                </a:lnTo>
                <a:lnTo>
                  <a:pt x="0" y="33"/>
                </a:lnTo>
                <a:lnTo>
                  <a:pt x="10" y="0"/>
                </a:lnTo>
                <a:lnTo>
                  <a:pt x="266" y="142"/>
                </a:lnTo>
                <a:lnTo>
                  <a:pt x="408" y="1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28" name=""/>
          <p:cNvSpPr/>
          <p:nvPr/>
        </p:nvSpPr>
        <p:spPr>
          <a:xfrm>
            <a:off x="3691080" y="5472000"/>
            <a:ext cx="1203120" cy="486000"/>
          </a:xfrm>
          <a:custGeom>
            <a:avLst/>
            <a:gdLst/>
            <a:ahLst/>
            <a:rect l="l" t="t" r="r" b="b"/>
            <a:pathLst>
              <a:path w="1516" h="611">
                <a:moveTo>
                  <a:pt x="89" y="53"/>
                </a:moveTo>
                <a:lnTo>
                  <a:pt x="308" y="152"/>
                </a:lnTo>
                <a:lnTo>
                  <a:pt x="407" y="185"/>
                </a:lnTo>
                <a:lnTo>
                  <a:pt x="541" y="229"/>
                </a:lnTo>
                <a:lnTo>
                  <a:pt x="708" y="278"/>
                </a:lnTo>
                <a:lnTo>
                  <a:pt x="944" y="404"/>
                </a:lnTo>
                <a:lnTo>
                  <a:pt x="1022" y="423"/>
                </a:lnTo>
                <a:lnTo>
                  <a:pt x="1198" y="433"/>
                </a:lnTo>
                <a:lnTo>
                  <a:pt x="1340" y="481"/>
                </a:lnTo>
                <a:lnTo>
                  <a:pt x="1476" y="549"/>
                </a:lnTo>
                <a:lnTo>
                  <a:pt x="1516" y="571"/>
                </a:lnTo>
                <a:lnTo>
                  <a:pt x="1377" y="602"/>
                </a:lnTo>
                <a:lnTo>
                  <a:pt x="1161" y="611"/>
                </a:lnTo>
                <a:lnTo>
                  <a:pt x="997" y="580"/>
                </a:lnTo>
                <a:lnTo>
                  <a:pt x="861" y="543"/>
                </a:lnTo>
                <a:lnTo>
                  <a:pt x="595" y="433"/>
                </a:lnTo>
                <a:lnTo>
                  <a:pt x="475" y="382"/>
                </a:lnTo>
                <a:lnTo>
                  <a:pt x="256" y="241"/>
                </a:lnTo>
                <a:lnTo>
                  <a:pt x="132" y="158"/>
                </a:lnTo>
                <a:lnTo>
                  <a:pt x="0" y="6"/>
                </a:lnTo>
                <a:lnTo>
                  <a:pt x="0" y="0"/>
                </a:lnTo>
                <a:lnTo>
                  <a:pt x="15" y="0"/>
                </a:lnTo>
                <a:lnTo>
                  <a:pt x="89" y="53"/>
                </a:lnTo>
                <a:close/>
              </a:path>
            </a:pathLst>
          </a:custGeom>
          <a:solidFill>
            <a:srgbClr val="cc33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29" name=""/>
          <p:cNvSpPr/>
          <p:nvPr/>
        </p:nvSpPr>
        <p:spPr>
          <a:xfrm>
            <a:off x="3673440" y="5502240"/>
            <a:ext cx="1212840" cy="741240"/>
          </a:xfrm>
          <a:custGeom>
            <a:avLst/>
            <a:gdLst/>
            <a:ahLst/>
            <a:rect l="l" t="t" r="r" b="b"/>
            <a:pathLst>
              <a:path w="1529" h="935">
                <a:moveTo>
                  <a:pt x="439" y="345"/>
                </a:moveTo>
                <a:lnTo>
                  <a:pt x="571" y="413"/>
                </a:lnTo>
                <a:lnTo>
                  <a:pt x="673" y="454"/>
                </a:lnTo>
                <a:lnTo>
                  <a:pt x="861" y="534"/>
                </a:lnTo>
                <a:lnTo>
                  <a:pt x="1007" y="574"/>
                </a:lnTo>
                <a:lnTo>
                  <a:pt x="1242" y="605"/>
                </a:lnTo>
                <a:lnTo>
                  <a:pt x="1449" y="590"/>
                </a:lnTo>
                <a:lnTo>
                  <a:pt x="1529" y="568"/>
                </a:lnTo>
                <a:lnTo>
                  <a:pt x="1523" y="590"/>
                </a:lnTo>
                <a:lnTo>
                  <a:pt x="1340" y="784"/>
                </a:lnTo>
                <a:lnTo>
                  <a:pt x="1224" y="855"/>
                </a:lnTo>
                <a:lnTo>
                  <a:pt x="1148" y="896"/>
                </a:lnTo>
                <a:lnTo>
                  <a:pt x="1143" y="892"/>
                </a:lnTo>
                <a:lnTo>
                  <a:pt x="1117" y="914"/>
                </a:lnTo>
                <a:lnTo>
                  <a:pt x="1013" y="935"/>
                </a:lnTo>
                <a:lnTo>
                  <a:pt x="861" y="929"/>
                </a:lnTo>
                <a:lnTo>
                  <a:pt x="689" y="886"/>
                </a:lnTo>
                <a:lnTo>
                  <a:pt x="485" y="799"/>
                </a:lnTo>
                <a:lnTo>
                  <a:pt x="361" y="710"/>
                </a:lnTo>
                <a:lnTo>
                  <a:pt x="309" y="658"/>
                </a:lnTo>
                <a:lnTo>
                  <a:pt x="225" y="565"/>
                </a:lnTo>
                <a:lnTo>
                  <a:pt x="132" y="376"/>
                </a:lnTo>
                <a:lnTo>
                  <a:pt x="95" y="324"/>
                </a:lnTo>
                <a:lnTo>
                  <a:pt x="49" y="192"/>
                </a:lnTo>
                <a:lnTo>
                  <a:pt x="22" y="101"/>
                </a:lnTo>
                <a:lnTo>
                  <a:pt x="0" y="58"/>
                </a:lnTo>
                <a:lnTo>
                  <a:pt x="0" y="0"/>
                </a:lnTo>
                <a:lnTo>
                  <a:pt x="157" y="163"/>
                </a:lnTo>
                <a:lnTo>
                  <a:pt x="439" y="345"/>
                </a:lnTo>
                <a:close/>
              </a:path>
            </a:pathLst>
          </a:custGeom>
          <a:solidFill>
            <a:srgbClr val="cc33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30" name=""/>
          <p:cNvSpPr/>
          <p:nvPr/>
        </p:nvSpPr>
        <p:spPr>
          <a:xfrm>
            <a:off x="5805360" y="5854680"/>
            <a:ext cx="3240" cy="20520"/>
          </a:xfrm>
          <a:custGeom>
            <a:avLst/>
            <a:gdLst/>
            <a:ahLst/>
            <a:rect l="l" t="t" r="r" b="b"/>
            <a:pathLst>
              <a:path w="4" h="27">
                <a:moveTo>
                  <a:pt x="4" y="27"/>
                </a:moveTo>
                <a:lnTo>
                  <a:pt x="0" y="0"/>
                </a:lnTo>
                <a:lnTo>
                  <a:pt x="4" y="10"/>
                </a:lnTo>
                <a:lnTo>
                  <a:pt x="4"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00"/>
              </a:solidFill>
              <a:latin typeface="Times New Roman"/>
            </a:endParaRPr>
          </a:p>
        </p:txBody>
      </p:sp>
      <p:sp>
        <p:nvSpPr>
          <p:cNvPr id="131" name=""/>
          <p:cNvSpPr/>
          <p:nvPr/>
        </p:nvSpPr>
        <p:spPr>
          <a:xfrm>
            <a:off x="5635800" y="4314960"/>
            <a:ext cx="425160" cy="206280"/>
          </a:xfrm>
          <a:custGeom>
            <a:avLst/>
            <a:gdLst/>
            <a:ahLst/>
            <a:rect l="l" t="t" r="r" b="b"/>
            <a:pathLst>
              <a:path w="537" h="260">
                <a:moveTo>
                  <a:pt x="237" y="22"/>
                </a:moveTo>
                <a:lnTo>
                  <a:pt x="392" y="93"/>
                </a:lnTo>
                <a:lnTo>
                  <a:pt x="528" y="218"/>
                </a:lnTo>
                <a:lnTo>
                  <a:pt x="537" y="245"/>
                </a:lnTo>
                <a:lnTo>
                  <a:pt x="537" y="260"/>
                </a:lnTo>
                <a:lnTo>
                  <a:pt x="522" y="254"/>
                </a:lnTo>
                <a:lnTo>
                  <a:pt x="413" y="134"/>
                </a:lnTo>
                <a:lnTo>
                  <a:pt x="277" y="57"/>
                </a:lnTo>
                <a:lnTo>
                  <a:pt x="194" y="31"/>
                </a:lnTo>
                <a:lnTo>
                  <a:pt x="37" y="22"/>
                </a:lnTo>
                <a:lnTo>
                  <a:pt x="12" y="31"/>
                </a:lnTo>
                <a:lnTo>
                  <a:pt x="6" y="31"/>
                </a:lnTo>
                <a:lnTo>
                  <a:pt x="0" y="28"/>
                </a:lnTo>
                <a:lnTo>
                  <a:pt x="0" y="12"/>
                </a:lnTo>
                <a:lnTo>
                  <a:pt x="111" y="0"/>
                </a:lnTo>
                <a:lnTo>
                  <a:pt x="179" y="16"/>
                </a:lnTo>
                <a:lnTo>
                  <a:pt x="237" y="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32" name=""/>
          <p:cNvSpPr/>
          <p:nvPr/>
        </p:nvSpPr>
        <p:spPr>
          <a:xfrm>
            <a:off x="5321160" y="4363920"/>
            <a:ext cx="712800" cy="228600"/>
          </a:xfrm>
          <a:custGeom>
            <a:avLst/>
            <a:gdLst/>
            <a:ahLst/>
            <a:rect l="l" t="t" r="r" b="b"/>
            <a:pathLst>
              <a:path w="898" h="287">
                <a:moveTo>
                  <a:pt x="538" y="22"/>
                </a:moveTo>
                <a:lnTo>
                  <a:pt x="549" y="12"/>
                </a:lnTo>
                <a:lnTo>
                  <a:pt x="606" y="6"/>
                </a:lnTo>
                <a:lnTo>
                  <a:pt x="615" y="16"/>
                </a:lnTo>
                <a:lnTo>
                  <a:pt x="580" y="31"/>
                </a:lnTo>
                <a:lnTo>
                  <a:pt x="590" y="41"/>
                </a:lnTo>
                <a:lnTo>
                  <a:pt x="664" y="37"/>
                </a:lnTo>
                <a:lnTo>
                  <a:pt x="677" y="37"/>
                </a:lnTo>
                <a:lnTo>
                  <a:pt x="677" y="47"/>
                </a:lnTo>
                <a:lnTo>
                  <a:pt x="642" y="63"/>
                </a:lnTo>
                <a:lnTo>
                  <a:pt x="668" y="78"/>
                </a:lnTo>
                <a:lnTo>
                  <a:pt x="753" y="78"/>
                </a:lnTo>
                <a:lnTo>
                  <a:pt x="757" y="84"/>
                </a:lnTo>
                <a:lnTo>
                  <a:pt x="757" y="94"/>
                </a:lnTo>
                <a:lnTo>
                  <a:pt x="710" y="99"/>
                </a:lnTo>
                <a:lnTo>
                  <a:pt x="737" y="121"/>
                </a:lnTo>
                <a:lnTo>
                  <a:pt x="782" y="121"/>
                </a:lnTo>
                <a:lnTo>
                  <a:pt x="815" y="126"/>
                </a:lnTo>
                <a:lnTo>
                  <a:pt x="815" y="130"/>
                </a:lnTo>
                <a:lnTo>
                  <a:pt x="772" y="142"/>
                </a:lnTo>
                <a:lnTo>
                  <a:pt x="788" y="156"/>
                </a:lnTo>
                <a:lnTo>
                  <a:pt x="840" y="152"/>
                </a:lnTo>
                <a:lnTo>
                  <a:pt x="856" y="152"/>
                </a:lnTo>
                <a:lnTo>
                  <a:pt x="856" y="161"/>
                </a:lnTo>
                <a:lnTo>
                  <a:pt x="862" y="167"/>
                </a:lnTo>
                <a:lnTo>
                  <a:pt x="815" y="177"/>
                </a:lnTo>
                <a:lnTo>
                  <a:pt x="825" y="192"/>
                </a:lnTo>
                <a:lnTo>
                  <a:pt x="877" y="192"/>
                </a:lnTo>
                <a:lnTo>
                  <a:pt x="887" y="208"/>
                </a:lnTo>
                <a:lnTo>
                  <a:pt x="871" y="225"/>
                </a:lnTo>
                <a:lnTo>
                  <a:pt x="898" y="245"/>
                </a:lnTo>
                <a:lnTo>
                  <a:pt x="898" y="254"/>
                </a:lnTo>
                <a:lnTo>
                  <a:pt x="852" y="254"/>
                </a:lnTo>
                <a:lnTo>
                  <a:pt x="782" y="276"/>
                </a:lnTo>
                <a:lnTo>
                  <a:pt x="549" y="287"/>
                </a:lnTo>
                <a:lnTo>
                  <a:pt x="330" y="254"/>
                </a:lnTo>
                <a:lnTo>
                  <a:pt x="142" y="183"/>
                </a:lnTo>
                <a:lnTo>
                  <a:pt x="0" y="115"/>
                </a:lnTo>
                <a:lnTo>
                  <a:pt x="6" y="84"/>
                </a:lnTo>
                <a:lnTo>
                  <a:pt x="163" y="28"/>
                </a:lnTo>
                <a:lnTo>
                  <a:pt x="284" y="0"/>
                </a:lnTo>
                <a:lnTo>
                  <a:pt x="476" y="6"/>
                </a:lnTo>
                <a:lnTo>
                  <a:pt x="538" y="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33" name=""/>
          <p:cNvSpPr/>
          <p:nvPr/>
        </p:nvSpPr>
        <p:spPr>
          <a:xfrm>
            <a:off x="5486400" y="4386240"/>
            <a:ext cx="257040" cy="171360"/>
          </a:xfrm>
          <a:custGeom>
            <a:avLst/>
            <a:gdLst/>
            <a:ahLst/>
            <a:rect l="l" t="t" r="r" b="b"/>
            <a:pathLst>
              <a:path w="324" h="217">
                <a:moveTo>
                  <a:pt x="302" y="19"/>
                </a:moveTo>
                <a:lnTo>
                  <a:pt x="324" y="71"/>
                </a:lnTo>
                <a:lnTo>
                  <a:pt x="312" y="161"/>
                </a:lnTo>
                <a:lnTo>
                  <a:pt x="297" y="186"/>
                </a:lnTo>
                <a:lnTo>
                  <a:pt x="235" y="217"/>
                </a:lnTo>
                <a:lnTo>
                  <a:pt x="176" y="213"/>
                </a:lnTo>
                <a:lnTo>
                  <a:pt x="46" y="176"/>
                </a:lnTo>
                <a:lnTo>
                  <a:pt x="0" y="124"/>
                </a:lnTo>
                <a:lnTo>
                  <a:pt x="0" y="50"/>
                </a:lnTo>
                <a:lnTo>
                  <a:pt x="15" y="23"/>
                </a:lnTo>
                <a:lnTo>
                  <a:pt x="41" y="9"/>
                </a:lnTo>
                <a:lnTo>
                  <a:pt x="83" y="0"/>
                </a:lnTo>
                <a:lnTo>
                  <a:pt x="270" y="3"/>
                </a:lnTo>
                <a:lnTo>
                  <a:pt x="302" y="19"/>
                </a:lnTo>
                <a:close/>
              </a:path>
            </a:pathLst>
          </a:custGeom>
          <a:solidFill>
            <a:srgbClr val="cc9933"/>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34" name=""/>
          <p:cNvSpPr/>
          <p:nvPr/>
        </p:nvSpPr>
        <p:spPr>
          <a:xfrm>
            <a:off x="5357880" y="4402080"/>
            <a:ext cx="108000" cy="100080"/>
          </a:xfrm>
          <a:custGeom>
            <a:avLst/>
            <a:gdLst/>
            <a:ahLst/>
            <a:rect l="l" t="t" r="r" b="b"/>
            <a:pathLst>
              <a:path w="136" h="126">
                <a:moveTo>
                  <a:pt x="126" y="105"/>
                </a:moveTo>
                <a:lnTo>
                  <a:pt x="136" y="114"/>
                </a:lnTo>
                <a:lnTo>
                  <a:pt x="136" y="126"/>
                </a:lnTo>
                <a:lnTo>
                  <a:pt x="58" y="89"/>
                </a:lnTo>
                <a:lnTo>
                  <a:pt x="0" y="52"/>
                </a:lnTo>
                <a:lnTo>
                  <a:pt x="64" y="21"/>
                </a:lnTo>
                <a:lnTo>
                  <a:pt x="136" y="0"/>
                </a:lnTo>
                <a:lnTo>
                  <a:pt x="126" y="64"/>
                </a:lnTo>
                <a:lnTo>
                  <a:pt x="126" y="105"/>
                </a:lnTo>
                <a:close/>
              </a:path>
            </a:pathLst>
          </a:custGeom>
          <a:solidFill>
            <a:srgbClr val="e6f5fa"/>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35" name=""/>
          <p:cNvSpPr/>
          <p:nvPr/>
        </p:nvSpPr>
        <p:spPr>
          <a:xfrm>
            <a:off x="5727600" y="4408560"/>
            <a:ext cx="243000" cy="162000"/>
          </a:xfrm>
          <a:custGeom>
            <a:avLst/>
            <a:gdLst/>
            <a:ahLst/>
            <a:rect l="l" t="t" r="r" b="b"/>
            <a:pathLst>
              <a:path w="307" h="203">
                <a:moveTo>
                  <a:pt x="173" y="64"/>
                </a:moveTo>
                <a:lnTo>
                  <a:pt x="260" y="120"/>
                </a:lnTo>
                <a:lnTo>
                  <a:pt x="307" y="178"/>
                </a:lnTo>
                <a:lnTo>
                  <a:pt x="291" y="188"/>
                </a:lnTo>
                <a:lnTo>
                  <a:pt x="276" y="184"/>
                </a:lnTo>
                <a:lnTo>
                  <a:pt x="266" y="194"/>
                </a:lnTo>
                <a:lnTo>
                  <a:pt x="63" y="203"/>
                </a:lnTo>
                <a:lnTo>
                  <a:pt x="10" y="197"/>
                </a:lnTo>
                <a:lnTo>
                  <a:pt x="0" y="197"/>
                </a:lnTo>
                <a:lnTo>
                  <a:pt x="31" y="163"/>
                </a:lnTo>
                <a:lnTo>
                  <a:pt x="53" y="104"/>
                </a:lnTo>
                <a:lnTo>
                  <a:pt x="47" y="0"/>
                </a:lnTo>
                <a:lnTo>
                  <a:pt x="68" y="6"/>
                </a:lnTo>
                <a:lnTo>
                  <a:pt x="173" y="64"/>
                </a:lnTo>
                <a:close/>
              </a:path>
            </a:pathLst>
          </a:custGeom>
          <a:solidFill>
            <a:srgbClr val="e6f5fa"/>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36" name=""/>
          <p:cNvSpPr/>
          <p:nvPr/>
        </p:nvSpPr>
        <p:spPr>
          <a:xfrm>
            <a:off x="5573880" y="4421160"/>
            <a:ext cx="82440" cy="87480"/>
          </a:xfrm>
          <a:custGeom>
            <a:avLst/>
            <a:gdLst/>
            <a:ahLst/>
            <a:rect l="l" t="t" r="r" b="b"/>
            <a:pathLst>
              <a:path w="104" h="111">
                <a:moveTo>
                  <a:pt x="104" y="27"/>
                </a:moveTo>
                <a:lnTo>
                  <a:pt x="104" y="80"/>
                </a:lnTo>
                <a:lnTo>
                  <a:pt x="83" y="101"/>
                </a:lnTo>
                <a:lnTo>
                  <a:pt x="58" y="111"/>
                </a:lnTo>
                <a:lnTo>
                  <a:pt x="15" y="105"/>
                </a:lnTo>
                <a:lnTo>
                  <a:pt x="0" y="89"/>
                </a:lnTo>
                <a:lnTo>
                  <a:pt x="0" y="43"/>
                </a:lnTo>
                <a:lnTo>
                  <a:pt x="36" y="0"/>
                </a:lnTo>
                <a:lnTo>
                  <a:pt x="83" y="6"/>
                </a:lnTo>
                <a:lnTo>
                  <a:pt x="104" y="27"/>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00"/>
              </a:solidFill>
              <a:latin typeface="Times New Roman"/>
            </a:endParaRPr>
          </a:p>
        </p:txBody>
      </p:sp>
      <p:sp>
        <p:nvSpPr>
          <p:cNvPr id="137" name=""/>
          <p:cNvSpPr/>
          <p:nvPr/>
        </p:nvSpPr>
        <p:spPr>
          <a:xfrm>
            <a:off x="4467240" y="3392640"/>
            <a:ext cx="1955880" cy="3160440"/>
          </a:xfrm>
          <a:custGeom>
            <a:avLst/>
            <a:gdLst/>
            <a:ahLst/>
            <a:rect l="l" t="t" r="r" b="b"/>
            <a:pathLst>
              <a:path w="2465" h="3983">
                <a:moveTo>
                  <a:pt x="0" y="3979"/>
                </a:moveTo>
                <a:lnTo>
                  <a:pt x="97" y="3907"/>
                </a:lnTo>
                <a:lnTo>
                  <a:pt x="268" y="3760"/>
                </a:lnTo>
                <a:lnTo>
                  <a:pt x="440" y="3601"/>
                </a:lnTo>
                <a:lnTo>
                  <a:pt x="613" y="3494"/>
                </a:lnTo>
                <a:lnTo>
                  <a:pt x="772" y="3362"/>
                </a:lnTo>
                <a:lnTo>
                  <a:pt x="904" y="3176"/>
                </a:lnTo>
                <a:lnTo>
                  <a:pt x="1076" y="2951"/>
                </a:lnTo>
                <a:lnTo>
                  <a:pt x="1263" y="2751"/>
                </a:lnTo>
                <a:lnTo>
                  <a:pt x="1488" y="2606"/>
                </a:lnTo>
                <a:lnTo>
                  <a:pt x="1660" y="2447"/>
                </a:lnTo>
                <a:lnTo>
                  <a:pt x="1806" y="2274"/>
                </a:lnTo>
                <a:lnTo>
                  <a:pt x="1939" y="2050"/>
                </a:lnTo>
                <a:lnTo>
                  <a:pt x="1992" y="1811"/>
                </a:lnTo>
                <a:lnTo>
                  <a:pt x="2033" y="1611"/>
                </a:lnTo>
                <a:lnTo>
                  <a:pt x="2019" y="1386"/>
                </a:lnTo>
                <a:lnTo>
                  <a:pt x="1887" y="1227"/>
                </a:lnTo>
                <a:lnTo>
                  <a:pt x="1660" y="1148"/>
                </a:lnTo>
                <a:lnTo>
                  <a:pt x="1449" y="1161"/>
                </a:lnTo>
                <a:lnTo>
                  <a:pt x="1170" y="1202"/>
                </a:lnTo>
                <a:lnTo>
                  <a:pt x="970" y="1359"/>
                </a:lnTo>
                <a:lnTo>
                  <a:pt x="731" y="1584"/>
                </a:lnTo>
                <a:lnTo>
                  <a:pt x="679" y="1838"/>
                </a:lnTo>
                <a:lnTo>
                  <a:pt x="652" y="2102"/>
                </a:lnTo>
                <a:lnTo>
                  <a:pt x="627" y="2288"/>
                </a:lnTo>
                <a:lnTo>
                  <a:pt x="627" y="2433"/>
                </a:lnTo>
                <a:lnTo>
                  <a:pt x="613" y="2592"/>
                </a:lnTo>
                <a:lnTo>
                  <a:pt x="533" y="2660"/>
                </a:lnTo>
                <a:lnTo>
                  <a:pt x="440" y="2660"/>
                </a:lnTo>
                <a:lnTo>
                  <a:pt x="347" y="2699"/>
                </a:lnTo>
                <a:lnTo>
                  <a:pt x="241" y="2713"/>
                </a:lnTo>
                <a:lnTo>
                  <a:pt x="136" y="2660"/>
                </a:lnTo>
                <a:lnTo>
                  <a:pt x="241" y="2660"/>
                </a:lnTo>
                <a:lnTo>
                  <a:pt x="361" y="2606"/>
                </a:lnTo>
                <a:lnTo>
                  <a:pt x="466" y="2540"/>
                </a:lnTo>
                <a:lnTo>
                  <a:pt x="533" y="2474"/>
                </a:lnTo>
                <a:lnTo>
                  <a:pt x="520" y="2329"/>
                </a:lnTo>
                <a:lnTo>
                  <a:pt x="559" y="2077"/>
                </a:lnTo>
                <a:lnTo>
                  <a:pt x="599" y="1770"/>
                </a:lnTo>
                <a:lnTo>
                  <a:pt x="692" y="1479"/>
                </a:lnTo>
                <a:lnTo>
                  <a:pt x="799" y="1307"/>
                </a:lnTo>
                <a:lnTo>
                  <a:pt x="904" y="1148"/>
                </a:lnTo>
                <a:lnTo>
                  <a:pt x="1076" y="1028"/>
                </a:lnTo>
                <a:lnTo>
                  <a:pt x="1276" y="964"/>
                </a:lnTo>
                <a:lnTo>
                  <a:pt x="1474" y="923"/>
                </a:lnTo>
                <a:lnTo>
                  <a:pt x="1860" y="923"/>
                </a:lnTo>
                <a:lnTo>
                  <a:pt x="1965" y="882"/>
                </a:lnTo>
                <a:lnTo>
                  <a:pt x="2099" y="723"/>
                </a:lnTo>
                <a:lnTo>
                  <a:pt x="2128" y="551"/>
                </a:lnTo>
                <a:lnTo>
                  <a:pt x="2130" y="549"/>
                </a:lnTo>
                <a:lnTo>
                  <a:pt x="2323" y="386"/>
                </a:lnTo>
                <a:lnTo>
                  <a:pt x="2364" y="361"/>
                </a:lnTo>
                <a:lnTo>
                  <a:pt x="2380" y="367"/>
                </a:lnTo>
                <a:lnTo>
                  <a:pt x="2391" y="396"/>
                </a:lnTo>
                <a:lnTo>
                  <a:pt x="2329" y="590"/>
                </a:lnTo>
                <a:lnTo>
                  <a:pt x="2157" y="830"/>
                </a:lnTo>
                <a:lnTo>
                  <a:pt x="1907" y="1065"/>
                </a:lnTo>
                <a:lnTo>
                  <a:pt x="1879" y="1080"/>
                </a:lnTo>
                <a:lnTo>
                  <a:pt x="1870" y="1096"/>
                </a:lnTo>
                <a:lnTo>
                  <a:pt x="1870" y="1099"/>
                </a:lnTo>
                <a:lnTo>
                  <a:pt x="1879" y="1111"/>
                </a:lnTo>
                <a:lnTo>
                  <a:pt x="2009" y="1043"/>
                </a:lnTo>
                <a:lnTo>
                  <a:pt x="2151" y="971"/>
                </a:lnTo>
                <a:lnTo>
                  <a:pt x="2296" y="855"/>
                </a:lnTo>
                <a:lnTo>
                  <a:pt x="2442" y="741"/>
                </a:lnTo>
                <a:lnTo>
                  <a:pt x="2457" y="741"/>
                </a:lnTo>
                <a:lnTo>
                  <a:pt x="2465" y="737"/>
                </a:lnTo>
                <a:lnTo>
                  <a:pt x="2465" y="799"/>
                </a:lnTo>
                <a:lnTo>
                  <a:pt x="2395" y="904"/>
                </a:lnTo>
                <a:lnTo>
                  <a:pt x="2395" y="919"/>
                </a:lnTo>
                <a:lnTo>
                  <a:pt x="2428" y="929"/>
                </a:lnTo>
                <a:lnTo>
                  <a:pt x="2438" y="960"/>
                </a:lnTo>
                <a:lnTo>
                  <a:pt x="2422" y="1034"/>
                </a:lnTo>
                <a:lnTo>
                  <a:pt x="2376" y="1154"/>
                </a:lnTo>
                <a:lnTo>
                  <a:pt x="2370" y="1154"/>
                </a:lnTo>
                <a:lnTo>
                  <a:pt x="2364" y="1247"/>
                </a:lnTo>
                <a:lnTo>
                  <a:pt x="2277" y="1555"/>
                </a:lnTo>
                <a:lnTo>
                  <a:pt x="2246" y="1637"/>
                </a:lnTo>
                <a:lnTo>
                  <a:pt x="2151" y="1923"/>
                </a:lnTo>
                <a:lnTo>
                  <a:pt x="2052" y="2143"/>
                </a:lnTo>
                <a:lnTo>
                  <a:pt x="1817" y="2569"/>
                </a:lnTo>
                <a:lnTo>
                  <a:pt x="1614" y="2841"/>
                </a:lnTo>
                <a:lnTo>
                  <a:pt x="1342" y="3155"/>
                </a:lnTo>
                <a:lnTo>
                  <a:pt x="1034" y="3446"/>
                </a:lnTo>
                <a:lnTo>
                  <a:pt x="852" y="3593"/>
                </a:lnTo>
                <a:lnTo>
                  <a:pt x="549" y="3812"/>
                </a:lnTo>
                <a:lnTo>
                  <a:pt x="419" y="3895"/>
                </a:lnTo>
                <a:lnTo>
                  <a:pt x="341" y="3936"/>
                </a:lnTo>
                <a:lnTo>
                  <a:pt x="301" y="3961"/>
                </a:lnTo>
                <a:lnTo>
                  <a:pt x="289" y="3983"/>
                </a:lnTo>
                <a:lnTo>
                  <a:pt x="0" y="3979"/>
                </a:lnTo>
                <a:close/>
                <a:moveTo>
                  <a:pt x="2071" y="167"/>
                </a:moveTo>
                <a:lnTo>
                  <a:pt x="2029" y="93"/>
                </a:lnTo>
                <a:lnTo>
                  <a:pt x="2062" y="74"/>
                </a:lnTo>
                <a:lnTo>
                  <a:pt x="2166" y="0"/>
                </a:lnTo>
                <a:lnTo>
                  <a:pt x="2130" y="85"/>
                </a:lnTo>
                <a:lnTo>
                  <a:pt x="2071" y="167"/>
                </a:lnTo>
                <a:close/>
              </a:path>
            </a:pathLst>
          </a:custGeom>
          <a:solidFill>
            <a:srgbClr val="e58d35"/>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38" name=""/>
          <p:cNvSpPr/>
          <p:nvPr/>
        </p:nvSpPr>
        <p:spPr>
          <a:xfrm>
            <a:off x="3257640" y="4060800"/>
            <a:ext cx="1085760" cy="1243080"/>
          </a:xfrm>
          <a:custGeom>
            <a:avLst/>
            <a:gdLst/>
            <a:ahLst/>
            <a:rect l="l" t="t" r="r" b="b"/>
            <a:pathLst>
              <a:path w="1367" h="1564">
                <a:moveTo>
                  <a:pt x="808" y="1564"/>
                </a:moveTo>
                <a:lnTo>
                  <a:pt x="543" y="1392"/>
                </a:lnTo>
                <a:lnTo>
                  <a:pt x="279" y="1244"/>
                </a:lnTo>
                <a:lnTo>
                  <a:pt x="93" y="1047"/>
                </a:lnTo>
                <a:lnTo>
                  <a:pt x="0" y="794"/>
                </a:lnTo>
                <a:lnTo>
                  <a:pt x="13" y="542"/>
                </a:lnTo>
                <a:lnTo>
                  <a:pt x="40" y="304"/>
                </a:lnTo>
                <a:lnTo>
                  <a:pt x="172" y="106"/>
                </a:lnTo>
                <a:lnTo>
                  <a:pt x="384" y="0"/>
                </a:lnTo>
                <a:lnTo>
                  <a:pt x="636" y="38"/>
                </a:lnTo>
                <a:lnTo>
                  <a:pt x="849" y="145"/>
                </a:lnTo>
                <a:lnTo>
                  <a:pt x="1035" y="265"/>
                </a:lnTo>
                <a:lnTo>
                  <a:pt x="1274" y="449"/>
                </a:lnTo>
                <a:lnTo>
                  <a:pt x="1367" y="635"/>
                </a:lnTo>
                <a:lnTo>
                  <a:pt x="1353" y="901"/>
                </a:lnTo>
                <a:lnTo>
                  <a:pt x="1274" y="1099"/>
                </a:lnTo>
                <a:lnTo>
                  <a:pt x="1128" y="1271"/>
                </a:lnTo>
                <a:lnTo>
                  <a:pt x="1035" y="1471"/>
                </a:lnTo>
                <a:lnTo>
                  <a:pt x="808" y="1564"/>
                </a:lnTo>
                <a:close/>
              </a:path>
            </a:pathLst>
          </a:custGeom>
          <a:solidFill>
            <a:srgbClr val="e58d35"/>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39" name=""/>
          <p:cNvSpPr/>
          <p:nvPr/>
        </p:nvSpPr>
        <p:spPr>
          <a:xfrm>
            <a:off x="3292560" y="4110120"/>
            <a:ext cx="920520" cy="1054080"/>
          </a:xfrm>
          <a:custGeom>
            <a:avLst/>
            <a:gdLst/>
            <a:ahLst/>
            <a:rect l="l" t="t" r="r" b="b"/>
            <a:pathLst>
              <a:path w="1160" h="1328">
                <a:moveTo>
                  <a:pt x="687" y="1328"/>
                </a:moveTo>
                <a:lnTo>
                  <a:pt x="671" y="1316"/>
                </a:lnTo>
                <a:lnTo>
                  <a:pt x="658" y="1308"/>
                </a:lnTo>
                <a:lnTo>
                  <a:pt x="642" y="1299"/>
                </a:lnTo>
                <a:lnTo>
                  <a:pt x="629" y="1291"/>
                </a:lnTo>
                <a:lnTo>
                  <a:pt x="613" y="1279"/>
                </a:lnTo>
                <a:lnTo>
                  <a:pt x="602" y="1271"/>
                </a:lnTo>
                <a:lnTo>
                  <a:pt x="586" y="1262"/>
                </a:lnTo>
                <a:lnTo>
                  <a:pt x="574" y="1254"/>
                </a:lnTo>
                <a:lnTo>
                  <a:pt x="559" y="1244"/>
                </a:lnTo>
                <a:lnTo>
                  <a:pt x="545" y="1235"/>
                </a:lnTo>
                <a:lnTo>
                  <a:pt x="530" y="1225"/>
                </a:lnTo>
                <a:lnTo>
                  <a:pt x="516" y="1217"/>
                </a:lnTo>
                <a:lnTo>
                  <a:pt x="501" y="1207"/>
                </a:lnTo>
                <a:lnTo>
                  <a:pt x="489" y="1200"/>
                </a:lnTo>
                <a:lnTo>
                  <a:pt x="474" y="1190"/>
                </a:lnTo>
                <a:lnTo>
                  <a:pt x="462" y="1182"/>
                </a:lnTo>
                <a:lnTo>
                  <a:pt x="446" y="1173"/>
                </a:lnTo>
                <a:lnTo>
                  <a:pt x="433" y="1165"/>
                </a:lnTo>
                <a:lnTo>
                  <a:pt x="417" y="1157"/>
                </a:lnTo>
                <a:lnTo>
                  <a:pt x="404" y="1149"/>
                </a:lnTo>
                <a:lnTo>
                  <a:pt x="388" y="1140"/>
                </a:lnTo>
                <a:lnTo>
                  <a:pt x="375" y="1134"/>
                </a:lnTo>
                <a:lnTo>
                  <a:pt x="361" y="1124"/>
                </a:lnTo>
                <a:lnTo>
                  <a:pt x="348" y="1118"/>
                </a:lnTo>
                <a:lnTo>
                  <a:pt x="332" y="1109"/>
                </a:lnTo>
                <a:lnTo>
                  <a:pt x="318" y="1103"/>
                </a:lnTo>
                <a:lnTo>
                  <a:pt x="303" y="1093"/>
                </a:lnTo>
                <a:lnTo>
                  <a:pt x="291" y="1087"/>
                </a:lnTo>
                <a:lnTo>
                  <a:pt x="276" y="1080"/>
                </a:lnTo>
                <a:lnTo>
                  <a:pt x="262" y="1072"/>
                </a:lnTo>
                <a:lnTo>
                  <a:pt x="247" y="1064"/>
                </a:lnTo>
                <a:lnTo>
                  <a:pt x="235" y="1058"/>
                </a:lnTo>
                <a:lnTo>
                  <a:pt x="223" y="1047"/>
                </a:lnTo>
                <a:lnTo>
                  <a:pt x="214" y="1035"/>
                </a:lnTo>
                <a:lnTo>
                  <a:pt x="204" y="1025"/>
                </a:lnTo>
                <a:lnTo>
                  <a:pt x="194" y="1016"/>
                </a:lnTo>
                <a:lnTo>
                  <a:pt x="185" y="1004"/>
                </a:lnTo>
                <a:lnTo>
                  <a:pt x="175" y="992"/>
                </a:lnTo>
                <a:lnTo>
                  <a:pt x="165" y="983"/>
                </a:lnTo>
                <a:lnTo>
                  <a:pt x="156" y="973"/>
                </a:lnTo>
                <a:lnTo>
                  <a:pt x="144" y="961"/>
                </a:lnTo>
                <a:lnTo>
                  <a:pt x="134" y="952"/>
                </a:lnTo>
                <a:lnTo>
                  <a:pt x="124" y="940"/>
                </a:lnTo>
                <a:lnTo>
                  <a:pt x="117" y="930"/>
                </a:lnTo>
                <a:lnTo>
                  <a:pt x="95" y="909"/>
                </a:lnTo>
                <a:lnTo>
                  <a:pt x="78" y="890"/>
                </a:lnTo>
                <a:lnTo>
                  <a:pt x="72" y="874"/>
                </a:lnTo>
                <a:lnTo>
                  <a:pt x="66" y="860"/>
                </a:lnTo>
                <a:lnTo>
                  <a:pt x="61" y="847"/>
                </a:lnTo>
                <a:lnTo>
                  <a:pt x="57" y="835"/>
                </a:lnTo>
                <a:lnTo>
                  <a:pt x="51" y="820"/>
                </a:lnTo>
                <a:lnTo>
                  <a:pt x="47" y="806"/>
                </a:lnTo>
                <a:lnTo>
                  <a:pt x="41" y="793"/>
                </a:lnTo>
                <a:lnTo>
                  <a:pt x="37" y="781"/>
                </a:lnTo>
                <a:lnTo>
                  <a:pt x="31" y="765"/>
                </a:lnTo>
                <a:lnTo>
                  <a:pt x="28" y="754"/>
                </a:lnTo>
                <a:lnTo>
                  <a:pt x="22" y="738"/>
                </a:lnTo>
                <a:lnTo>
                  <a:pt x="18" y="727"/>
                </a:lnTo>
                <a:lnTo>
                  <a:pt x="12" y="713"/>
                </a:lnTo>
                <a:lnTo>
                  <a:pt x="8" y="699"/>
                </a:lnTo>
                <a:lnTo>
                  <a:pt x="4" y="686"/>
                </a:lnTo>
                <a:lnTo>
                  <a:pt x="0" y="674"/>
                </a:lnTo>
                <a:lnTo>
                  <a:pt x="0" y="659"/>
                </a:lnTo>
                <a:lnTo>
                  <a:pt x="0" y="645"/>
                </a:lnTo>
                <a:lnTo>
                  <a:pt x="0" y="632"/>
                </a:lnTo>
                <a:lnTo>
                  <a:pt x="0" y="620"/>
                </a:lnTo>
                <a:lnTo>
                  <a:pt x="0" y="604"/>
                </a:lnTo>
                <a:lnTo>
                  <a:pt x="2" y="591"/>
                </a:lnTo>
                <a:lnTo>
                  <a:pt x="2" y="577"/>
                </a:lnTo>
                <a:lnTo>
                  <a:pt x="4" y="566"/>
                </a:lnTo>
                <a:lnTo>
                  <a:pt x="4" y="552"/>
                </a:lnTo>
                <a:lnTo>
                  <a:pt x="4" y="539"/>
                </a:lnTo>
                <a:lnTo>
                  <a:pt x="4" y="525"/>
                </a:lnTo>
                <a:lnTo>
                  <a:pt x="6" y="513"/>
                </a:lnTo>
                <a:lnTo>
                  <a:pt x="6" y="500"/>
                </a:lnTo>
                <a:lnTo>
                  <a:pt x="8" y="486"/>
                </a:lnTo>
                <a:lnTo>
                  <a:pt x="8" y="473"/>
                </a:lnTo>
                <a:lnTo>
                  <a:pt x="10" y="461"/>
                </a:lnTo>
                <a:lnTo>
                  <a:pt x="10" y="447"/>
                </a:lnTo>
                <a:lnTo>
                  <a:pt x="12" y="434"/>
                </a:lnTo>
                <a:lnTo>
                  <a:pt x="14" y="420"/>
                </a:lnTo>
                <a:lnTo>
                  <a:pt x="16" y="409"/>
                </a:lnTo>
                <a:lnTo>
                  <a:pt x="16" y="395"/>
                </a:lnTo>
                <a:lnTo>
                  <a:pt x="18" y="383"/>
                </a:lnTo>
                <a:lnTo>
                  <a:pt x="20" y="370"/>
                </a:lnTo>
                <a:lnTo>
                  <a:pt x="22" y="358"/>
                </a:lnTo>
                <a:lnTo>
                  <a:pt x="22" y="345"/>
                </a:lnTo>
                <a:lnTo>
                  <a:pt x="24" y="331"/>
                </a:lnTo>
                <a:lnTo>
                  <a:pt x="26" y="319"/>
                </a:lnTo>
                <a:lnTo>
                  <a:pt x="28" y="308"/>
                </a:lnTo>
                <a:lnTo>
                  <a:pt x="28" y="294"/>
                </a:lnTo>
                <a:lnTo>
                  <a:pt x="29" y="281"/>
                </a:lnTo>
                <a:lnTo>
                  <a:pt x="31" y="269"/>
                </a:lnTo>
                <a:lnTo>
                  <a:pt x="33" y="257"/>
                </a:lnTo>
                <a:lnTo>
                  <a:pt x="39" y="246"/>
                </a:lnTo>
                <a:lnTo>
                  <a:pt x="45" y="234"/>
                </a:lnTo>
                <a:lnTo>
                  <a:pt x="53" y="224"/>
                </a:lnTo>
                <a:lnTo>
                  <a:pt x="61" y="215"/>
                </a:lnTo>
                <a:lnTo>
                  <a:pt x="66" y="203"/>
                </a:lnTo>
                <a:lnTo>
                  <a:pt x="74" y="191"/>
                </a:lnTo>
                <a:lnTo>
                  <a:pt x="82" y="182"/>
                </a:lnTo>
                <a:lnTo>
                  <a:pt x="90" y="172"/>
                </a:lnTo>
                <a:lnTo>
                  <a:pt x="95" y="160"/>
                </a:lnTo>
                <a:lnTo>
                  <a:pt x="101" y="151"/>
                </a:lnTo>
                <a:lnTo>
                  <a:pt x="109" y="139"/>
                </a:lnTo>
                <a:lnTo>
                  <a:pt x="117" y="129"/>
                </a:lnTo>
                <a:lnTo>
                  <a:pt x="130" y="108"/>
                </a:lnTo>
                <a:lnTo>
                  <a:pt x="146" y="89"/>
                </a:lnTo>
                <a:lnTo>
                  <a:pt x="156" y="83"/>
                </a:lnTo>
                <a:lnTo>
                  <a:pt x="167" y="77"/>
                </a:lnTo>
                <a:lnTo>
                  <a:pt x="179" y="71"/>
                </a:lnTo>
                <a:lnTo>
                  <a:pt x="190" y="65"/>
                </a:lnTo>
                <a:lnTo>
                  <a:pt x="200" y="60"/>
                </a:lnTo>
                <a:lnTo>
                  <a:pt x="212" y="54"/>
                </a:lnTo>
                <a:lnTo>
                  <a:pt x="223" y="48"/>
                </a:lnTo>
                <a:lnTo>
                  <a:pt x="235" y="42"/>
                </a:lnTo>
                <a:lnTo>
                  <a:pt x="245" y="36"/>
                </a:lnTo>
                <a:lnTo>
                  <a:pt x="256" y="31"/>
                </a:lnTo>
                <a:lnTo>
                  <a:pt x="268" y="25"/>
                </a:lnTo>
                <a:lnTo>
                  <a:pt x="280" y="21"/>
                </a:lnTo>
                <a:lnTo>
                  <a:pt x="291" y="15"/>
                </a:lnTo>
                <a:lnTo>
                  <a:pt x="303" y="9"/>
                </a:lnTo>
                <a:lnTo>
                  <a:pt x="315" y="3"/>
                </a:lnTo>
                <a:lnTo>
                  <a:pt x="326" y="0"/>
                </a:lnTo>
                <a:lnTo>
                  <a:pt x="338" y="0"/>
                </a:lnTo>
                <a:lnTo>
                  <a:pt x="351" y="1"/>
                </a:lnTo>
                <a:lnTo>
                  <a:pt x="365" y="3"/>
                </a:lnTo>
                <a:lnTo>
                  <a:pt x="379" y="5"/>
                </a:lnTo>
                <a:lnTo>
                  <a:pt x="390" y="7"/>
                </a:lnTo>
                <a:lnTo>
                  <a:pt x="406" y="9"/>
                </a:lnTo>
                <a:lnTo>
                  <a:pt x="417" y="11"/>
                </a:lnTo>
                <a:lnTo>
                  <a:pt x="433" y="15"/>
                </a:lnTo>
                <a:lnTo>
                  <a:pt x="444" y="15"/>
                </a:lnTo>
                <a:lnTo>
                  <a:pt x="458" y="19"/>
                </a:lnTo>
                <a:lnTo>
                  <a:pt x="472" y="19"/>
                </a:lnTo>
                <a:lnTo>
                  <a:pt x="487" y="23"/>
                </a:lnTo>
                <a:lnTo>
                  <a:pt x="499" y="25"/>
                </a:lnTo>
                <a:lnTo>
                  <a:pt x="512" y="27"/>
                </a:lnTo>
                <a:lnTo>
                  <a:pt x="526" y="29"/>
                </a:lnTo>
                <a:lnTo>
                  <a:pt x="541" y="33"/>
                </a:lnTo>
                <a:lnTo>
                  <a:pt x="551" y="36"/>
                </a:lnTo>
                <a:lnTo>
                  <a:pt x="563" y="42"/>
                </a:lnTo>
                <a:lnTo>
                  <a:pt x="574" y="48"/>
                </a:lnTo>
                <a:lnTo>
                  <a:pt x="586" y="54"/>
                </a:lnTo>
                <a:lnTo>
                  <a:pt x="596" y="60"/>
                </a:lnTo>
                <a:lnTo>
                  <a:pt x="607" y="65"/>
                </a:lnTo>
                <a:lnTo>
                  <a:pt x="619" y="71"/>
                </a:lnTo>
                <a:lnTo>
                  <a:pt x="631" y="77"/>
                </a:lnTo>
                <a:lnTo>
                  <a:pt x="640" y="81"/>
                </a:lnTo>
                <a:lnTo>
                  <a:pt x="652" y="87"/>
                </a:lnTo>
                <a:lnTo>
                  <a:pt x="664" y="93"/>
                </a:lnTo>
                <a:lnTo>
                  <a:pt x="675" y="98"/>
                </a:lnTo>
                <a:lnTo>
                  <a:pt x="685" y="104"/>
                </a:lnTo>
                <a:lnTo>
                  <a:pt x="697" y="110"/>
                </a:lnTo>
                <a:lnTo>
                  <a:pt x="708" y="116"/>
                </a:lnTo>
                <a:lnTo>
                  <a:pt x="720" y="122"/>
                </a:lnTo>
                <a:lnTo>
                  <a:pt x="739" y="133"/>
                </a:lnTo>
                <a:lnTo>
                  <a:pt x="759" y="147"/>
                </a:lnTo>
                <a:lnTo>
                  <a:pt x="778" y="159"/>
                </a:lnTo>
                <a:lnTo>
                  <a:pt x="799" y="172"/>
                </a:lnTo>
                <a:lnTo>
                  <a:pt x="819" y="184"/>
                </a:lnTo>
                <a:lnTo>
                  <a:pt x="838" y="197"/>
                </a:lnTo>
                <a:lnTo>
                  <a:pt x="858" y="211"/>
                </a:lnTo>
                <a:lnTo>
                  <a:pt x="879" y="224"/>
                </a:lnTo>
                <a:lnTo>
                  <a:pt x="891" y="232"/>
                </a:lnTo>
                <a:lnTo>
                  <a:pt x="902" y="242"/>
                </a:lnTo>
                <a:lnTo>
                  <a:pt x="916" y="252"/>
                </a:lnTo>
                <a:lnTo>
                  <a:pt x="929" y="263"/>
                </a:lnTo>
                <a:lnTo>
                  <a:pt x="941" y="271"/>
                </a:lnTo>
                <a:lnTo>
                  <a:pt x="953" y="281"/>
                </a:lnTo>
                <a:lnTo>
                  <a:pt x="966" y="290"/>
                </a:lnTo>
                <a:lnTo>
                  <a:pt x="980" y="302"/>
                </a:lnTo>
                <a:lnTo>
                  <a:pt x="991" y="310"/>
                </a:lnTo>
                <a:lnTo>
                  <a:pt x="1005" y="321"/>
                </a:lnTo>
                <a:lnTo>
                  <a:pt x="1017" y="329"/>
                </a:lnTo>
                <a:lnTo>
                  <a:pt x="1030" y="341"/>
                </a:lnTo>
                <a:lnTo>
                  <a:pt x="1042" y="350"/>
                </a:lnTo>
                <a:lnTo>
                  <a:pt x="1055" y="360"/>
                </a:lnTo>
                <a:lnTo>
                  <a:pt x="1069" y="370"/>
                </a:lnTo>
                <a:lnTo>
                  <a:pt x="1083" y="382"/>
                </a:lnTo>
                <a:lnTo>
                  <a:pt x="1090" y="399"/>
                </a:lnTo>
                <a:lnTo>
                  <a:pt x="1100" y="420"/>
                </a:lnTo>
                <a:lnTo>
                  <a:pt x="1110" y="438"/>
                </a:lnTo>
                <a:lnTo>
                  <a:pt x="1121" y="459"/>
                </a:lnTo>
                <a:lnTo>
                  <a:pt x="1129" y="478"/>
                </a:lnTo>
                <a:lnTo>
                  <a:pt x="1139" y="498"/>
                </a:lnTo>
                <a:lnTo>
                  <a:pt x="1148" y="517"/>
                </a:lnTo>
                <a:lnTo>
                  <a:pt x="1160" y="539"/>
                </a:lnTo>
                <a:lnTo>
                  <a:pt x="1158" y="550"/>
                </a:lnTo>
                <a:lnTo>
                  <a:pt x="1158" y="566"/>
                </a:lnTo>
                <a:lnTo>
                  <a:pt x="1156" y="579"/>
                </a:lnTo>
                <a:lnTo>
                  <a:pt x="1156" y="595"/>
                </a:lnTo>
                <a:lnTo>
                  <a:pt x="1154" y="606"/>
                </a:lnTo>
                <a:lnTo>
                  <a:pt x="1154" y="622"/>
                </a:lnTo>
                <a:lnTo>
                  <a:pt x="1154" y="636"/>
                </a:lnTo>
                <a:lnTo>
                  <a:pt x="1154" y="651"/>
                </a:lnTo>
                <a:lnTo>
                  <a:pt x="1152" y="663"/>
                </a:lnTo>
                <a:lnTo>
                  <a:pt x="1152" y="678"/>
                </a:lnTo>
                <a:lnTo>
                  <a:pt x="1150" y="692"/>
                </a:lnTo>
                <a:lnTo>
                  <a:pt x="1150" y="707"/>
                </a:lnTo>
                <a:lnTo>
                  <a:pt x="1150" y="719"/>
                </a:lnTo>
                <a:lnTo>
                  <a:pt x="1150" y="734"/>
                </a:lnTo>
                <a:lnTo>
                  <a:pt x="1150" y="748"/>
                </a:lnTo>
                <a:lnTo>
                  <a:pt x="1150" y="763"/>
                </a:lnTo>
                <a:lnTo>
                  <a:pt x="1145" y="773"/>
                </a:lnTo>
                <a:lnTo>
                  <a:pt x="1141" y="783"/>
                </a:lnTo>
                <a:lnTo>
                  <a:pt x="1137" y="794"/>
                </a:lnTo>
                <a:lnTo>
                  <a:pt x="1133" y="806"/>
                </a:lnTo>
                <a:lnTo>
                  <a:pt x="1127" y="816"/>
                </a:lnTo>
                <a:lnTo>
                  <a:pt x="1123" y="826"/>
                </a:lnTo>
                <a:lnTo>
                  <a:pt x="1119" y="837"/>
                </a:lnTo>
                <a:lnTo>
                  <a:pt x="1116" y="849"/>
                </a:lnTo>
                <a:lnTo>
                  <a:pt x="1110" y="858"/>
                </a:lnTo>
                <a:lnTo>
                  <a:pt x="1106" y="868"/>
                </a:lnTo>
                <a:lnTo>
                  <a:pt x="1102" y="880"/>
                </a:lnTo>
                <a:lnTo>
                  <a:pt x="1098" y="891"/>
                </a:lnTo>
                <a:lnTo>
                  <a:pt x="1092" y="901"/>
                </a:lnTo>
                <a:lnTo>
                  <a:pt x="1088" y="911"/>
                </a:lnTo>
                <a:lnTo>
                  <a:pt x="1084" y="922"/>
                </a:lnTo>
                <a:lnTo>
                  <a:pt x="1083" y="934"/>
                </a:lnTo>
                <a:lnTo>
                  <a:pt x="1065" y="952"/>
                </a:lnTo>
                <a:lnTo>
                  <a:pt x="1050" y="969"/>
                </a:lnTo>
                <a:lnTo>
                  <a:pt x="1034" y="986"/>
                </a:lnTo>
                <a:lnTo>
                  <a:pt x="1019" y="1006"/>
                </a:lnTo>
                <a:lnTo>
                  <a:pt x="1003" y="1023"/>
                </a:lnTo>
                <a:lnTo>
                  <a:pt x="988" y="1043"/>
                </a:lnTo>
                <a:lnTo>
                  <a:pt x="972" y="1060"/>
                </a:lnTo>
                <a:lnTo>
                  <a:pt x="958" y="1080"/>
                </a:lnTo>
                <a:lnTo>
                  <a:pt x="947" y="1099"/>
                </a:lnTo>
                <a:lnTo>
                  <a:pt x="937" y="1120"/>
                </a:lnTo>
                <a:lnTo>
                  <a:pt x="931" y="1130"/>
                </a:lnTo>
                <a:lnTo>
                  <a:pt x="927" y="1142"/>
                </a:lnTo>
                <a:lnTo>
                  <a:pt x="922" y="1151"/>
                </a:lnTo>
                <a:lnTo>
                  <a:pt x="918" y="1163"/>
                </a:lnTo>
                <a:lnTo>
                  <a:pt x="912" y="1173"/>
                </a:lnTo>
                <a:lnTo>
                  <a:pt x="906" y="1182"/>
                </a:lnTo>
                <a:lnTo>
                  <a:pt x="900" y="1194"/>
                </a:lnTo>
                <a:lnTo>
                  <a:pt x="896" y="1206"/>
                </a:lnTo>
                <a:lnTo>
                  <a:pt x="891" y="1215"/>
                </a:lnTo>
                <a:lnTo>
                  <a:pt x="887" y="1225"/>
                </a:lnTo>
                <a:lnTo>
                  <a:pt x="883" y="1237"/>
                </a:lnTo>
                <a:lnTo>
                  <a:pt x="879" y="1248"/>
                </a:lnTo>
                <a:lnTo>
                  <a:pt x="865" y="1252"/>
                </a:lnTo>
                <a:lnTo>
                  <a:pt x="854" y="1258"/>
                </a:lnTo>
                <a:lnTo>
                  <a:pt x="842" y="1262"/>
                </a:lnTo>
                <a:lnTo>
                  <a:pt x="830" y="1268"/>
                </a:lnTo>
                <a:lnTo>
                  <a:pt x="817" y="1271"/>
                </a:lnTo>
                <a:lnTo>
                  <a:pt x="805" y="1277"/>
                </a:lnTo>
                <a:lnTo>
                  <a:pt x="794" y="1281"/>
                </a:lnTo>
                <a:lnTo>
                  <a:pt x="782" y="1287"/>
                </a:lnTo>
                <a:lnTo>
                  <a:pt x="768" y="1291"/>
                </a:lnTo>
                <a:lnTo>
                  <a:pt x="757" y="1297"/>
                </a:lnTo>
                <a:lnTo>
                  <a:pt x="745" y="1301"/>
                </a:lnTo>
                <a:lnTo>
                  <a:pt x="733" y="1306"/>
                </a:lnTo>
                <a:lnTo>
                  <a:pt x="722" y="1310"/>
                </a:lnTo>
                <a:lnTo>
                  <a:pt x="710" y="1316"/>
                </a:lnTo>
                <a:lnTo>
                  <a:pt x="699" y="1322"/>
                </a:lnTo>
                <a:lnTo>
                  <a:pt x="687" y="1328"/>
                </a:lnTo>
                <a:close/>
              </a:path>
            </a:pathLst>
          </a:custGeom>
          <a:solidFill>
            <a:srgbClr val="e58d35"/>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40" name=""/>
          <p:cNvSpPr/>
          <p:nvPr/>
        </p:nvSpPr>
        <p:spPr>
          <a:xfrm>
            <a:off x="3324240" y="4157640"/>
            <a:ext cx="758880" cy="870120"/>
          </a:xfrm>
          <a:custGeom>
            <a:avLst/>
            <a:gdLst/>
            <a:ahLst/>
            <a:rect l="l" t="t" r="r" b="b"/>
            <a:pathLst>
              <a:path w="956" h="1095">
                <a:moveTo>
                  <a:pt x="566" y="1095"/>
                </a:moveTo>
                <a:lnTo>
                  <a:pt x="555" y="1085"/>
                </a:lnTo>
                <a:lnTo>
                  <a:pt x="543" y="1078"/>
                </a:lnTo>
                <a:lnTo>
                  <a:pt x="531" y="1070"/>
                </a:lnTo>
                <a:lnTo>
                  <a:pt x="520" y="1064"/>
                </a:lnTo>
                <a:lnTo>
                  <a:pt x="508" y="1054"/>
                </a:lnTo>
                <a:lnTo>
                  <a:pt x="497" y="1047"/>
                </a:lnTo>
                <a:lnTo>
                  <a:pt x="485" y="1039"/>
                </a:lnTo>
                <a:lnTo>
                  <a:pt x="473" y="1033"/>
                </a:lnTo>
                <a:lnTo>
                  <a:pt x="462" y="1025"/>
                </a:lnTo>
                <a:lnTo>
                  <a:pt x="450" y="1018"/>
                </a:lnTo>
                <a:lnTo>
                  <a:pt x="438" y="1010"/>
                </a:lnTo>
                <a:lnTo>
                  <a:pt x="427" y="1004"/>
                </a:lnTo>
                <a:lnTo>
                  <a:pt x="415" y="996"/>
                </a:lnTo>
                <a:lnTo>
                  <a:pt x="403" y="988"/>
                </a:lnTo>
                <a:lnTo>
                  <a:pt x="392" y="981"/>
                </a:lnTo>
                <a:lnTo>
                  <a:pt x="380" y="975"/>
                </a:lnTo>
                <a:lnTo>
                  <a:pt x="369" y="967"/>
                </a:lnTo>
                <a:lnTo>
                  <a:pt x="357" y="961"/>
                </a:lnTo>
                <a:lnTo>
                  <a:pt x="345" y="954"/>
                </a:lnTo>
                <a:lnTo>
                  <a:pt x="334" y="948"/>
                </a:lnTo>
                <a:lnTo>
                  <a:pt x="322" y="940"/>
                </a:lnTo>
                <a:lnTo>
                  <a:pt x="310" y="934"/>
                </a:lnTo>
                <a:lnTo>
                  <a:pt x="299" y="928"/>
                </a:lnTo>
                <a:lnTo>
                  <a:pt x="287" y="923"/>
                </a:lnTo>
                <a:lnTo>
                  <a:pt x="275" y="915"/>
                </a:lnTo>
                <a:lnTo>
                  <a:pt x="264" y="909"/>
                </a:lnTo>
                <a:lnTo>
                  <a:pt x="252" y="903"/>
                </a:lnTo>
                <a:lnTo>
                  <a:pt x="241" y="897"/>
                </a:lnTo>
                <a:lnTo>
                  <a:pt x="229" y="890"/>
                </a:lnTo>
                <a:lnTo>
                  <a:pt x="217" y="884"/>
                </a:lnTo>
                <a:lnTo>
                  <a:pt x="206" y="878"/>
                </a:lnTo>
                <a:lnTo>
                  <a:pt x="194" y="872"/>
                </a:lnTo>
                <a:lnTo>
                  <a:pt x="177" y="855"/>
                </a:lnTo>
                <a:lnTo>
                  <a:pt x="161" y="837"/>
                </a:lnTo>
                <a:lnTo>
                  <a:pt x="146" y="820"/>
                </a:lnTo>
                <a:lnTo>
                  <a:pt x="130" y="802"/>
                </a:lnTo>
                <a:lnTo>
                  <a:pt x="113" y="785"/>
                </a:lnTo>
                <a:lnTo>
                  <a:pt x="97" y="767"/>
                </a:lnTo>
                <a:lnTo>
                  <a:pt x="82" y="750"/>
                </a:lnTo>
                <a:lnTo>
                  <a:pt x="66" y="733"/>
                </a:lnTo>
                <a:lnTo>
                  <a:pt x="60" y="721"/>
                </a:lnTo>
                <a:lnTo>
                  <a:pt x="56" y="709"/>
                </a:lnTo>
                <a:lnTo>
                  <a:pt x="52" y="698"/>
                </a:lnTo>
                <a:lnTo>
                  <a:pt x="49" y="688"/>
                </a:lnTo>
                <a:lnTo>
                  <a:pt x="43" y="676"/>
                </a:lnTo>
                <a:lnTo>
                  <a:pt x="39" y="665"/>
                </a:lnTo>
                <a:lnTo>
                  <a:pt x="35" y="653"/>
                </a:lnTo>
                <a:lnTo>
                  <a:pt x="31" y="643"/>
                </a:lnTo>
                <a:lnTo>
                  <a:pt x="25" y="632"/>
                </a:lnTo>
                <a:lnTo>
                  <a:pt x="21" y="620"/>
                </a:lnTo>
                <a:lnTo>
                  <a:pt x="18" y="608"/>
                </a:lnTo>
                <a:lnTo>
                  <a:pt x="16" y="599"/>
                </a:lnTo>
                <a:lnTo>
                  <a:pt x="10" y="587"/>
                </a:lnTo>
                <a:lnTo>
                  <a:pt x="6" y="577"/>
                </a:lnTo>
                <a:lnTo>
                  <a:pt x="2" y="566"/>
                </a:lnTo>
                <a:lnTo>
                  <a:pt x="0" y="556"/>
                </a:lnTo>
                <a:lnTo>
                  <a:pt x="0" y="544"/>
                </a:lnTo>
                <a:lnTo>
                  <a:pt x="0" y="533"/>
                </a:lnTo>
                <a:lnTo>
                  <a:pt x="0" y="521"/>
                </a:lnTo>
                <a:lnTo>
                  <a:pt x="0" y="512"/>
                </a:lnTo>
                <a:lnTo>
                  <a:pt x="0" y="500"/>
                </a:lnTo>
                <a:lnTo>
                  <a:pt x="2" y="488"/>
                </a:lnTo>
                <a:lnTo>
                  <a:pt x="2" y="477"/>
                </a:lnTo>
                <a:lnTo>
                  <a:pt x="4" y="467"/>
                </a:lnTo>
                <a:lnTo>
                  <a:pt x="4" y="455"/>
                </a:lnTo>
                <a:lnTo>
                  <a:pt x="4" y="444"/>
                </a:lnTo>
                <a:lnTo>
                  <a:pt x="4" y="432"/>
                </a:lnTo>
                <a:lnTo>
                  <a:pt x="6" y="422"/>
                </a:lnTo>
                <a:lnTo>
                  <a:pt x="6" y="411"/>
                </a:lnTo>
                <a:lnTo>
                  <a:pt x="8" y="401"/>
                </a:lnTo>
                <a:lnTo>
                  <a:pt x="8" y="389"/>
                </a:lnTo>
                <a:lnTo>
                  <a:pt x="10" y="380"/>
                </a:lnTo>
                <a:lnTo>
                  <a:pt x="10" y="368"/>
                </a:lnTo>
                <a:lnTo>
                  <a:pt x="10" y="358"/>
                </a:lnTo>
                <a:lnTo>
                  <a:pt x="12" y="347"/>
                </a:lnTo>
                <a:lnTo>
                  <a:pt x="14" y="337"/>
                </a:lnTo>
                <a:lnTo>
                  <a:pt x="14" y="316"/>
                </a:lnTo>
                <a:lnTo>
                  <a:pt x="18" y="296"/>
                </a:lnTo>
                <a:lnTo>
                  <a:pt x="20" y="275"/>
                </a:lnTo>
                <a:lnTo>
                  <a:pt x="21" y="256"/>
                </a:lnTo>
                <a:lnTo>
                  <a:pt x="23" y="234"/>
                </a:lnTo>
                <a:lnTo>
                  <a:pt x="27" y="215"/>
                </a:lnTo>
                <a:lnTo>
                  <a:pt x="39" y="197"/>
                </a:lnTo>
                <a:lnTo>
                  <a:pt x="51" y="180"/>
                </a:lnTo>
                <a:lnTo>
                  <a:pt x="62" y="163"/>
                </a:lnTo>
                <a:lnTo>
                  <a:pt x="74" y="145"/>
                </a:lnTo>
                <a:lnTo>
                  <a:pt x="85" y="128"/>
                </a:lnTo>
                <a:lnTo>
                  <a:pt x="97" y="110"/>
                </a:lnTo>
                <a:lnTo>
                  <a:pt x="109" y="93"/>
                </a:lnTo>
                <a:lnTo>
                  <a:pt x="120" y="75"/>
                </a:lnTo>
                <a:lnTo>
                  <a:pt x="138" y="64"/>
                </a:lnTo>
                <a:lnTo>
                  <a:pt x="157" y="56"/>
                </a:lnTo>
                <a:lnTo>
                  <a:pt x="175" y="44"/>
                </a:lnTo>
                <a:lnTo>
                  <a:pt x="194" y="36"/>
                </a:lnTo>
                <a:lnTo>
                  <a:pt x="211" y="27"/>
                </a:lnTo>
                <a:lnTo>
                  <a:pt x="231" y="17"/>
                </a:lnTo>
                <a:lnTo>
                  <a:pt x="250" y="7"/>
                </a:lnTo>
                <a:lnTo>
                  <a:pt x="270" y="0"/>
                </a:lnTo>
                <a:lnTo>
                  <a:pt x="279" y="0"/>
                </a:lnTo>
                <a:lnTo>
                  <a:pt x="291" y="2"/>
                </a:lnTo>
                <a:lnTo>
                  <a:pt x="301" y="4"/>
                </a:lnTo>
                <a:lnTo>
                  <a:pt x="312" y="5"/>
                </a:lnTo>
                <a:lnTo>
                  <a:pt x="322" y="5"/>
                </a:lnTo>
                <a:lnTo>
                  <a:pt x="334" y="9"/>
                </a:lnTo>
                <a:lnTo>
                  <a:pt x="345" y="9"/>
                </a:lnTo>
                <a:lnTo>
                  <a:pt x="357" y="13"/>
                </a:lnTo>
                <a:lnTo>
                  <a:pt x="367" y="13"/>
                </a:lnTo>
                <a:lnTo>
                  <a:pt x="378" y="15"/>
                </a:lnTo>
                <a:lnTo>
                  <a:pt x="388" y="17"/>
                </a:lnTo>
                <a:lnTo>
                  <a:pt x="400" y="21"/>
                </a:lnTo>
                <a:lnTo>
                  <a:pt x="411" y="21"/>
                </a:lnTo>
                <a:lnTo>
                  <a:pt x="423" y="23"/>
                </a:lnTo>
                <a:lnTo>
                  <a:pt x="435" y="25"/>
                </a:lnTo>
                <a:lnTo>
                  <a:pt x="446" y="29"/>
                </a:lnTo>
                <a:lnTo>
                  <a:pt x="464" y="36"/>
                </a:lnTo>
                <a:lnTo>
                  <a:pt x="481" y="46"/>
                </a:lnTo>
                <a:lnTo>
                  <a:pt x="500" y="54"/>
                </a:lnTo>
                <a:lnTo>
                  <a:pt x="520" y="66"/>
                </a:lnTo>
                <a:lnTo>
                  <a:pt x="537" y="73"/>
                </a:lnTo>
                <a:lnTo>
                  <a:pt x="555" y="83"/>
                </a:lnTo>
                <a:lnTo>
                  <a:pt x="574" y="91"/>
                </a:lnTo>
                <a:lnTo>
                  <a:pt x="594" y="102"/>
                </a:lnTo>
                <a:lnTo>
                  <a:pt x="609" y="112"/>
                </a:lnTo>
                <a:lnTo>
                  <a:pt x="625" y="122"/>
                </a:lnTo>
                <a:lnTo>
                  <a:pt x="640" y="131"/>
                </a:lnTo>
                <a:lnTo>
                  <a:pt x="658" y="143"/>
                </a:lnTo>
                <a:lnTo>
                  <a:pt x="673" y="153"/>
                </a:lnTo>
                <a:lnTo>
                  <a:pt x="691" y="164"/>
                </a:lnTo>
                <a:lnTo>
                  <a:pt x="706" y="174"/>
                </a:lnTo>
                <a:lnTo>
                  <a:pt x="723" y="186"/>
                </a:lnTo>
                <a:lnTo>
                  <a:pt x="743" y="201"/>
                </a:lnTo>
                <a:lnTo>
                  <a:pt x="764" y="217"/>
                </a:lnTo>
                <a:lnTo>
                  <a:pt x="774" y="225"/>
                </a:lnTo>
                <a:lnTo>
                  <a:pt x="786" y="232"/>
                </a:lnTo>
                <a:lnTo>
                  <a:pt x="795" y="240"/>
                </a:lnTo>
                <a:lnTo>
                  <a:pt x="807" y="250"/>
                </a:lnTo>
                <a:lnTo>
                  <a:pt x="826" y="265"/>
                </a:lnTo>
                <a:lnTo>
                  <a:pt x="848" y="283"/>
                </a:lnTo>
                <a:lnTo>
                  <a:pt x="857" y="290"/>
                </a:lnTo>
                <a:lnTo>
                  <a:pt x="869" y="298"/>
                </a:lnTo>
                <a:lnTo>
                  <a:pt x="879" y="306"/>
                </a:lnTo>
                <a:lnTo>
                  <a:pt x="890" y="316"/>
                </a:lnTo>
                <a:lnTo>
                  <a:pt x="898" y="331"/>
                </a:lnTo>
                <a:lnTo>
                  <a:pt x="906" y="347"/>
                </a:lnTo>
                <a:lnTo>
                  <a:pt x="914" y="362"/>
                </a:lnTo>
                <a:lnTo>
                  <a:pt x="923" y="380"/>
                </a:lnTo>
                <a:lnTo>
                  <a:pt x="931" y="395"/>
                </a:lnTo>
                <a:lnTo>
                  <a:pt x="939" y="411"/>
                </a:lnTo>
                <a:lnTo>
                  <a:pt x="947" y="428"/>
                </a:lnTo>
                <a:lnTo>
                  <a:pt x="956" y="446"/>
                </a:lnTo>
                <a:lnTo>
                  <a:pt x="954" y="457"/>
                </a:lnTo>
                <a:lnTo>
                  <a:pt x="954" y="469"/>
                </a:lnTo>
                <a:lnTo>
                  <a:pt x="952" y="481"/>
                </a:lnTo>
                <a:lnTo>
                  <a:pt x="952" y="492"/>
                </a:lnTo>
                <a:lnTo>
                  <a:pt x="950" y="504"/>
                </a:lnTo>
                <a:lnTo>
                  <a:pt x="950" y="515"/>
                </a:lnTo>
                <a:lnTo>
                  <a:pt x="950" y="527"/>
                </a:lnTo>
                <a:lnTo>
                  <a:pt x="950" y="539"/>
                </a:lnTo>
                <a:lnTo>
                  <a:pt x="948" y="550"/>
                </a:lnTo>
                <a:lnTo>
                  <a:pt x="948" y="562"/>
                </a:lnTo>
                <a:lnTo>
                  <a:pt x="948" y="574"/>
                </a:lnTo>
                <a:lnTo>
                  <a:pt x="948" y="585"/>
                </a:lnTo>
                <a:lnTo>
                  <a:pt x="947" y="597"/>
                </a:lnTo>
                <a:lnTo>
                  <a:pt x="947" y="608"/>
                </a:lnTo>
                <a:lnTo>
                  <a:pt x="947" y="620"/>
                </a:lnTo>
                <a:lnTo>
                  <a:pt x="947" y="632"/>
                </a:lnTo>
                <a:lnTo>
                  <a:pt x="939" y="647"/>
                </a:lnTo>
                <a:lnTo>
                  <a:pt x="931" y="665"/>
                </a:lnTo>
                <a:lnTo>
                  <a:pt x="923" y="682"/>
                </a:lnTo>
                <a:lnTo>
                  <a:pt x="917" y="700"/>
                </a:lnTo>
                <a:lnTo>
                  <a:pt x="910" y="717"/>
                </a:lnTo>
                <a:lnTo>
                  <a:pt x="904" y="734"/>
                </a:lnTo>
                <a:lnTo>
                  <a:pt x="896" y="752"/>
                </a:lnTo>
                <a:lnTo>
                  <a:pt x="890" y="769"/>
                </a:lnTo>
                <a:lnTo>
                  <a:pt x="877" y="783"/>
                </a:lnTo>
                <a:lnTo>
                  <a:pt x="863" y="798"/>
                </a:lnTo>
                <a:lnTo>
                  <a:pt x="851" y="814"/>
                </a:lnTo>
                <a:lnTo>
                  <a:pt x="840" y="830"/>
                </a:lnTo>
                <a:lnTo>
                  <a:pt x="826" y="843"/>
                </a:lnTo>
                <a:lnTo>
                  <a:pt x="813" y="861"/>
                </a:lnTo>
                <a:lnTo>
                  <a:pt x="801" y="874"/>
                </a:lnTo>
                <a:lnTo>
                  <a:pt x="789" y="892"/>
                </a:lnTo>
                <a:lnTo>
                  <a:pt x="780" y="907"/>
                </a:lnTo>
                <a:lnTo>
                  <a:pt x="772" y="925"/>
                </a:lnTo>
                <a:lnTo>
                  <a:pt x="762" y="942"/>
                </a:lnTo>
                <a:lnTo>
                  <a:pt x="756" y="959"/>
                </a:lnTo>
                <a:lnTo>
                  <a:pt x="747" y="977"/>
                </a:lnTo>
                <a:lnTo>
                  <a:pt x="739" y="994"/>
                </a:lnTo>
                <a:lnTo>
                  <a:pt x="729" y="1012"/>
                </a:lnTo>
                <a:lnTo>
                  <a:pt x="723" y="1029"/>
                </a:lnTo>
                <a:lnTo>
                  <a:pt x="702" y="1037"/>
                </a:lnTo>
                <a:lnTo>
                  <a:pt x="683" y="1045"/>
                </a:lnTo>
                <a:lnTo>
                  <a:pt x="663" y="1052"/>
                </a:lnTo>
                <a:lnTo>
                  <a:pt x="644" y="1062"/>
                </a:lnTo>
                <a:lnTo>
                  <a:pt x="623" y="1070"/>
                </a:lnTo>
                <a:lnTo>
                  <a:pt x="605" y="1078"/>
                </a:lnTo>
                <a:lnTo>
                  <a:pt x="584" y="1085"/>
                </a:lnTo>
                <a:lnTo>
                  <a:pt x="566" y="1095"/>
                </a:lnTo>
                <a:close/>
              </a:path>
            </a:pathLst>
          </a:custGeom>
          <a:solidFill>
            <a:srgbClr val="e58d35"/>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41" name=""/>
          <p:cNvSpPr/>
          <p:nvPr/>
        </p:nvSpPr>
        <p:spPr>
          <a:xfrm>
            <a:off x="3355920" y="4206960"/>
            <a:ext cx="598680" cy="684000"/>
          </a:xfrm>
          <a:custGeom>
            <a:avLst/>
            <a:gdLst/>
            <a:ahLst/>
            <a:rect l="l" t="t" r="r" b="b"/>
            <a:pathLst>
              <a:path w="752" h="861">
                <a:moveTo>
                  <a:pt x="446" y="861"/>
                </a:moveTo>
                <a:lnTo>
                  <a:pt x="426" y="847"/>
                </a:lnTo>
                <a:lnTo>
                  <a:pt x="409" y="835"/>
                </a:lnTo>
                <a:lnTo>
                  <a:pt x="390" y="824"/>
                </a:lnTo>
                <a:lnTo>
                  <a:pt x="372" y="812"/>
                </a:lnTo>
                <a:lnTo>
                  <a:pt x="353" y="800"/>
                </a:lnTo>
                <a:lnTo>
                  <a:pt x="335" y="789"/>
                </a:lnTo>
                <a:lnTo>
                  <a:pt x="316" y="777"/>
                </a:lnTo>
                <a:lnTo>
                  <a:pt x="298" y="766"/>
                </a:lnTo>
                <a:lnTo>
                  <a:pt x="279" y="754"/>
                </a:lnTo>
                <a:lnTo>
                  <a:pt x="262" y="744"/>
                </a:lnTo>
                <a:lnTo>
                  <a:pt x="242" y="735"/>
                </a:lnTo>
                <a:lnTo>
                  <a:pt x="225" y="725"/>
                </a:lnTo>
                <a:lnTo>
                  <a:pt x="205" y="713"/>
                </a:lnTo>
                <a:lnTo>
                  <a:pt x="188" y="704"/>
                </a:lnTo>
                <a:lnTo>
                  <a:pt x="170" y="694"/>
                </a:lnTo>
                <a:lnTo>
                  <a:pt x="153" y="684"/>
                </a:lnTo>
                <a:lnTo>
                  <a:pt x="139" y="669"/>
                </a:lnTo>
                <a:lnTo>
                  <a:pt x="126" y="657"/>
                </a:lnTo>
                <a:lnTo>
                  <a:pt x="114" y="641"/>
                </a:lnTo>
                <a:lnTo>
                  <a:pt x="103" y="630"/>
                </a:lnTo>
                <a:lnTo>
                  <a:pt x="89" y="614"/>
                </a:lnTo>
                <a:lnTo>
                  <a:pt x="75" y="603"/>
                </a:lnTo>
                <a:lnTo>
                  <a:pt x="64" y="587"/>
                </a:lnTo>
                <a:lnTo>
                  <a:pt x="52" y="576"/>
                </a:lnTo>
                <a:lnTo>
                  <a:pt x="44" y="558"/>
                </a:lnTo>
                <a:lnTo>
                  <a:pt x="39" y="541"/>
                </a:lnTo>
                <a:lnTo>
                  <a:pt x="31" y="523"/>
                </a:lnTo>
                <a:lnTo>
                  <a:pt x="25" y="506"/>
                </a:lnTo>
                <a:lnTo>
                  <a:pt x="17" y="488"/>
                </a:lnTo>
                <a:lnTo>
                  <a:pt x="11" y="471"/>
                </a:lnTo>
                <a:lnTo>
                  <a:pt x="6" y="453"/>
                </a:lnTo>
                <a:lnTo>
                  <a:pt x="0" y="438"/>
                </a:lnTo>
                <a:lnTo>
                  <a:pt x="0" y="420"/>
                </a:lnTo>
                <a:lnTo>
                  <a:pt x="2" y="403"/>
                </a:lnTo>
                <a:lnTo>
                  <a:pt x="2" y="386"/>
                </a:lnTo>
                <a:lnTo>
                  <a:pt x="4" y="368"/>
                </a:lnTo>
                <a:lnTo>
                  <a:pt x="4" y="351"/>
                </a:lnTo>
                <a:lnTo>
                  <a:pt x="6" y="333"/>
                </a:lnTo>
                <a:lnTo>
                  <a:pt x="6" y="316"/>
                </a:lnTo>
                <a:lnTo>
                  <a:pt x="8" y="298"/>
                </a:lnTo>
                <a:lnTo>
                  <a:pt x="8" y="281"/>
                </a:lnTo>
                <a:lnTo>
                  <a:pt x="10" y="263"/>
                </a:lnTo>
                <a:lnTo>
                  <a:pt x="11" y="248"/>
                </a:lnTo>
                <a:lnTo>
                  <a:pt x="13" y="232"/>
                </a:lnTo>
                <a:lnTo>
                  <a:pt x="15" y="215"/>
                </a:lnTo>
                <a:lnTo>
                  <a:pt x="17" y="199"/>
                </a:lnTo>
                <a:lnTo>
                  <a:pt x="19" y="184"/>
                </a:lnTo>
                <a:lnTo>
                  <a:pt x="23" y="168"/>
                </a:lnTo>
                <a:lnTo>
                  <a:pt x="31" y="153"/>
                </a:lnTo>
                <a:lnTo>
                  <a:pt x="41" y="139"/>
                </a:lnTo>
                <a:lnTo>
                  <a:pt x="48" y="126"/>
                </a:lnTo>
                <a:lnTo>
                  <a:pt x="58" y="112"/>
                </a:lnTo>
                <a:lnTo>
                  <a:pt x="66" y="97"/>
                </a:lnTo>
                <a:lnTo>
                  <a:pt x="75" y="85"/>
                </a:lnTo>
                <a:lnTo>
                  <a:pt x="85" y="69"/>
                </a:lnTo>
                <a:lnTo>
                  <a:pt x="95" y="58"/>
                </a:lnTo>
                <a:lnTo>
                  <a:pt x="108" y="50"/>
                </a:lnTo>
                <a:lnTo>
                  <a:pt x="124" y="42"/>
                </a:lnTo>
                <a:lnTo>
                  <a:pt x="138" y="35"/>
                </a:lnTo>
                <a:lnTo>
                  <a:pt x="153" y="29"/>
                </a:lnTo>
                <a:lnTo>
                  <a:pt x="167" y="21"/>
                </a:lnTo>
                <a:lnTo>
                  <a:pt x="182" y="13"/>
                </a:lnTo>
                <a:lnTo>
                  <a:pt x="196" y="6"/>
                </a:lnTo>
                <a:lnTo>
                  <a:pt x="211" y="0"/>
                </a:lnTo>
                <a:lnTo>
                  <a:pt x="229" y="2"/>
                </a:lnTo>
                <a:lnTo>
                  <a:pt x="246" y="4"/>
                </a:lnTo>
                <a:lnTo>
                  <a:pt x="264" y="6"/>
                </a:lnTo>
                <a:lnTo>
                  <a:pt x="281" y="9"/>
                </a:lnTo>
                <a:lnTo>
                  <a:pt x="298" y="11"/>
                </a:lnTo>
                <a:lnTo>
                  <a:pt x="316" y="15"/>
                </a:lnTo>
                <a:lnTo>
                  <a:pt x="333" y="17"/>
                </a:lnTo>
                <a:lnTo>
                  <a:pt x="351" y="21"/>
                </a:lnTo>
                <a:lnTo>
                  <a:pt x="364" y="27"/>
                </a:lnTo>
                <a:lnTo>
                  <a:pt x="380" y="35"/>
                </a:lnTo>
                <a:lnTo>
                  <a:pt x="394" y="42"/>
                </a:lnTo>
                <a:lnTo>
                  <a:pt x="409" y="50"/>
                </a:lnTo>
                <a:lnTo>
                  <a:pt x="423" y="58"/>
                </a:lnTo>
                <a:lnTo>
                  <a:pt x="438" y="66"/>
                </a:lnTo>
                <a:lnTo>
                  <a:pt x="452" y="73"/>
                </a:lnTo>
                <a:lnTo>
                  <a:pt x="467" y="81"/>
                </a:lnTo>
                <a:lnTo>
                  <a:pt x="479" y="87"/>
                </a:lnTo>
                <a:lnTo>
                  <a:pt x="492" y="97"/>
                </a:lnTo>
                <a:lnTo>
                  <a:pt x="504" y="102"/>
                </a:lnTo>
                <a:lnTo>
                  <a:pt x="518" y="112"/>
                </a:lnTo>
                <a:lnTo>
                  <a:pt x="529" y="120"/>
                </a:lnTo>
                <a:lnTo>
                  <a:pt x="543" y="130"/>
                </a:lnTo>
                <a:lnTo>
                  <a:pt x="556" y="137"/>
                </a:lnTo>
                <a:lnTo>
                  <a:pt x="570" y="147"/>
                </a:lnTo>
                <a:lnTo>
                  <a:pt x="586" y="159"/>
                </a:lnTo>
                <a:lnTo>
                  <a:pt x="601" y="170"/>
                </a:lnTo>
                <a:lnTo>
                  <a:pt x="617" y="184"/>
                </a:lnTo>
                <a:lnTo>
                  <a:pt x="634" y="197"/>
                </a:lnTo>
                <a:lnTo>
                  <a:pt x="650" y="209"/>
                </a:lnTo>
                <a:lnTo>
                  <a:pt x="667" y="221"/>
                </a:lnTo>
                <a:lnTo>
                  <a:pt x="682" y="234"/>
                </a:lnTo>
                <a:lnTo>
                  <a:pt x="700" y="248"/>
                </a:lnTo>
                <a:lnTo>
                  <a:pt x="706" y="260"/>
                </a:lnTo>
                <a:lnTo>
                  <a:pt x="712" y="271"/>
                </a:lnTo>
                <a:lnTo>
                  <a:pt x="717" y="285"/>
                </a:lnTo>
                <a:lnTo>
                  <a:pt x="725" y="298"/>
                </a:lnTo>
                <a:lnTo>
                  <a:pt x="731" y="310"/>
                </a:lnTo>
                <a:lnTo>
                  <a:pt x="739" y="322"/>
                </a:lnTo>
                <a:lnTo>
                  <a:pt x="745" y="335"/>
                </a:lnTo>
                <a:lnTo>
                  <a:pt x="752" y="349"/>
                </a:lnTo>
                <a:lnTo>
                  <a:pt x="750" y="366"/>
                </a:lnTo>
                <a:lnTo>
                  <a:pt x="748" y="386"/>
                </a:lnTo>
                <a:lnTo>
                  <a:pt x="746" y="403"/>
                </a:lnTo>
                <a:lnTo>
                  <a:pt x="746" y="422"/>
                </a:lnTo>
                <a:lnTo>
                  <a:pt x="745" y="440"/>
                </a:lnTo>
                <a:lnTo>
                  <a:pt x="745" y="459"/>
                </a:lnTo>
                <a:lnTo>
                  <a:pt x="745" y="477"/>
                </a:lnTo>
                <a:lnTo>
                  <a:pt x="745" y="496"/>
                </a:lnTo>
                <a:lnTo>
                  <a:pt x="739" y="508"/>
                </a:lnTo>
                <a:lnTo>
                  <a:pt x="733" y="521"/>
                </a:lnTo>
                <a:lnTo>
                  <a:pt x="727" y="535"/>
                </a:lnTo>
                <a:lnTo>
                  <a:pt x="721" y="548"/>
                </a:lnTo>
                <a:lnTo>
                  <a:pt x="715" y="562"/>
                </a:lnTo>
                <a:lnTo>
                  <a:pt x="710" y="576"/>
                </a:lnTo>
                <a:lnTo>
                  <a:pt x="704" y="589"/>
                </a:lnTo>
                <a:lnTo>
                  <a:pt x="700" y="605"/>
                </a:lnTo>
                <a:lnTo>
                  <a:pt x="688" y="616"/>
                </a:lnTo>
                <a:lnTo>
                  <a:pt x="679" y="628"/>
                </a:lnTo>
                <a:lnTo>
                  <a:pt x="669" y="640"/>
                </a:lnTo>
                <a:lnTo>
                  <a:pt x="659" y="651"/>
                </a:lnTo>
                <a:lnTo>
                  <a:pt x="648" y="663"/>
                </a:lnTo>
                <a:lnTo>
                  <a:pt x="640" y="674"/>
                </a:lnTo>
                <a:lnTo>
                  <a:pt x="628" y="686"/>
                </a:lnTo>
                <a:lnTo>
                  <a:pt x="620" y="700"/>
                </a:lnTo>
                <a:lnTo>
                  <a:pt x="613" y="711"/>
                </a:lnTo>
                <a:lnTo>
                  <a:pt x="607" y="727"/>
                </a:lnTo>
                <a:lnTo>
                  <a:pt x="601" y="738"/>
                </a:lnTo>
                <a:lnTo>
                  <a:pt x="595" y="754"/>
                </a:lnTo>
                <a:lnTo>
                  <a:pt x="587" y="768"/>
                </a:lnTo>
                <a:lnTo>
                  <a:pt x="582" y="781"/>
                </a:lnTo>
                <a:lnTo>
                  <a:pt x="576" y="795"/>
                </a:lnTo>
                <a:lnTo>
                  <a:pt x="570" y="810"/>
                </a:lnTo>
                <a:lnTo>
                  <a:pt x="553" y="816"/>
                </a:lnTo>
                <a:lnTo>
                  <a:pt x="537" y="822"/>
                </a:lnTo>
                <a:lnTo>
                  <a:pt x="522" y="828"/>
                </a:lnTo>
                <a:lnTo>
                  <a:pt x="506" y="833"/>
                </a:lnTo>
                <a:lnTo>
                  <a:pt x="490" y="839"/>
                </a:lnTo>
                <a:lnTo>
                  <a:pt x="475" y="847"/>
                </a:lnTo>
                <a:lnTo>
                  <a:pt x="459" y="853"/>
                </a:lnTo>
                <a:lnTo>
                  <a:pt x="446" y="861"/>
                </a:lnTo>
                <a:close/>
              </a:path>
            </a:pathLst>
          </a:custGeom>
          <a:solidFill>
            <a:srgbClr val="e58d35"/>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42" name=""/>
          <p:cNvSpPr/>
          <p:nvPr/>
        </p:nvSpPr>
        <p:spPr>
          <a:xfrm>
            <a:off x="3390840" y="4255920"/>
            <a:ext cx="433440" cy="498600"/>
          </a:xfrm>
          <a:custGeom>
            <a:avLst/>
            <a:gdLst/>
            <a:ahLst/>
            <a:rect l="l" t="t" r="r" b="b"/>
            <a:pathLst>
              <a:path w="547" h="626">
                <a:moveTo>
                  <a:pt x="322" y="626"/>
                </a:moveTo>
                <a:lnTo>
                  <a:pt x="309" y="616"/>
                </a:lnTo>
                <a:lnTo>
                  <a:pt x="295" y="609"/>
                </a:lnTo>
                <a:lnTo>
                  <a:pt x="282" y="599"/>
                </a:lnTo>
                <a:lnTo>
                  <a:pt x="270" y="591"/>
                </a:lnTo>
                <a:lnTo>
                  <a:pt x="256" y="581"/>
                </a:lnTo>
                <a:lnTo>
                  <a:pt x="243" y="574"/>
                </a:lnTo>
                <a:lnTo>
                  <a:pt x="229" y="564"/>
                </a:lnTo>
                <a:lnTo>
                  <a:pt x="218" y="556"/>
                </a:lnTo>
                <a:lnTo>
                  <a:pt x="202" y="548"/>
                </a:lnTo>
                <a:lnTo>
                  <a:pt x="189" y="541"/>
                </a:lnTo>
                <a:lnTo>
                  <a:pt x="175" y="533"/>
                </a:lnTo>
                <a:lnTo>
                  <a:pt x="163" y="527"/>
                </a:lnTo>
                <a:lnTo>
                  <a:pt x="150" y="519"/>
                </a:lnTo>
                <a:lnTo>
                  <a:pt x="136" y="512"/>
                </a:lnTo>
                <a:lnTo>
                  <a:pt x="123" y="504"/>
                </a:lnTo>
                <a:lnTo>
                  <a:pt x="111" y="498"/>
                </a:lnTo>
                <a:lnTo>
                  <a:pt x="92" y="477"/>
                </a:lnTo>
                <a:lnTo>
                  <a:pt x="72" y="457"/>
                </a:lnTo>
                <a:lnTo>
                  <a:pt x="55" y="438"/>
                </a:lnTo>
                <a:lnTo>
                  <a:pt x="37" y="419"/>
                </a:lnTo>
                <a:lnTo>
                  <a:pt x="32" y="405"/>
                </a:lnTo>
                <a:lnTo>
                  <a:pt x="28" y="391"/>
                </a:lnTo>
                <a:lnTo>
                  <a:pt x="22" y="378"/>
                </a:lnTo>
                <a:lnTo>
                  <a:pt x="18" y="366"/>
                </a:lnTo>
                <a:lnTo>
                  <a:pt x="12" y="353"/>
                </a:lnTo>
                <a:lnTo>
                  <a:pt x="8" y="341"/>
                </a:lnTo>
                <a:lnTo>
                  <a:pt x="4" y="329"/>
                </a:lnTo>
                <a:lnTo>
                  <a:pt x="0" y="318"/>
                </a:lnTo>
                <a:lnTo>
                  <a:pt x="0" y="304"/>
                </a:lnTo>
                <a:lnTo>
                  <a:pt x="0" y="291"/>
                </a:lnTo>
                <a:lnTo>
                  <a:pt x="0" y="277"/>
                </a:lnTo>
                <a:lnTo>
                  <a:pt x="2" y="265"/>
                </a:lnTo>
                <a:lnTo>
                  <a:pt x="2" y="252"/>
                </a:lnTo>
                <a:lnTo>
                  <a:pt x="2" y="240"/>
                </a:lnTo>
                <a:lnTo>
                  <a:pt x="2" y="229"/>
                </a:lnTo>
                <a:lnTo>
                  <a:pt x="4" y="217"/>
                </a:lnTo>
                <a:lnTo>
                  <a:pt x="4" y="203"/>
                </a:lnTo>
                <a:lnTo>
                  <a:pt x="6" y="192"/>
                </a:lnTo>
                <a:lnTo>
                  <a:pt x="8" y="180"/>
                </a:lnTo>
                <a:lnTo>
                  <a:pt x="10" y="168"/>
                </a:lnTo>
                <a:lnTo>
                  <a:pt x="10" y="157"/>
                </a:lnTo>
                <a:lnTo>
                  <a:pt x="12" y="145"/>
                </a:lnTo>
                <a:lnTo>
                  <a:pt x="14" y="134"/>
                </a:lnTo>
                <a:lnTo>
                  <a:pt x="16" y="122"/>
                </a:lnTo>
                <a:lnTo>
                  <a:pt x="28" y="101"/>
                </a:lnTo>
                <a:lnTo>
                  <a:pt x="41" y="81"/>
                </a:lnTo>
                <a:lnTo>
                  <a:pt x="55" y="62"/>
                </a:lnTo>
                <a:lnTo>
                  <a:pt x="68" y="42"/>
                </a:lnTo>
                <a:lnTo>
                  <a:pt x="78" y="37"/>
                </a:lnTo>
                <a:lnTo>
                  <a:pt x="88" y="31"/>
                </a:lnTo>
                <a:lnTo>
                  <a:pt x="99" y="25"/>
                </a:lnTo>
                <a:lnTo>
                  <a:pt x="111" y="21"/>
                </a:lnTo>
                <a:lnTo>
                  <a:pt x="121" y="15"/>
                </a:lnTo>
                <a:lnTo>
                  <a:pt x="130" y="9"/>
                </a:lnTo>
                <a:lnTo>
                  <a:pt x="142" y="4"/>
                </a:lnTo>
                <a:lnTo>
                  <a:pt x="154" y="0"/>
                </a:lnTo>
                <a:lnTo>
                  <a:pt x="165" y="0"/>
                </a:lnTo>
                <a:lnTo>
                  <a:pt x="177" y="2"/>
                </a:lnTo>
                <a:lnTo>
                  <a:pt x="191" y="4"/>
                </a:lnTo>
                <a:lnTo>
                  <a:pt x="204" y="7"/>
                </a:lnTo>
                <a:lnTo>
                  <a:pt x="216" y="7"/>
                </a:lnTo>
                <a:lnTo>
                  <a:pt x="227" y="9"/>
                </a:lnTo>
                <a:lnTo>
                  <a:pt x="241" y="11"/>
                </a:lnTo>
                <a:lnTo>
                  <a:pt x="255" y="15"/>
                </a:lnTo>
                <a:lnTo>
                  <a:pt x="264" y="19"/>
                </a:lnTo>
                <a:lnTo>
                  <a:pt x="274" y="25"/>
                </a:lnTo>
                <a:lnTo>
                  <a:pt x="286" y="31"/>
                </a:lnTo>
                <a:lnTo>
                  <a:pt x="297" y="37"/>
                </a:lnTo>
                <a:lnTo>
                  <a:pt x="307" y="40"/>
                </a:lnTo>
                <a:lnTo>
                  <a:pt x="317" y="46"/>
                </a:lnTo>
                <a:lnTo>
                  <a:pt x="328" y="52"/>
                </a:lnTo>
                <a:lnTo>
                  <a:pt x="340" y="58"/>
                </a:lnTo>
                <a:lnTo>
                  <a:pt x="357" y="70"/>
                </a:lnTo>
                <a:lnTo>
                  <a:pt x="375" y="81"/>
                </a:lnTo>
                <a:lnTo>
                  <a:pt x="394" y="93"/>
                </a:lnTo>
                <a:lnTo>
                  <a:pt x="414" y="106"/>
                </a:lnTo>
                <a:lnTo>
                  <a:pt x="425" y="114"/>
                </a:lnTo>
                <a:lnTo>
                  <a:pt x="437" y="124"/>
                </a:lnTo>
                <a:lnTo>
                  <a:pt x="448" y="132"/>
                </a:lnTo>
                <a:lnTo>
                  <a:pt x="460" y="143"/>
                </a:lnTo>
                <a:lnTo>
                  <a:pt x="472" y="151"/>
                </a:lnTo>
                <a:lnTo>
                  <a:pt x="483" y="161"/>
                </a:lnTo>
                <a:lnTo>
                  <a:pt x="495" y="168"/>
                </a:lnTo>
                <a:lnTo>
                  <a:pt x="509" y="180"/>
                </a:lnTo>
                <a:lnTo>
                  <a:pt x="516" y="198"/>
                </a:lnTo>
                <a:lnTo>
                  <a:pt x="528" y="217"/>
                </a:lnTo>
                <a:lnTo>
                  <a:pt x="536" y="234"/>
                </a:lnTo>
                <a:lnTo>
                  <a:pt x="547" y="254"/>
                </a:lnTo>
                <a:lnTo>
                  <a:pt x="545" y="265"/>
                </a:lnTo>
                <a:lnTo>
                  <a:pt x="545" y="279"/>
                </a:lnTo>
                <a:lnTo>
                  <a:pt x="544" y="293"/>
                </a:lnTo>
                <a:lnTo>
                  <a:pt x="544" y="306"/>
                </a:lnTo>
                <a:lnTo>
                  <a:pt x="542" y="318"/>
                </a:lnTo>
                <a:lnTo>
                  <a:pt x="542" y="333"/>
                </a:lnTo>
                <a:lnTo>
                  <a:pt x="542" y="345"/>
                </a:lnTo>
                <a:lnTo>
                  <a:pt x="542" y="360"/>
                </a:lnTo>
                <a:lnTo>
                  <a:pt x="532" y="378"/>
                </a:lnTo>
                <a:lnTo>
                  <a:pt x="524" y="399"/>
                </a:lnTo>
                <a:lnTo>
                  <a:pt x="516" y="419"/>
                </a:lnTo>
                <a:lnTo>
                  <a:pt x="509" y="440"/>
                </a:lnTo>
                <a:lnTo>
                  <a:pt x="493" y="455"/>
                </a:lnTo>
                <a:lnTo>
                  <a:pt x="480" y="473"/>
                </a:lnTo>
                <a:lnTo>
                  <a:pt x="464" y="490"/>
                </a:lnTo>
                <a:lnTo>
                  <a:pt x="450" y="508"/>
                </a:lnTo>
                <a:lnTo>
                  <a:pt x="441" y="527"/>
                </a:lnTo>
                <a:lnTo>
                  <a:pt x="431" y="547"/>
                </a:lnTo>
                <a:lnTo>
                  <a:pt x="421" y="566"/>
                </a:lnTo>
                <a:lnTo>
                  <a:pt x="414" y="587"/>
                </a:lnTo>
                <a:lnTo>
                  <a:pt x="402" y="591"/>
                </a:lnTo>
                <a:lnTo>
                  <a:pt x="390" y="595"/>
                </a:lnTo>
                <a:lnTo>
                  <a:pt x="379" y="599"/>
                </a:lnTo>
                <a:lnTo>
                  <a:pt x="367" y="605"/>
                </a:lnTo>
                <a:lnTo>
                  <a:pt x="355" y="609"/>
                </a:lnTo>
                <a:lnTo>
                  <a:pt x="344" y="614"/>
                </a:lnTo>
                <a:lnTo>
                  <a:pt x="332" y="620"/>
                </a:lnTo>
                <a:lnTo>
                  <a:pt x="322" y="626"/>
                </a:lnTo>
                <a:close/>
              </a:path>
            </a:pathLst>
          </a:custGeom>
          <a:solidFill>
            <a:srgbClr val="e58d35"/>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43" name=""/>
          <p:cNvSpPr/>
          <p:nvPr/>
        </p:nvSpPr>
        <p:spPr>
          <a:xfrm>
            <a:off x="3422520" y="4305240"/>
            <a:ext cx="271440" cy="309600"/>
          </a:xfrm>
          <a:custGeom>
            <a:avLst/>
            <a:gdLst/>
            <a:ahLst/>
            <a:rect l="l" t="t" r="r" b="b"/>
            <a:pathLst>
              <a:path w="342" h="390">
                <a:moveTo>
                  <a:pt x="204" y="390"/>
                </a:moveTo>
                <a:lnTo>
                  <a:pt x="136" y="347"/>
                </a:lnTo>
                <a:lnTo>
                  <a:pt x="70" y="310"/>
                </a:lnTo>
                <a:lnTo>
                  <a:pt x="23" y="262"/>
                </a:lnTo>
                <a:lnTo>
                  <a:pt x="0" y="198"/>
                </a:lnTo>
                <a:lnTo>
                  <a:pt x="4" y="136"/>
                </a:lnTo>
                <a:lnTo>
                  <a:pt x="10" y="75"/>
                </a:lnTo>
                <a:lnTo>
                  <a:pt x="43" y="25"/>
                </a:lnTo>
                <a:lnTo>
                  <a:pt x="95" y="0"/>
                </a:lnTo>
                <a:lnTo>
                  <a:pt x="159" y="9"/>
                </a:lnTo>
                <a:lnTo>
                  <a:pt x="212" y="37"/>
                </a:lnTo>
                <a:lnTo>
                  <a:pt x="258" y="66"/>
                </a:lnTo>
                <a:lnTo>
                  <a:pt x="318" y="112"/>
                </a:lnTo>
                <a:lnTo>
                  <a:pt x="342" y="157"/>
                </a:lnTo>
                <a:lnTo>
                  <a:pt x="338" y="225"/>
                </a:lnTo>
                <a:lnTo>
                  <a:pt x="318" y="273"/>
                </a:lnTo>
                <a:lnTo>
                  <a:pt x="281" y="318"/>
                </a:lnTo>
                <a:lnTo>
                  <a:pt x="258" y="366"/>
                </a:lnTo>
                <a:lnTo>
                  <a:pt x="204" y="390"/>
                </a:lnTo>
                <a:close/>
              </a:path>
            </a:pathLst>
          </a:custGeom>
          <a:solidFill>
            <a:srgbClr val="e58d35"/>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44" name=""/>
          <p:cNvSpPr/>
          <p:nvPr/>
        </p:nvSpPr>
        <p:spPr>
          <a:xfrm>
            <a:off x="3448080" y="5975280"/>
            <a:ext cx="504720" cy="527040"/>
          </a:xfrm>
          <a:custGeom>
            <a:avLst/>
            <a:gdLst/>
            <a:ahLst/>
            <a:rect l="l" t="t" r="r" b="b"/>
            <a:pathLst>
              <a:path w="636" h="664">
                <a:moveTo>
                  <a:pt x="345" y="0"/>
                </a:moveTo>
                <a:lnTo>
                  <a:pt x="491" y="146"/>
                </a:lnTo>
                <a:lnTo>
                  <a:pt x="611" y="307"/>
                </a:lnTo>
                <a:lnTo>
                  <a:pt x="636" y="466"/>
                </a:lnTo>
                <a:lnTo>
                  <a:pt x="570" y="584"/>
                </a:lnTo>
                <a:lnTo>
                  <a:pt x="411" y="664"/>
                </a:lnTo>
                <a:lnTo>
                  <a:pt x="200" y="584"/>
                </a:lnTo>
                <a:lnTo>
                  <a:pt x="0" y="346"/>
                </a:lnTo>
                <a:lnTo>
                  <a:pt x="14" y="107"/>
                </a:lnTo>
                <a:lnTo>
                  <a:pt x="146" y="0"/>
                </a:lnTo>
                <a:lnTo>
                  <a:pt x="345" y="0"/>
                </a:lnTo>
                <a:close/>
              </a:path>
            </a:pathLst>
          </a:custGeom>
          <a:solidFill>
            <a:srgbClr val="e58d35"/>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45" name=""/>
          <p:cNvSpPr/>
          <p:nvPr/>
        </p:nvSpPr>
        <p:spPr>
          <a:xfrm>
            <a:off x="3468600" y="5992920"/>
            <a:ext cx="430200" cy="446040"/>
          </a:xfrm>
          <a:custGeom>
            <a:avLst/>
            <a:gdLst/>
            <a:ahLst/>
            <a:rect l="l" t="t" r="r" b="b"/>
            <a:pathLst>
              <a:path w="541" h="562">
                <a:moveTo>
                  <a:pt x="293" y="0"/>
                </a:moveTo>
                <a:lnTo>
                  <a:pt x="307" y="13"/>
                </a:lnTo>
                <a:lnTo>
                  <a:pt x="324" y="29"/>
                </a:lnTo>
                <a:lnTo>
                  <a:pt x="338" y="44"/>
                </a:lnTo>
                <a:lnTo>
                  <a:pt x="355" y="60"/>
                </a:lnTo>
                <a:lnTo>
                  <a:pt x="369" y="75"/>
                </a:lnTo>
                <a:lnTo>
                  <a:pt x="386" y="91"/>
                </a:lnTo>
                <a:lnTo>
                  <a:pt x="400" y="106"/>
                </a:lnTo>
                <a:lnTo>
                  <a:pt x="417" y="124"/>
                </a:lnTo>
                <a:lnTo>
                  <a:pt x="429" y="139"/>
                </a:lnTo>
                <a:lnTo>
                  <a:pt x="441" y="157"/>
                </a:lnTo>
                <a:lnTo>
                  <a:pt x="454" y="172"/>
                </a:lnTo>
                <a:lnTo>
                  <a:pt x="468" y="190"/>
                </a:lnTo>
                <a:lnTo>
                  <a:pt x="479" y="205"/>
                </a:lnTo>
                <a:lnTo>
                  <a:pt x="491" y="223"/>
                </a:lnTo>
                <a:lnTo>
                  <a:pt x="505" y="240"/>
                </a:lnTo>
                <a:lnTo>
                  <a:pt x="518" y="258"/>
                </a:lnTo>
                <a:lnTo>
                  <a:pt x="520" y="273"/>
                </a:lnTo>
                <a:lnTo>
                  <a:pt x="524" y="291"/>
                </a:lnTo>
                <a:lnTo>
                  <a:pt x="526" y="308"/>
                </a:lnTo>
                <a:lnTo>
                  <a:pt x="530" y="326"/>
                </a:lnTo>
                <a:lnTo>
                  <a:pt x="532" y="341"/>
                </a:lnTo>
                <a:lnTo>
                  <a:pt x="536" y="359"/>
                </a:lnTo>
                <a:lnTo>
                  <a:pt x="538" y="376"/>
                </a:lnTo>
                <a:lnTo>
                  <a:pt x="541" y="393"/>
                </a:lnTo>
                <a:lnTo>
                  <a:pt x="534" y="405"/>
                </a:lnTo>
                <a:lnTo>
                  <a:pt x="526" y="419"/>
                </a:lnTo>
                <a:lnTo>
                  <a:pt x="518" y="430"/>
                </a:lnTo>
                <a:lnTo>
                  <a:pt x="512" y="444"/>
                </a:lnTo>
                <a:lnTo>
                  <a:pt x="505" y="455"/>
                </a:lnTo>
                <a:lnTo>
                  <a:pt x="499" y="469"/>
                </a:lnTo>
                <a:lnTo>
                  <a:pt x="491" y="481"/>
                </a:lnTo>
                <a:lnTo>
                  <a:pt x="485" y="494"/>
                </a:lnTo>
                <a:lnTo>
                  <a:pt x="468" y="502"/>
                </a:lnTo>
                <a:lnTo>
                  <a:pt x="450" y="510"/>
                </a:lnTo>
                <a:lnTo>
                  <a:pt x="433" y="518"/>
                </a:lnTo>
                <a:lnTo>
                  <a:pt x="415" y="527"/>
                </a:lnTo>
                <a:lnTo>
                  <a:pt x="398" y="535"/>
                </a:lnTo>
                <a:lnTo>
                  <a:pt x="382" y="545"/>
                </a:lnTo>
                <a:lnTo>
                  <a:pt x="365" y="552"/>
                </a:lnTo>
                <a:lnTo>
                  <a:pt x="349" y="562"/>
                </a:lnTo>
                <a:lnTo>
                  <a:pt x="338" y="556"/>
                </a:lnTo>
                <a:lnTo>
                  <a:pt x="326" y="552"/>
                </a:lnTo>
                <a:lnTo>
                  <a:pt x="315" y="549"/>
                </a:lnTo>
                <a:lnTo>
                  <a:pt x="303" y="545"/>
                </a:lnTo>
                <a:lnTo>
                  <a:pt x="291" y="539"/>
                </a:lnTo>
                <a:lnTo>
                  <a:pt x="280" y="535"/>
                </a:lnTo>
                <a:lnTo>
                  <a:pt x="268" y="531"/>
                </a:lnTo>
                <a:lnTo>
                  <a:pt x="258" y="527"/>
                </a:lnTo>
                <a:lnTo>
                  <a:pt x="247" y="521"/>
                </a:lnTo>
                <a:lnTo>
                  <a:pt x="235" y="518"/>
                </a:lnTo>
                <a:lnTo>
                  <a:pt x="223" y="514"/>
                </a:lnTo>
                <a:lnTo>
                  <a:pt x="214" y="510"/>
                </a:lnTo>
                <a:lnTo>
                  <a:pt x="202" y="506"/>
                </a:lnTo>
                <a:lnTo>
                  <a:pt x="190" y="502"/>
                </a:lnTo>
                <a:lnTo>
                  <a:pt x="179" y="498"/>
                </a:lnTo>
                <a:lnTo>
                  <a:pt x="169" y="494"/>
                </a:lnTo>
                <a:lnTo>
                  <a:pt x="157" y="481"/>
                </a:lnTo>
                <a:lnTo>
                  <a:pt x="146" y="467"/>
                </a:lnTo>
                <a:lnTo>
                  <a:pt x="136" y="455"/>
                </a:lnTo>
                <a:lnTo>
                  <a:pt x="126" y="444"/>
                </a:lnTo>
                <a:lnTo>
                  <a:pt x="115" y="430"/>
                </a:lnTo>
                <a:lnTo>
                  <a:pt x="103" y="417"/>
                </a:lnTo>
                <a:lnTo>
                  <a:pt x="93" y="405"/>
                </a:lnTo>
                <a:lnTo>
                  <a:pt x="84" y="393"/>
                </a:lnTo>
                <a:lnTo>
                  <a:pt x="72" y="380"/>
                </a:lnTo>
                <a:lnTo>
                  <a:pt x="62" y="366"/>
                </a:lnTo>
                <a:lnTo>
                  <a:pt x="51" y="355"/>
                </a:lnTo>
                <a:lnTo>
                  <a:pt x="41" y="343"/>
                </a:lnTo>
                <a:lnTo>
                  <a:pt x="29" y="329"/>
                </a:lnTo>
                <a:lnTo>
                  <a:pt x="20" y="316"/>
                </a:lnTo>
                <a:lnTo>
                  <a:pt x="10" y="304"/>
                </a:lnTo>
                <a:lnTo>
                  <a:pt x="0" y="293"/>
                </a:lnTo>
                <a:lnTo>
                  <a:pt x="0" y="279"/>
                </a:lnTo>
                <a:lnTo>
                  <a:pt x="0" y="265"/>
                </a:lnTo>
                <a:lnTo>
                  <a:pt x="0" y="252"/>
                </a:lnTo>
                <a:lnTo>
                  <a:pt x="2" y="240"/>
                </a:lnTo>
                <a:lnTo>
                  <a:pt x="2" y="227"/>
                </a:lnTo>
                <a:lnTo>
                  <a:pt x="2" y="215"/>
                </a:lnTo>
                <a:lnTo>
                  <a:pt x="2" y="201"/>
                </a:lnTo>
                <a:lnTo>
                  <a:pt x="4" y="190"/>
                </a:lnTo>
                <a:lnTo>
                  <a:pt x="4" y="176"/>
                </a:lnTo>
                <a:lnTo>
                  <a:pt x="4" y="163"/>
                </a:lnTo>
                <a:lnTo>
                  <a:pt x="4" y="151"/>
                </a:lnTo>
                <a:lnTo>
                  <a:pt x="6" y="139"/>
                </a:lnTo>
                <a:lnTo>
                  <a:pt x="6" y="126"/>
                </a:lnTo>
                <a:lnTo>
                  <a:pt x="8" y="112"/>
                </a:lnTo>
                <a:lnTo>
                  <a:pt x="8" y="101"/>
                </a:lnTo>
                <a:lnTo>
                  <a:pt x="10" y="89"/>
                </a:lnTo>
                <a:lnTo>
                  <a:pt x="24" y="77"/>
                </a:lnTo>
                <a:lnTo>
                  <a:pt x="37" y="66"/>
                </a:lnTo>
                <a:lnTo>
                  <a:pt x="51" y="54"/>
                </a:lnTo>
                <a:lnTo>
                  <a:pt x="66" y="44"/>
                </a:lnTo>
                <a:lnTo>
                  <a:pt x="80" y="33"/>
                </a:lnTo>
                <a:lnTo>
                  <a:pt x="95" y="21"/>
                </a:lnTo>
                <a:lnTo>
                  <a:pt x="109" y="10"/>
                </a:lnTo>
                <a:lnTo>
                  <a:pt x="125" y="0"/>
                </a:lnTo>
                <a:lnTo>
                  <a:pt x="144" y="0"/>
                </a:lnTo>
                <a:lnTo>
                  <a:pt x="165" y="0"/>
                </a:lnTo>
                <a:lnTo>
                  <a:pt x="175" y="0"/>
                </a:lnTo>
                <a:lnTo>
                  <a:pt x="187" y="0"/>
                </a:lnTo>
                <a:lnTo>
                  <a:pt x="196" y="0"/>
                </a:lnTo>
                <a:lnTo>
                  <a:pt x="208" y="0"/>
                </a:lnTo>
                <a:lnTo>
                  <a:pt x="218" y="0"/>
                </a:lnTo>
                <a:lnTo>
                  <a:pt x="227" y="0"/>
                </a:lnTo>
                <a:lnTo>
                  <a:pt x="239" y="0"/>
                </a:lnTo>
                <a:lnTo>
                  <a:pt x="251" y="0"/>
                </a:lnTo>
                <a:lnTo>
                  <a:pt x="260" y="0"/>
                </a:lnTo>
                <a:lnTo>
                  <a:pt x="270" y="0"/>
                </a:lnTo>
                <a:lnTo>
                  <a:pt x="282" y="0"/>
                </a:lnTo>
                <a:lnTo>
                  <a:pt x="293" y="0"/>
                </a:lnTo>
                <a:close/>
              </a:path>
            </a:pathLst>
          </a:custGeom>
          <a:solidFill>
            <a:srgbClr val="e58d35"/>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46" name=""/>
          <p:cNvSpPr/>
          <p:nvPr/>
        </p:nvSpPr>
        <p:spPr>
          <a:xfrm>
            <a:off x="3489480" y="6008760"/>
            <a:ext cx="353880" cy="368280"/>
          </a:xfrm>
          <a:custGeom>
            <a:avLst/>
            <a:gdLst/>
            <a:ahLst/>
            <a:rect l="l" t="t" r="r" b="b"/>
            <a:pathLst>
              <a:path w="446" h="466">
                <a:moveTo>
                  <a:pt x="242" y="0"/>
                </a:moveTo>
                <a:lnTo>
                  <a:pt x="254" y="12"/>
                </a:lnTo>
                <a:lnTo>
                  <a:pt x="267" y="25"/>
                </a:lnTo>
                <a:lnTo>
                  <a:pt x="279" y="37"/>
                </a:lnTo>
                <a:lnTo>
                  <a:pt x="292" y="51"/>
                </a:lnTo>
                <a:lnTo>
                  <a:pt x="304" y="62"/>
                </a:lnTo>
                <a:lnTo>
                  <a:pt x="318" y="76"/>
                </a:lnTo>
                <a:lnTo>
                  <a:pt x="329" y="89"/>
                </a:lnTo>
                <a:lnTo>
                  <a:pt x="343" y="103"/>
                </a:lnTo>
                <a:lnTo>
                  <a:pt x="353" y="115"/>
                </a:lnTo>
                <a:lnTo>
                  <a:pt x="364" y="130"/>
                </a:lnTo>
                <a:lnTo>
                  <a:pt x="374" y="142"/>
                </a:lnTo>
                <a:lnTo>
                  <a:pt x="386" y="157"/>
                </a:lnTo>
                <a:lnTo>
                  <a:pt x="395" y="171"/>
                </a:lnTo>
                <a:lnTo>
                  <a:pt x="407" y="186"/>
                </a:lnTo>
                <a:lnTo>
                  <a:pt x="417" y="200"/>
                </a:lnTo>
                <a:lnTo>
                  <a:pt x="428" y="215"/>
                </a:lnTo>
                <a:lnTo>
                  <a:pt x="428" y="227"/>
                </a:lnTo>
                <a:lnTo>
                  <a:pt x="432" y="241"/>
                </a:lnTo>
                <a:lnTo>
                  <a:pt x="432" y="254"/>
                </a:lnTo>
                <a:lnTo>
                  <a:pt x="436" y="270"/>
                </a:lnTo>
                <a:lnTo>
                  <a:pt x="438" y="281"/>
                </a:lnTo>
                <a:lnTo>
                  <a:pt x="440" y="297"/>
                </a:lnTo>
                <a:lnTo>
                  <a:pt x="442" y="310"/>
                </a:lnTo>
                <a:lnTo>
                  <a:pt x="446" y="326"/>
                </a:lnTo>
                <a:lnTo>
                  <a:pt x="434" y="345"/>
                </a:lnTo>
                <a:lnTo>
                  <a:pt x="422" y="367"/>
                </a:lnTo>
                <a:lnTo>
                  <a:pt x="417" y="376"/>
                </a:lnTo>
                <a:lnTo>
                  <a:pt x="411" y="388"/>
                </a:lnTo>
                <a:lnTo>
                  <a:pt x="405" y="398"/>
                </a:lnTo>
                <a:lnTo>
                  <a:pt x="401" y="409"/>
                </a:lnTo>
                <a:lnTo>
                  <a:pt x="386" y="415"/>
                </a:lnTo>
                <a:lnTo>
                  <a:pt x="372" y="421"/>
                </a:lnTo>
                <a:lnTo>
                  <a:pt x="356" y="429"/>
                </a:lnTo>
                <a:lnTo>
                  <a:pt x="343" y="436"/>
                </a:lnTo>
                <a:lnTo>
                  <a:pt x="327" y="442"/>
                </a:lnTo>
                <a:lnTo>
                  <a:pt x="316" y="450"/>
                </a:lnTo>
                <a:lnTo>
                  <a:pt x="300" y="458"/>
                </a:lnTo>
                <a:lnTo>
                  <a:pt x="289" y="466"/>
                </a:lnTo>
                <a:lnTo>
                  <a:pt x="269" y="458"/>
                </a:lnTo>
                <a:lnTo>
                  <a:pt x="250" y="450"/>
                </a:lnTo>
                <a:lnTo>
                  <a:pt x="230" y="442"/>
                </a:lnTo>
                <a:lnTo>
                  <a:pt x="213" y="436"/>
                </a:lnTo>
                <a:lnTo>
                  <a:pt x="194" y="429"/>
                </a:lnTo>
                <a:lnTo>
                  <a:pt x="176" y="421"/>
                </a:lnTo>
                <a:lnTo>
                  <a:pt x="159" y="415"/>
                </a:lnTo>
                <a:lnTo>
                  <a:pt x="141" y="409"/>
                </a:lnTo>
                <a:lnTo>
                  <a:pt x="130" y="398"/>
                </a:lnTo>
                <a:lnTo>
                  <a:pt x="122" y="386"/>
                </a:lnTo>
                <a:lnTo>
                  <a:pt x="112" y="376"/>
                </a:lnTo>
                <a:lnTo>
                  <a:pt x="104" y="367"/>
                </a:lnTo>
                <a:lnTo>
                  <a:pt x="87" y="345"/>
                </a:lnTo>
                <a:lnTo>
                  <a:pt x="69" y="326"/>
                </a:lnTo>
                <a:lnTo>
                  <a:pt x="60" y="314"/>
                </a:lnTo>
                <a:lnTo>
                  <a:pt x="52" y="303"/>
                </a:lnTo>
                <a:lnTo>
                  <a:pt x="42" y="293"/>
                </a:lnTo>
                <a:lnTo>
                  <a:pt x="35" y="283"/>
                </a:lnTo>
                <a:lnTo>
                  <a:pt x="17" y="262"/>
                </a:lnTo>
                <a:lnTo>
                  <a:pt x="0" y="243"/>
                </a:lnTo>
                <a:lnTo>
                  <a:pt x="0" y="231"/>
                </a:lnTo>
                <a:lnTo>
                  <a:pt x="0" y="219"/>
                </a:lnTo>
                <a:lnTo>
                  <a:pt x="0" y="210"/>
                </a:lnTo>
                <a:lnTo>
                  <a:pt x="2" y="200"/>
                </a:lnTo>
                <a:lnTo>
                  <a:pt x="2" y="188"/>
                </a:lnTo>
                <a:lnTo>
                  <a:pt x="2" y="177"/>
                </a:lnTo>
                <a:lnTo>
                  <a:pt x="2" y="167"/>
                </a:lnTo>
                <a:lnTo>
                  <a:pt x="3" y="157"/>
                </a:lnTo>
                <a:lnTo>
                  <a:pt x="3" y="136"/>
                </a:lnTo>
                <a:lnTo>
                  <a:pt x="5" y="117"/>
                </a:lnTo>
                <a:lnTo>
                  <a:pt x="7" y="95"/>
                </a:lnTo>
                <a:lnTo>
                  <a:pt x="9" y="76"/>
                </a:lnTo>
                <a:lnTo>
                  <a:pt x="21" y="64"/>
                </a:lnTo>
                <a:lnTo>
                  <a:pt x="33" y="56"/>
                </a:lnTo>
                <a:lnTo>
                  <a:pt x="44" y="45"/>
                </a:lnTo>
                <a:lnTo>
                  <a:pt x="56" y="37"/>
                </a:lnTo>
                <a:lnTo>
                  <a:pt x="67" y="27"/>
                </a:lnTo>
                <a:lnTo>
                  <a:pt x="79" y="18"/>
                </a:lnTo>
                <a:lnTo>
                  <a:pt x="91" y="8"/>
                </a:lnTo>
                <a:lnTo>
                  <a:pt x="102" y="0"/>
                </a:lnTo>
                <a:lnTo>
                  <a:pt x="120" y="0"/>
                </a:lnTo>
                <a:lnTo>
                  <a:pt x="137" y="0"/>
                </a:lnTo>
                <a:lnTo>
                  <a:pt x="155" y="0"/>
                </a:lnTo>
                <a:lnTo>
                  <a:pt x="172" y="0"/>
                </a:lnTo>
                <a:lnTo>
                  <a:pt x="190" y="0"/>
                </a:lnTo>
                <a:lnTo>
                  <a:pt x="207" y="0"/>
                </a:lnTo>
                <a:lnTo>
                  <a:pt x="225" y="0"/>
                </a:lnTo>
                <a:lnTo>
                  <a:pt x="242" y="0"/>
                </a:lnTo>
                <a:close/>
              </a:path>
            </a:pathLst>
          </a:custGeom>
          <a:solidFill>
            <a:srgbClr val="e58d35"/>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47" name=""/>
          <p:cNvSpPr/>
          <p:nvPr/>
        </p:nvSpPr>
        <p:spPr>
          <a:xfrm>
            <a:off x="3510000" y="6024600"/>
            <a:ext cx="279360" cy="290520"/>
          </a:xfrm>
          <a:custGeom>
            <a:avLst/>
            <a:gdLst/>
            <a:ahLst/>
            <a:rect l="l" t="t" r="r" b="b"/>
            <a:pathLst>
              <a:path w="351" h="364">
                <a:moveTo>
                  <a:pt x="190" y="0"/>
                </a:moveTo>
                <a:lnTo>
                  <a:pt x="209" y="19"/>
                </a:lnTo>
                <a:lnTo>
                  <a:pt x="229" y="38"/>
                </a:lnTo>
                <a:lnTo>
                  <a:pt x="248" y="58"/>
                </a:lnTo>
                <a:lnTo>
                  <a:pt x="269" y="79"/>
                </a:lnTo>
                <a:lnTo>
                  <a:pt x="277" y="89"/>
                </a:lnTo>
                <a:lnTo>
                  <a:pt x="285" y="100"/>
                </a:lnTo>
                <a:lnTo>
                  <a:pt x="293" y="110"/>
                </a:lnTo>
                <a:lnTo>
                  <a:pt x="302" y="122"/>
                </a:lnTo>
                <a:lnTo>
                  <a:pt x="310" y="131"/>
                </a:lnTo>
                <a:lnTo>
                  <a:pt x="318" y="143"/>
                </a:lnTo>
                <a:lnTo>
                  <a:pt x="326" y="155"/>
                </a:lnTo>
                <a:lnTo>
                  <a:pt x="335" y="166"/>
                </a:lnTo>
                <a:lnTo>
                  <a:pt x="335" y="176"/>
                </a:lnTo>
                <a:lnTo>
                  <a:pt x="337" y="188"/>
                </a:lnTo>
                <a:lnTo>
                  <a:pt x="339" y="199"/>
                </a:lnTo>
                <a:lnTo>
                  <a:pt x="343" y="211"/>
                </a:lnTo>
                <a:lnTo>
                  <a:pt x="343" y="221"/>
                </a:lnTo>
                <a:lnTo>
                  <a:pt x="345" y="232"/>
                </a:lnTo>
                <a:lnTo>
                  <a:pt x="347" y="244"/>
                </a:lnTo>
                <a:lnTo>
                  <a:pt x="351" y="255"/>
                </a:lnTo>
                <a:lnTo>
                  <a:pt x="339" y="271"/>
                </a:lnTo>
                <a:lnTo>
                  <a:pt x="331" y="287"/>
                </a:lnTo>
                <a:lnTo>
                  <a:pt x="322" y="302"/>
                </a:lnTo>
                <a:lnTo>
                  <a:pt x="314" y="319"/>
                </a:lnTo>
                <a:lnTo>
                  <a:pt x="302" y="323"/>
                </a:lnTo>
                <a:lnTo>
                  <a:pt x="291" y="329"/>
                </a:lnTo>
                <a:lnTo>
                  <a:pt x="279" y="335"/>
                </a:lnTo>
                <a:lnTo>
                  <a:pt x="269" y="341"/>
                </a:lnTo>
                <a:lnTo>
                  <a:pt x="258" y="347"/>
                </a:lnTo>
                <a:lnTo>
                  <a:pt x="248" y="352"/>
                </a:lnTo>
                <a:lnTo>
                  <a:pt x="236" y="358"/>
                </a:lnTo>
                <a:lnTo>
                  <a:pt x="227" y="364"/>
                </a:lnTo>
                <a:lnTo>
                  <a:pt x="211" y="358"/>
                </a:lnTo>
                <a:lnTo>
                  <a:pt x="198" y="352"/>
                </a:lnTo>
                <a:lnTo>
                  <a:pt x="182" y="347"/>
                </a:lnTo>
                <a:lnTo>
                  <a:pt x="168" y="341"/>
                </a:lnTo>
                <a:lnTo>
                  <a:pt x="153" y="335"/>
                </a:lnTo>
                <a:lnTo>
                  <a:pt x="139" y="329"/>
                </a:lnTo>
                <a:lnTo>
                  <a:pt x="124" y="323"/>
                </a:lnTo>
                <a:lnTo>
                  <a:pt x="110" y="319"/>
                </a:lnTo>
                <a:lnTo>
                  <a:pt x="95" y="302"/>
                </a:lnTo>
                <a:lnTo>
                  <a:pt x="81" y="287"/>
                </a:lnTo>
                <a:lnTo>
                  <a:pt x="68" y="269"/>
                </a:lnTo>
                <a:lnTo>
                  <a:pt x="54" y="254"/>
                </a:lnTo>
                <a:lnTo>
                  <a:pt x="39" y="236"/>
                </a:lnTo>
                <a:lnTo>
                  <a:pt x="27" y="221"/>
                </a:lnTo>
                <a:lnTo>
                  <a:pt x="11" y="205"/>
                </a:lnTo>
                <a:lnTo>
                  <a:pt x="0" y="190"/>
                </a:lnTo>
                <a:lnTo>
                  <a:pt x="0" y="172"/>
                </a:lnTo>
                <a:lnTo>
                  <a:pt x="0" y="155"/>
                </a:lnTo>
                <a:lnTo>
                  <a:pt x="2" y="139"/>
                </a:lnTo>
                <a:lnTo>
                  <a:pt x="4" y="124"/>
                </a:lnTo>
                <a:lnTo>
                  <a:pt x="4" y="106"/>
                </a:lnTo>
                <a:lnTo>
                  <a:pt x="4" y="89"/>
                </a:lnTo>
                <a:lnTo>
                  <a:pt x="6" y="73"/>
                </a:lnTo>
                <a:lnTo>
                  <a:pt x="8" y="58"/>
                </a:lnTo>
                <a:lnTo>
                  <a:pt x="25" y="42"/>
                </a:lnTo>
                <a:lnTo>
                  <a:pt x="44" y="29"/>
                </a:lnTo>
                <a:lnTo>
                  <a:pt x="62" y="13"/>
                </a:lnTo>
                <a:lnTo>
                  <a:pt x="81" y="0"/>
                </a:lnTo>
                <a:lnTo>
                  <a:pt x="93" y="0"/>
                </a:lnTo>
                <a:lnTo>
                  <a:pt x="106" y="0"/>
                </a:lnTo>
                <a:lnTo>
                  <a:pt x="120" y="0"/>
                </a:lnTo>
                <a:lnTo>
                  <a:pt x="134" y="0"/>
                </a:lnTo>
                <a:lnTo>
                  <a:pt x="147" y="0"/>
                </a:lnTo>
                <a:lnTo>
                  <a:pt x="161" y="0"/>
                </a:lnTo>
                <a:lnTo>
                  <a:pt x="174" y="0"/>
                </a:lnTo>
                <a:lnTo>
                  <a:pt x="190" y="0"/>
                </a:lnTo>
                <a:close/>
              </a:path>
            </a:pathLst>
          </a:custGeom>
          <a:solidFill>
            <a:srgbClr val="e58d35"/>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48" name=""/>
          <p:cNvSpPr/>
          <p:nvPr/>
        </p:nvSpPr>
        <p:spPr>
          <a:xfrm>
            <a:off x="3532320" y="6040440"/>
            <a:ext cx="201600" cy="212760"/>
          </a:xfrm>
          <a:custGeom>
            <a:avLst/>
            <a:gdLst/>
            <a:ahLst/>
            <a:rect l="l" t="t" r="r" b="b"/>
            <a:pathLst>
              <a:path w="254" h="268">
                <a:moveTo>
                  <a:pt x="138" y="0"/>
                </a:moveTo>
                <a:lnTo>
                  <a:pt x="151" y="14"/>
                </a:lnTo>
                <a:lnTo>
                  <a:pt x="167" y="29"/>
                </a:lnTo>
                <a:lnTo>
                  <a:pt x="180" y="45"/>
                </a:lnTo>
                <a:lnTo>
                  <a:pt x="196" y="60"/>
                </a:lnTo>
                <a:lnTo>
                  <a:pt x="207" y="76"/>
                </a:lnTo>
                <a:lnTo>
                  <a:pt x="219" y="91"/>
                </a:lnTo>
                <a:lnTo>
                  <a:pt x="231" y="107"/>
                </a:lnTo>
                <a:lnTo>
                  <a:pt x="244" y="124"/>
                </a:lnTo>
                <a:lnTo>
                  <a:pt x="246" y="138"/>
                </a:lnTo>
                <a:lnTo>
                  <a:pt x="248" y="155"/>
                </a:lnTo>
                <a:lnTo>
                  <a:pt x="250" y="169"/>
                </a:lnTo>
                <a:lnTo>
                  <a:pt x="254" y="186"/>
                </a:lnTo>
                <a:lnTo>
                  <a:pt x="246" y="198"/>
                </a:lnTo>
                <a:lnTo>
                  <a:pt x="240" y="209"/>
                </a:lnTo>
                <a:lnTo>
                  <a:pt x="233" y="221"/>
                </a:lnTo>
                <a:lnTo>
                  <a:pt x="227" y="235"/>
                </a:lnTo>
                <a:lnTo>
                  <a:pt x="209" y="242"/>
                </a:lnTo>
                <a:lnTo>
                  <a:pt x="196" y="250"/>
                </a:lnTo>
                <a:lnTo>
                  <a:pt x="178" y="258"/>
                </a:lnTo>
                <a:lnTo>
                  <a:pt x="165" y="268"/>
                </a:lnTo>
                <a:lnTo>
                  <a:pt x="153" y="262"/>
                </a:lnTo>
                <a:lnTo>
                  <a:pt x="141" y="258"/>
                </a:lnTo>
                <a:lnTo>
                  <a:pt x="132" y="254"/>
                </a:lnTo>
                <a:lnTo>
                  <a:pt x="122" y="250"/>
                </a:lnTo>
                <a:lnTo>
                  <a:pt x="110" y="244"/>
                </a:lnTo>
                <a:lnTo>
                  <a:pt x="99" y="242"/>
                </a:lnTo>
                <a:lnTo>
                  <a:pt x="89" y="236"/>
                </a:lnTo>
                <a:lnTo>
                  <a:pt x="79" y="235"/>
                </a:lnTo>
                <a:lnTo>
                  <a:pt x="68" y="221"/>
                </a:lnTo>
                <a:lnTo>
                  <a:pt x="58" y="209"/>
                </a:lnTo>
                <a:lnTo>
                  <a:pt x="48" y="198"/>
                </a:lnTo>
                <a:lnTo>
                  <a:pt x="39" y="186"/>
                </a:lnTo>
                <a:lnTo>
                  <a:pt x="27" y="172"/>
                </a:lnTo>
                <a:lnTo>
                  <a:pt x="19" y="161"/>
                </a:lnTo>
                <a:lnTo>
                  <a:pt x="8" y="149"/>
                </a:lnTo>
                <a:lnTo>
                  <a:pt x="0" y="138"/>
                </a:lnTo>
                <a:lnTo>
                  <a:pt x="0" y="124"/>
                </a:lnTo>
                <a:lnTo>
                  <a:pt x="0" y="112"/>
                </a:lnTo>
                <a:lnTo>
                  <a:pt x="0" y="101"/>
                </a:lnTo>
                <a:lnTo>
                  <a:pt x="2" y="89"/>
                </a:lnTo>
                <a:lnTo>
                  <a:pt x="2" y="77"/>
                </a:lnTo>
                <a:lnTo>
                  <a:pt x="4" y="66"/>
                </a:lnTo>
                <a:lnTo>
                  <a:pt x="4" y="54"/>
                </a:lnTo>
                <a:lnTo>
                  <a:pt x="6" y="43"/>
                </a:lnTo>
                <a:lnTo>
                  <a:pt x="17" y="31"/>
                </a:lnTo>
                <a:lnTo>
                  <a:pt x="31" y="21"/>
                </a:lnTo>
                <a:lnTo>
                  <a:pt x="45" y="10"/>
                </a:lnTo>
                <a:lnTo>
                  <a:pt x="58" y="0"/>
                </a:lnTo>
                <a:lnTo>
                  <a:pt x="77" y="0"/>
                </a:lnTo>
                <a:lnTo>
                  <a:pt x="97" y="0"/>
                </a:lnTo>
                <a:lnTo>
                  <a:pt x="116" y="0"/>
                </a:lnTo>
                <a:lnTo>
                  <a:pt x="138" y="0"/>
                </a:lnTo>
                <a:close/>
              </a:path>
            </a:pathLst>
          </a:custGeom>
          <a:solidFill>
            <a:srgbClr val="e58d35"/>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49" name=""/>
          <p:cNvSpPr/>
          <p:nvPr/>
        </p:nvSpPr>
        <p:spPr>
          <a:xfrm>
            <a:off x="3554280" y="6058080"/>
            <a:ext cx="125640" cy="131760"/>
          </a:xfrm>
          <a:custGeom>
            <a:avLst/>
            <a:gdLst/>
            <a:ahLst/>
            <a:rect l="l" t="t" r="r" b="b"/>
            <a:pathLst>
              <a:path w="159" h="167">
                <a:moveTo>
                  <a:pt x="85" y="0"/>
                </a:moveTo>
                <a:lnTo>
                  <a:pt x="122" y="37"/>
                </a:lnTo>
                <a:lnTo>
                  <a:pt x="151" y="76"/>
                </a:lnTo>
                <a:lnTo>
                  <a:pt x="159" y="117"/>
                </a:lnTo>
                <a:lnTo>
                  <a:pt x="142" y="148"/>
                </a:lnTo>
                <a:lnTo>
                  <a:pt x="101" y="167"/>
                </a:lnTo>
                <a:lnTo>
                  <a:pt x="49" y="148"/>
                </a:lnTo>
                <a:lnTo>
                  <a:pt x="0" y="88"/>
                </a:lnTo>
                <a:lnTo>
                  <a:pt x="2" y="27"/>
                </a:lnTo>
                <a:lnTo>
                  <a:pt x="37" y="0"/>
                </a:lnTo>
                <a:lnTo>
                  <a:pt x="85" y="0"/>
                </a:lnTo>
                <a:close/>
              </a:path>
            </a:pathLst>
          </a:custGeom>
          <a:solidFill>
            <a:srgbClr val="e58d35"/>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50" name=""/>
          <p:cNvSpPr/>
          <p:nvPr/>
        </p:nvSpPr>
        <p:spPr>
          <a:xfrm>
            <a:off x="4564080" y="4711680"/>
            <a:ext cx="200160" cy="652320"/>
          </a:xfrm>
          <a:custGeom>
            <a:avLst/>
            <a:gdLst/>
            <a:ahLst/>
            <a:rect l="l" t="t" r="r" b="b"/>
            <a:pathLst>
              <a:path w="252" h="822">
                <a:moveTo>
                  <a:pt x="186" y="0"/>
                </a:moveTo>
                <a:lnTo>
                  <a:pt x="252" y="147"/>
                </a:lnTo>
                <a:lnTo>
                  <a:pt x="212" y="424"/>
                </a:lnTo>
                <a:lnTo>
                  <a:pt x="198" y="651"/>
                </a:lnTo>
                <a:lnTo>
                  <a:pt x="159" y="797"/>
                </a:lnTo>
                <a:lnTo>
                  <a:pt x="39" y="822"/>
                </a:lnTo>
                <a:lnTo>
                  <a:pt x="0" y="717"/>
                </a:lnTo>
                <a:lnTo>
                  <a:pt x="0" y="558"/>
                </a:lnTo>
                <a:lnTo>
                  <a:pt x="53" y="320"/>
                </a:lnTo>
                <a:lnTo>
                  <a:pt x="105" y="93"/>
                </a:lnTo>
                <a:lnTo>
                  <a:pt x="186" y="0"/>
                </a:lnTo>
                <a:close/>
              </a:path>
            </a:pathLst>
          </a:custGeom>
          <a:solidFill>
            <a:srgbClr val="e58d35"/>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51" name=""/>
          <p:cNvSpPr/>
          <p:nvPr/>
        </p:nvSpPr>
        <p:spPr>
          <a:xfrm>
            <a:off x="4578480" y="4761000"/>
            <a:ext cx="169560" cy="555480"/>
          </a:xfrm>
          <a:custGeom>
            <a:avLst/>
            <a:gdLst/>
            <a:ahLst/>
            <a:rect l="l" t="t" r="r" b="b"/>
            <a:pathLst>
              <a:path w="213" h="700">
                <a:moveTo>
                  <a:pt x="157" y="0"/>
                </a:moveTo>
                <a:lnTo>
                  <a:pt x="163" y="13"/>
                </a:lnTo>
                <a:lnTo>
                  <a:pt x="168" y="31"/>
                </a:lnTo>
                <a:lnTo>
                  <a:pt x="176" y="44"/>
                </a:lnTo>
                <a:lnTo>
                  <a:pt x="184" y="62"/>
                </a:lnTo>
                <a:lnTo>
                  <a:pt x="190" y="75"/>
                </a:lnTo>
                <a:lnTo>
                  <a:pt x="198" y="93"/>
                </a:lnTo>
                <a:lnTo>
                  <a:pt x="205" y="106"/>
                </a:lnTo>
                <a:lnTo>
                  <a:pt x="213" y="124"/>
                </a:lnTo>
                <a:lnTo>
                  <a:pt x="209" y="137"/>
                </a:lnTo>
                <a:lnTo>
                  <a:pt x="207" y="153"/>
                </a:lnTo>
                <a:lnTo>
                  <a:pt x="205" y="166"/>
                </a:lnTo>
                <a:lnTo>
                  <a:pt x="203" y="182"/>
                </a:lnTo>
                <a:lnTo>
                  <a:pt x="199" y="196"/>
                </a:lnTo>
                <a:lnTo>
                  <a:pt x="199" y="211"/>
                </a:lnTo>
                <a:lnTo>
                  <a:pt x="196" y="225"/>
                </a:lnTo>
                <a:lnTo>
                  <a:pt x="196" y="242"/>
                </a:lnTo>
                <a:lnTo>
                  <a:pt x="192" y="256"/>
                </a:lnTo>
                <a:lnTo>
                  <a:pt x="190" y="271"/>
                </a:lnTo>
                <a:lnTo>
                  <a:pt x="188" y="285"/>
                </a:lnTo>
                <a:lnTo>
                  <a:pt x="186" y="300"/>
                </a:lnTo>
                <a:lnTo>
                  <a:pt x="184" y="314"/>
                </a:lnTo>
                <a:lnTo>
                  <a:pt x="182" y="329"/>
                </a:lnTo>
                <a:lnTo>
                  <a:pt x="180" y="343"/>
                </a:lnTo>
                <a:lnTo>
                  <a:pt x="180" y="360"/>
                </a:lnTo>
                <a:lnTo>
                  <a:pt x="178" y="372"/>
                </a:lnTo>
                <a:lnTo>
                  <a:pt x="176" y="384"/>
                </a:lnTo>
                <a:lnTo>
                  <a:pt x="174" y="395"/>
                </a:lnTo>
                <a:lnTo>
                  <a:pt x="174" y="407"/>
                </a:lnTo>
                <a:lnTo>
                  <a:pt x="172" y="419"/>
                </a:lnTo>
                <a:lnTo>
                  <a:pt x="172" y="430"/>
                </a:lnTo>
                <a:lnTo>
                  <a:pt x="172" y="442"/>
                </a:lnTo>
                <a:lnTo>
                  <a:pt x="172" y="455"/>
                </a:lnTo>
                <a:lnTo>
                  <a:pt x="170" y="467"/>
                </a:lnTo>
                <a:lnTo>
                  <a:pt x="170" y="479"/>
                </a:lnTo>
                <a:lnTo>
                  <a:pt x="170" y="490"/>
                </a:lnTo>
                <a:lnTo>
                  <a:pt x="170" y="504"/>
                </a:lnTo>
                <a:lnTo>
                  <a:pt x="168" y="515"/>
                </a:lnTo>
                <a:lnTo>
                  <a:pt x="168" y="527"/>
                </a:lnTo>
                <a:lnTo>
                  <a:pt x="168" y="539"/>
                </a:lnTo>
                <a:lnTo>
                  <a:pt x="168" y="552"/>
                </a:lnTo>
                <a:lnTo>
                  <a:pt x="163" y="566"/>
                </a:lnTo>
                <a:lnTo>
                  <a:pt x="159" y="581"/>
                </a:lnTo>
                <a:lnTo>
                  <a:pt x="155" y="597"/>
                </a:lnTo>
                <a:lnTo>
                  <a:pt x="151" y="614"/>
                </a:lnTo>
                <a:lnTo>
                  <a:pt x="145" y="628"/>
                </a:lnTo>
                <a:lnTo>
                  <a:pt x="141" y="643"/>
                </a:lnTo>
                <a:lnTo>
                  <a:pt x="137" y="659"/>
                </a:lnTo>
                <a:lnTo>
                  <a:pt x="134" y="676"/>
                </a:lnTo>
                <a:lnTo>
                  <a:pt x="120" y="678"/>
                </a:lnTo>
                <a:lnTo>
                  <a:pt x="106" y="682"/>
                </a:lnTo>
                <a:lnTo>
                  <a:pt x="95" y="684"/>
                </a:lnTo>
                <a:lnTo>
                  <a:pt x="83" y="688"/>
                </a:lnTo>
                <a:lnTo>
                  <a:pt x="70" y="690"/>
                </a:lnTo>
                <a:lnTo>
                  <a:pt x="56" y="694"/>
                </a:lnTo>
                <a:lnTo>
                  <a:pt x="44" y="696"/>
                </a:lnTo>
                <a:lnTo>
                  <a:pt x="33" y="700"/>
                </a:lnTo>
                <a:lnTo>
                  <a:pt x="27" y="688"/>
                </a:lnTo>
                <a:lnTo>
                  <a:pt x="23" y="676"/>
                </a:lnTo>
                <a:lnTo>
                  <a:pt x="19" y="665"/>
                </a:lnTo>
                <a:lnTo>
                  <a:pt x="15" y="653"/>
                </a:lnTo>
                <a:lnTo>
                  <a:pt x="9" y="641"/>
                </a:lnTo>
                <a:lnTo>
                  <a:pt x="7" y="630"/>
                </a:lnTo>
                <a:lnTo>
                  <a:pt x="2" y="618"/>
                </a:lnTo>
                <a:lnTo>
                  <a:pt x="0" y="609"/>
                </a:lnTo>
                <a:lnTo>
                  <a:pt x="0" y="591"/>
                </a:lnTo>
                <a:lnTo>
                  <a:pt x="0" y="574"/>
                </a:lnTo>
                <a:lnTo>
                  <a:pt x="0" y="556"/>
                </a:lnTo>
                <a:lnTo>
                  <a:pt x="0" y="541"/>
                </a:lnTo>
                <a:lnTo>
                  <a:pt x="0" y="523"/>
                </a:lnTo>
                <a:lnTo>
                  <a:pt x="0" y="506"/>
                </a:lnTo>
                <a:lnTo>
                  <a:pt x="0" y="488"/>
                </a:lnTo>
                <a:lnTo>
                  <a:pt x="0" y="473"/>
                </a:lnTo>
                <a:lnTo>
                  <a:pt x="2" y="459"/>
                </a:lnTo>
                <a:lnTo>
                  <a:pt x="4" y="446"/>
                </a:lnTo>
                <a:lnTo>
                  <a:pt x="6" y="434"/>
                </a:lnTo>
                <a:lnTo>
                  <a:pt x="9" y="422"/>
                </a:lnTo>
                <a:lnTo>
                  <a:pt x="11" y="409"/>
                </a:lnTo>
                <a:lnTo>
                  <a:pt x="15" y="395"/>
                </a:lnTo>
                <a:lnTo>
                  <a:pt x="17" y="384"/>
                </a:lnTo>
                <a:lnTo>
                  <a:pt x="21" y="372"/>
                </a:lnTo>
                <a:lnTo>
                  <a:pt x="23" y="358"/>
                </a:lnTo>
                <a:lnTo>
                  <a:pt x="27" y="345"/>
                </a:lnTo>
                <a:lnTo>
                  <a:pt x="29" y="333"/>
                </a:lnTo>
                <a:lnTo>
                  <a:pt x="33" y="322"/>
                </a:lnTo>
                <a:lnTo>
                  <a:pt x="35" y="308"/>
                </a:lnTo>
                <a:lnTo>
                  <a:pt x="38" y="294"/>
                </a:lnTo>
                <a:lnTo>
                  <a:pt x="40" y="283"/>
                </a:lnTo>
                <a:lnTo>
                  <a:pt x="44" y="271"/>
                </a:lnTo>
                <a:lnTo>
                  <a:pt x="46" y="258"/>
                </a:lnTo>
                <a:lnTo>
                  <a:pt x="48" y="246"/>
                </a:lnTo>
                <a:lnTo>
                  <a:pt x="50" y="234"/>
                </a:lnTo>
                <a:lnTo>
                  <a:pt x="54" y="223"/>
                </a:lnTo>
                <a:lnTo>
                  <a:pt x="56" y="209"/>
                </a:lnTo>
                <a:lnTo>
                  <a:pt x="60" y="197"/>
                </a:lnTo>
                <a:lnTo>
                  <a:pt x="62" y="186"/>
                </a:lnTo>
                <a:lnTo>
                  <a:pt x="66" y="174"/>
                </a:lnTo>
                <a:lnTo>
                  <a:pt x="68" y="161"/>
                </a:lnTo>
                <a:lnTo>
                  <a:pt x="71" y="149"/>
                </a:lnTo>
                <a:lnTo>
                  <a:pt x="73" y="137"/>
                </a:lnTo>
                <a:lnTo>
                  <a:pt x="77" y="126"/>
                </a:lnTo>
                <a:lnTo>
                  <a:pt x="79" y="114"/>
                </a:lnTo>
                <a:lnTo>
                  <a:pt x="83" y="102"/>
                </a:lnTo>
                <a:lnTo>
                  <a:pt x="85" y="91"/>
                </a:lnTo>
                <a:lnTo>
                  <a:pt x="89" y="79"/>
                </a:lnTo>
                <a:lnTo>
                  <a:pt x="104" y="58"/>
                </a:lnTo>
                <a:lnTo>
                  <a:pt x="122" y="38"/>
                </a:lnTo>
                <a:lnTo>
                  <a:pt x="139" y="19"/>
                </a:lnTo>
                <a:lnTo>
                  <a:pt x="157" y="0"/>
                </a:lnTo>
                <a:close/>
              </a:path>
            </a:pathLst>
          </a:custGeom>
          <a:solidFill>
            <a:srgbClr val="e58d35"/>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52" name=""/>
          <p:cNvSpPr/>
          <p:nvPr/>
        </p:nvSpPr>
        <p:spPr>
          <a:xfrm>
            <a:off x="4594320" y="4809960"/>
            <a:ext cx="137880" cy="457200"/>
          </a:xfrm>
          <a:custGeom>
            <a:avLst/>
            <a:gdLst/>
            <a:ahLst/>
            <a:rect l="l" t="t" r="r" b="b"/>
            <a:pathLst>
              <a:path w="175" h="576">
                <a:moveTo>
                  <a:pt x="128" y="0"/>
                </a:moveTo>
                <a:lnTo>
                  <a:pt x="134" y="11"/>
                </a:lnTo>
                <a:lnTo>
                  <a:pt x="140" y="25"/>
                </a:lnTo>
                <a:lnTo>
                  <a:pt x="146" y="37"/>
                </a:lnTo>
                <a:lnTo>
                  <a:pt x="151" y="50"/>
                </a:lnTo>
                <a:lnTo>
                  <a:pt x="157" y="62"/>
                </a:lnTo>
                <a:lnTo>
                  <a:pt x="163" y="75"/>
                </a:lnTo>
                <a:lnTo>
                  <a:pt x="169" y="89"/>
                </a:lnTo>
                <a:lnTo>
                  <a:pt x="175" y="103"/>
                </a:lnTo>
                <a:lnTo>
                  <a:pt x="171" y="114"/>
                </a:lnTo>
                <a:lnTo>
                  <a:pt x="169" y="126"/>
                </a:lnTo>
                <a:lnTo>
                  <a:pt x="167" y="137"/>
                </a:lnTo>
                <a:lnTo>
                  <a:pt x="167" y="149"/>
                </a:lnTo>
                <a:lnTo>
                  <a:pt x="163" y="161"/>
                </a:lnTo>
                <a:lnTo>
                  <a:pt x="161" y="172"/>
                </a:lnTo>
                <a:lnTo>
                  <a:pt x="159" y="184"/>
                </a:lnTo>
                <a:lnTo>
                  <a:pt x="159" y="198"/>
                </a:lnTo>
                <a:lnTo>
                  <a:pt x="157" y="209"/>
                </a:lnTo>
                <a:lnTo>
                  <a:pt x="155" y="221"/>
                </a:lnTo>
                <a:lnTo>
                  <a:pt x="153" y="232"/>
                </a:lnTo>
                <a:lnTo>
                  <a:pt x="153" y="246"/>
                </a:lnTo>
                <a:lnTo>
                  <a:pt x="151" y="258"/>
                </a:lnTo>
                <a:lnTo>
                  <a:pt x="149" y="271"/>
                </a:lnTo>
                <a:lnTo>
                  <a:pt x="147" y="283"/>
                </a:lnTo>
                <a:lnTo>
                  <a:pt x="147" y="296"/>
                </a:lnTo>
                <a:lnTo>
                  <a:pt x="146" y="314"/>
                </a:lnTo>
                <a:lnTo>
                  <a:pt x="144" y="335"/>
                </a:lnTo>
                <a:lnTo>
                  <a:pt x="142" y="353"/>
                </a:lnTo>
                <a:lnTo>
                  <a:pt x="142" y="374"/>
                </a:lnTo>
                <a:lnTo>
                  <a:pt x="140" y="393"/>
                </a:lnTo>
                <a:lnTo>
                  <a:pt x="138" y="415"/>
                </a:lnTo>
                <a:lnTo>
                  <a:pt x="138" y="434"/>
                </a:lnTo>
                <a:lnTo>
                  <a:pt x="138" y="455"/>
                </a:lnTo>
                <a:lnTo>
                  <a:pt x="132" y="467"/>
                </a:lnTo>
                <a:lnTo>
                  <a:pt x="130" y="479"/>
                </a:lnTo>
                <a:lnTo>
                  <a:pt x="126" y="492"/>
                </a:lnTo>
                <a:lnTo>
                  <a:pt x="124" y="506"/>
                </a:lnTo>
                <a:lnTo>
                  <a:pt x="118" y="517"/>
                </a:lnTo>
                <a:lnTo>
                  <a:pt x="116" y="529"/>
                </a:lnTo>
                <a:lnTo>
                  <a:pt x="113" y="543"/>
                </a:lnTo>
                <a:lnTo>
                  <a:pt x="111" y="556"/>
                </a:lnTo>
                <a:lnTo>
                  <a:pt x="99" y="556"/>
                </a:lnTo>
                <a:lnTo>
                  <a:pt x="87" y="560"/>
                </a:lnTo>
                <a:lnTo>
                  <a:pt x="78" y="562"/>
                </a:lnTo>
                <a:lnTo>
                  <a:pt x="68" y="566"/>
                </a:lnTo>
                <a:lnTo>
                  <a:pt x="47" y="570"/>
                </a:lnTo>
                <a:lnTo>
                  <a:pt x="27" y="576"/>
                </a:lnTo>
                <a:lnTo>
                  <a:pt x="19" y="556"/>
                </a:lnTo>
                <a:lnTo>
                  <a:pt x="12" y="537"/>
                </a:lnTo>
                <a:lnTo>
                  <a:pt x="6" y="517"/>
                </a:lnTo>
                <a:lnTo>
                  <a:pt x="0" y="500"/>
                </a:lnTo>
                <a:lnTo>
                  <a:pt x="0" y="484"/>
                </a:lnTo>
                <a:lnTo>
                  <a:pt x="0" y="471"/>
                </a:lnTo>
                <a:lnTo>
                  <a:pt x="0" y="457"/>
                </a:lnTo>
                <a:lnTo>
                  <a:pt x="0" y="444"/>
                </a:lnTo>
                <a:lnTo>
                  <a:pt x="0" y="428"/>
                </a:lnTo>
                <a:lnTo>
                  <a:pt x="0" y="417"/>
                </a:lnTo>
                <a:lnTo>
                  <a:pt x="0" y="401"/>
                </a:lnTo>
                <a:lnTo>
                  <a:pt x="0" y="389"/>
                </a:lnTo>
                <a:lnTo>
                  <a:pt x="0" y="378"/>
                </a:lnTo>
                <a:lnTo>
                  <a:pt x="4" y="366"/>
                </a:lnTo>
                <a:lnTo>
                  <a:pt x="4" y="357"/>
                </a:lnTo>
                <a:lnTo>
                  <a:pt x="8" y="347"/>
                </a:lnTo>
                <a:lnTo>
                  <a:pt x="12" y="325"/>
                </a:lnTo>
                <a:lnTo>
                  <a:pt x="18" y="306"/>
                </a:lnTo>
                <a:lnTo>
                  <a:pt x="18" y="294"/>
                </a:lnTo>
                <a:lnTo>
                  <a:pt x="21" y="283"/>
                </a:lnTo>
                <a:lnTo>
                  <a:pt x="21" y="273"/>
                </a:lnTo>
                <a:lnTo>
                  <a:pt x="25" y="263"/>
                </a:lnTo>
                <a:lnTo>
                  <a:pt x="31" y="242"/>
                </a:lnTo>
                <a:lnTo>
                  <a:pt x="37" y="223"/>
                </a:lnTo>
                <a:lnTo>
                  <a:pt x="41" y="201"/>
                </a:lnTo>
                <a:lnTo>
                  <a:pt x="45" y="182"/>
                </a:lnTo>
                <a:lnTo>
                  <a:pt x="49" y="163"/>
                </a:lnTo>
                <a:lnTo>
                  <a:pt x="54" y="143"/>
                </a:lnTo>
                <a:lnTo>
                  <a:pt x="58" y="122"/>
                </a:lnTo>
                <a:lnTo>
                  <a:pt x="62" y="103"/>
                </a:lnTo>
                <a:lnTo>
                  <a:pt x="66" y="83"/>
                </a:lnTo>
                <a:lnTo>
                  <a:pt x="72" y="64"/>
                </a:lnTo>
                <a:lnTo>
                  <a:pt x="85" y="46"/>
                </a:lnTo>
                <a:lnTo>
                  <a:pt x="99" y="31"/>
                </a:lnTo>
                <a:lnTo>
                  <a:pt x="113" y="15"/>
                </a:lnTo>
                <a:lnTo>
                  <a:pt x="128" y="0"/>
                </a:lnTo>
                <a:close/>
              </a:path>
            </a:pathLst>
          </a:custGeom>
          <a:solidFill>
            <a:srgbClr val="e58d35"/>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53" name=""/>
          <p:cNvSpPr/>
          <p:nvPr/>
        </p:nvSpPr>
        <p:spPr>
          <a:xfrm>
            <a:off x="4608360" y="4859280"/>
            <a:ext cx="109800" cy="358920"/>
          </a:xfrm>
          <a:custGeom>
            <a:avLst/>
            <a:gdLst/>
            <a:ahLst/>
            <a:rect l="l" t="t" r="r" b="b"/>
            <a:pathLst>
              <a:path w="137" h="452">
                <a:moveTo>
                  <a:pt x="102" y="0"/>
                </a:moveTo>
                <a:lnTo>
                  <a:pt x="110" y="19"/>
                </a:lnTo>
                <a:lnTo>
                  <a:pt x="120" y="39"/>
                </a:lnTo>
                <a:lnTo>
                  <a:pt x="128" y="58"/>
                </a:lnTo>
                <a:lnTo>
                  <a:pt x="137" y="79"/>
                </a:lnTo>
                <a:lnTo>
                  <a:pt x="133" y="97"/>
                </a:lnTo>
                <a:lnTo>
                  <a:pt x="131" y="116"/>
                </a:lnTo>
                <a:lnTo>
                  <a:pt x="128" y="136"/>
                </a:lnTo>
                <a:lnTo>
                  <a:pt x="126" y="155"/>
                </a:lnTo>
                <a:lnTo>
                  <a:pt x="122" y="174"/>
                </a:lnTo>
                <a:lnTo>
                  <a:pt x="120" y="194"/>
                </a:lnTo>
                <a:lnTo>
                  <a:pt x="118" y="213"/>
                </a:lnTo>
                <a:lnTo>
                  <a:pt x="116" y="232"/>
                </a:lnTo>
                <a:lnTo>
                  <a:pt x="114" y="246"/>
                </a:lnTo>
                <a:lnTo>
                  <a:pt x="114" y="263"/>
                </a:lnTo>
                <a:lnTo>
                  <a:pt x="112" y="277"/>
                </a:lnTo>
                <a:lnTo>
                  <a:pt x="112" y="295"/>
                </a:lnTo>
                <a:lnTo>
                  <a:pt x="110" y="308"/>
                </a:lnTo>
                <a:lnTo>
                  <a:pt x="110" y="326"/>
                </a:lnTo>
                <a:lnTo>
                  <a:pt x="110" y="339"/>
                </a:lnTo>
                <a:lnTo>
                  <a:pt x="110" y="357"/>
                </a:lnTo>
                <a:lnTo>
                  <a:pt x="104" y="376"/>
                </a:lnTo>
                <a:lnTo>
                  <a:pt x="98" y="397"/>
                </a:lnTo>
                <a:lnTo>
                  <a:pt x="93" y="417"/>
                </a:lnTo>
                <a:lnTo>
                  <a:pt x="87" y="438"/>
                </a:lnTo>
                <a:lnTo>
                  <a:pt x="69" y="440"/>
                </a:lnTo>
                <a:lnTo>
                  <a:pt x="54" y="444"/>
                </a:lnTo>
                <a:lnTo>
                  <a:pt x="36" y="446"/>
                </a:lnTo>
                <a:lnTo>
                  <a:pt x="21" y="452"/>
                </a:lnTo>
                <a:lnTo>
                  <a:pt x="15" y="436"/>
                </a:lnTo>
                <a:lnTo>
                  <a:pt x="9" y="422"/>
                </a:lnTo>
                <a:lnTo>
                  <a:pt x="3" y="407"/>
                </a:lnTo>
                <a:lnTo>
                  <a:pt x="0" y="393"/>
                </a:lnTo>
                <a:lnTo>
                  <a:pt x="0" y="382"/>
                </a:lnTo>
                <a:lnTo>
                  <a:pt x="0" y="370"/>
                </a:lnTo>
                <a:lnTo>
                  <a:pt x="0" y="358"/>
                </a:lnTo>
                <a:lnTo>
                  <a:pt x="0" y="349"/>
                </a:lnTo>
                <a:lnTo>
                  <a:pt x="0" y="337"/>
                </a:lnTo>
                <a:lnTo>
                  <a:pt x="0" y="327"/>
                </a:lnTo>
                <a:lnTo>
                  <a:pt x="0" y="316"/>
                </a:lnTo>
                <a:lnTo>
                  <a:pt x="0" y="306"/>
                </a:lnTo>
                <a:lnTo>
                  <a:pt x="1" y="289"/>
                </a:lnTo>
                <a:lnTo>
                  <a:pt x="5" y="271"/>
                </a:lnTo>
                <a:lnTo>
                  <a:pt x="9" y="256"/>
                </a:lnTo>
                <a:lnTo>
                  <a:pt x="13" y="240"/>
                </a:lnTo>
                <a:lnTo>
                  <a:pt x="15" y="223"/>
                </a:lnTo>
                <a:lnTo>
                  <a:pt x="21" y="205"/>
                </a:lnTo>
                <a:lnTo>
                  <a:pt x="23" y="190"/>
                </a:lnTo>
                <a:lnTo>
                  <a:pt x="29" y="174"/>
                </a:lnTo>
                <a:lnTo>
                  <a:pt x="31" y="157"/>
                </a:lnTo>
                <a:lnTo>
                  <a:pt x="34" y="143"/>
                </a:lnTo>
                <a:lnTo>
                  <a:pt x="38" y="126"/>
                </a:lnTo>
                <a:lnTo>
                  <a:pt x="42" y="112"/>
                </a:lnTo>
                <a:lnTo>
                  <a:pt x="44" y="95"/>
                </a:lnTo>
                <a:lnTo>
                  <a:pt x="50" y="81"/>
                </a:lnTo>
                <a:lnTo>
                  <a:pt x="52" y="64"/>
                </a:lnTo>
                <a:lnTo>
                  <a:pt x="58" y="50"/>
                </a:lnTo>
                <a:lnTo>
                  <a:pt x="67" y="37"/>
                </a:lnTo>
                <a:lnTo>
                  <a:pt x="79" y="23"/>
                </a:lnTo>
                <a:lnTo>
                  <a:pt x="91" y="11"/>
                </a:lnTo>
                <a:lnTo>
                  <a:pt x="102" y="0"/>
                </a:lnTo>
                <a:close/>
              </a:path>
            </a:pathLst>
          </a:custGeom>
          <a:solidFill>
            <a:srgbClr val="e58d35"/>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54" name=""/>
          <p:cNvSpPr/>
          <p:nvPr/>
        </p:nvSpPr>
        <p:spPr>
          <a:xfrm>
            <a:off x="4622760" y="4908600"/>
            <a:ext cx="81000" cy="260280"/>
          </a:xfrm>
          <a:custGeom>
            <a:avLst/>
            <a:gdLst/>
            <a:ahLst/>
            <a:rect l="l" t="t" r="r" b="b"/>
            <a:pathLst>
              <a:path w="101" h="328">
                <a:moveTo>
                  <a:pt x="74" y="0"/>
                </a:moveTo>
                <a:lnTo>
                  <a:pt x="79" y="13"/>
                </a:lnTo>
                <a:lnTo>
                  <a:pt x="87" y="29"/>
                </a:lnTo>
                <a:lnTo>
                  <a:pt x="93" y="42"/>
                </a:lnTo>
                <a:lnTo>
                  <a:pt x="101" y="58"/>
                </a:lnTo>
                <a:lnTo>
                  <a:pt x="97" y="70"/>
                </a:lnTo>
                <a:lnTo>
                  <a:pt x="95" y="85"/>
                </a:lnTo>
                <a:lnTo>
                  <a:pt x="93" y="97"/>
                </a:lnTo>
                <a:lnTo>
                  <a:pt x="91" y="112"/>
                </a:lnTo>
                <a:lnTo>
                  <a:pt x="87" y="126"/>
                </a:lnTo>
                <a:lnTo>
                  <a:pt x="87" y="139"/>
                </a:lnTo>
                <a:lnTo>
                  <a:pt x="83" y="153"/>
                </a:lnTo>
                <a:lnTo>
                  <a:pt x="83" y="169"/>
                </a:lnTo>
                <a:lnTo>
                  <a:pt x="81" y="178"/>
                </a:lnTo>
                <a:lnTo>
                  <a:pt x="81" y="190"/>
                </a:lnTo>
                <a:lnTo>
                  <a:pt x="81" y="201"/>
                </a:lnTo>
                <a:lnTo>
                  <a:pt x="81" y="213"/>
                </a:lnTo>
                <a:lnTo>
                  <a:pt x="79" y="225"/>
                </a:lnTo>
                <a:lnTo>
                  <a:pt x="79" y="236"/>
                </a:lnTo>
                <a:lnTo>
                  <a:pt x="79" y="248"/>
                </a:lnTo>
                <a:lnTo>
                  <a:pt x="79" y="260"/>
                </a:lnTo>
                <a:lnTo>
                  <a:pt x="74" y="273"/>
                </a:lnTo>
                <a:lnTo>
                  <a:pt x="70" y="289"/>
                </a:lnTo>
                <a:lnTo>
                  <a:pt x="66" y="302"/>
                </a:lnTo>
                <a:lnTo>
                  <a:pt x="62" y="318"/>
                </a:lnTo>
                <a:lnTo>
                  <a:pt x="50" y="320"/>
                </a:lnTo>
                <a:lnTo>
                  <a:pt x="39" y="322"/>
                </a:lnTo>
                <a:lnTo>
                  <a:pt x="27" y="324"/>
                </a:lnTo>
                <a:lnTo>
                  <a:pt x="15" y="328"/>
                </a:lnTo>
                <a:lnTo>
                  <a:pt x="10" y="316"/>
                </a:lnTo>
                <a:lnTo>
                  <a:pt x="8" y="306"/>
                </a:lnTo>
                <a:lnTo>
                  <a:pt x="2" y="295"/>
                </a:lnTo>
                <a:lnTo>
                  <a:pt x="0" y="285"/>
                </a:lnTo>
                <a:lnTo>
                  <a:pt x="0" y="267"/>
                </a:lnTo>
                <a:lnTo>
                  <a:pt x="0" y="252"/>
                </a:lnTo>
                <a:lnTo>
                  <a:pt x="0" y="236"/>
                </a:lnTo>
                <a:lnTo>
                  <a:pt x="0" y="221"/>
                </a:lnTo>
                <a:lnTo>
                  <a:pt x="0" y="207"/>
                </a:lnTo>
                <a:lnTo>
                  <a:pt x="4" y="196"/>
                </a:lnTo>
                <a:lnTo>
                  <a:pt x="6" y="184"/>
                </a:lnTo>
                <a:lnTo>
                  <a:pt x="10" y="172"/>
                </a:lnTo>
                <a:lnTo>
                  <a:pt x="12" y="161"/>
                </a:lnTo>
                <a:lnTo>
                  <a:pt x="15" y="149"/>
                </a:lnTo>
                <a:lnTo>
                  <a:pt x="17" y="138"/>
                </a:lnTo>
                <a:lnTo>
                  <a:pt x="21" y="126"/>
                </a:lnTo>
                <a:lnTo>
                  <a:pt x="21" y="114"/>
                </a:lnTo>
                <a:lnTo>
                  <a:pt x="25" y="103"/>
                </a:lnTo>
                <a:lnTo>
                  <a:pt x="27" y="91"/>
                </a:lnTo>
                <a:lnTo>
                  <a:pt x="31" y="81"/>
                </a:lnTo>
                <a:lnTo>
                  <a:pt x="33" y="70"/>
                </a:lnTo>
                <a:lnTo>
                  <a:pt x="37" y="58"/>
                </a:lnTo>
                <a:lnTo>
                  <a:pt x="39" y="46"/>
                </a:lnTo>
                <a:lnTo>
                  <a:pt x="43" y="37"/>
                </a:lnTo>
                <a:lnTo>
                  <a:pt x="56" y="17"/>
                </a:lnTo>
                <a:lnTo>
                  <a:pt x="74" y="0"/>
                </a:lnTo>
                <a:close/>
              </a:path>
            </a:pathLst>
          </a:custGeom>
          <a:solidFill>
            <a:srgbClr val="e58d35"/>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55" name=""/>
          <p:cNvSpPr/>
          <p:nvPr/>
        </p:nvSpPr>
        <p:spPr>
          <a:xfrm>
            <a:off x="4638600" y="4956120"/>
            <a:ext cx="49320" cy="163440"/>
          </a:xfrm>
          <a:custGeom>
            <a:avLst/>
            <a:gdLst/>
            <a:ahLst/>
            <a:rect l="l" t="t" r="r" b="b"/>
            <a:pathLst>
              <a:path w="62" h="205">
                <a:moveTo>
                  <a:pt x="45" y="0"/>
                </a:moveTo>
                <a:lnTo>
                  <a:pt x="62" y="37"/>
                </a:lnTo>
                <a:lnTo>
                  <a:pt x="53" y="107"/>
                </a:lnTo>
                <a:lnTo>
                  <a:pt x="49" y="163"/>
                </a:lnTo>
                <a:lnTo>
                  <a:pt x="39" y="200"/>
                </a:lnTo>
                <a:lnTo>
                  <a:pt x="8" y="205"/>
                </a:lnTo>
                <a:lnTo>
                  <a:pt x="0" y="180"/>
                </a:lnTo>
                <a:lnTo>
                  <a:pt x="0" y="140"/>
                </a:lnTo>
                <a:lnTo>
                  <a:pt x="12" y="81"/>
                </a:lnTo>
                <a:lnTo>
                  <a:pt x="26" y="23"/>
                </a:lnTo>
                <a:lnTo>
                  <a:pt x="45" y="0"/>
                </a:lnTo>
                <a:close/>
              </a:path>
            </a:pathLst>
          </a:custGeom>
          <a:solidFill>
            <a:srgbClr val="e58d35"/>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56" name=""/>
          <p:cNvSpPr/>
          <p:nvPr/>
        </p:nvSpPr>
        <p:spPr>
          <a:xfrm>
            <a:off x="3840120" y="5754600"/>
            <a:ext cx="608040" cy="403200"/>
          </a:xfrm>
          <a:custGeom>
            <a:avLst/>
            <a:gdLst/>
            <a:ahLst/>
            <a:rect l="l" t="t" r="r" b="b"/>
            <a:pathLst>
              <a:path w="766" h="508">
                <a:moveTo>
                  <a:pt x="551" y="508"/>
                </a:moveTo>
                <a:lnTo>
                  <a:pt x="407" y="487"/>
                </a:lnTo>
                <a:lnTo>
                  <a:pt x="215" y="407"/>
                </a:lnTo>
                <a:lnTo>
                  <a:pt x="114" y="297"/>
                </a:lnTo>
                <a:lnTo>
                  <a:pt x="35" y="183"/>
                </a:lnTo>
                <a:lnTo>
                  <a:pt x="0" y="62"/>
                </a:lnTo>
                <a:lnTo>
                  <a:pt x="35" y="0"/>
                </a:lnTo>
                <a:lnTo>
                  <a:pt x="130" y="6"/>
                </a:lnTo>
                <a:lnTo>
                  <a:pt x="225" y="49"/>
                </a:lnTo>
                <a:lnTo>
                  <a:pt x="345" y="107"/>
                </a:lnTo>
                <a:lnTo>
                  <a:pt x="498" y="183"/>
                </a:lnTo>
                <a:lnTo>
                  <a:pt x="593" y="225"/>
                </a:lnTo>
                <a:lnTo>
                  <a:pt x="679" y="278"/>
                </a:lnTo>
                <a:lnTo>
                  <a:pt x="766" y="365"/>
                </a:lnTo>
                <a:lnTo>
                  <a:pt x="766" y="440"/>
                </a:lnTo>
                <a:lnTo>
                  <a:pt x="698" y="508"/>
                </a:lnTo>
                <a:lnTo>
                  <a:pt x="551" y="508"/>
                </a:lnTo>
                <a:close/>
              </a:path>
            </a:pathLst>
          </a:custGeom>
          <a:solidFill>
            <a:srgbClr val="cc33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57" name=""/>
          <p:cNvSpPr/>
          <p:nvPr/>
        </p:nvSpPr>
        <p:spPr>
          <a:xfrm>
            <a:off x="3860640" y="5765760"/>
            <a:ext cx="514440" cy="341280"/>
          </a:xfrm>
          <a:custGeom>
            <a:avLst/>
            <a:gdLst/>
            <a:ahLst/>
            <a:rect l="l" t="t" r="r" b="b"/>
            <a:pathLst>
              <a:path w="650" h="428">
                <a:moveTo>
                  <a:pt x="467" y="428"/>
                </a:moveTo>
                <a:lnTo>
                  <a:pt x="450" y="424"/>
                </a:lnTo>
                <a:lnTo>
                  <a:pt x="436" y="424"/>
                </a:lnTo>
                <a:lnTo>
                  <a:pt x="419" y="421"/>
                </a:lnTo>
                <a:lnTo>
                  <a:pt x="405" y="421"/>
                </a:lnTo>
                <a:lnTo>
                  <a:pt x="390" y="417"/>
                </a:lnTo>
                <a:lnTo>
                  <a:pt x="374" y="417"/>
                </a:lnTo>
                <a:lnTo>
                  <a:pt x="359" y="413"/>
                </a:lnTo>
                <a:lnTo>
                  <a:pt x="345" y="413"/>
                </a:lnTo>
                <a:lnTo>
                  <a:pt x="324" y="403"/>
                </a:lnTo>
                <a:lnTo>
                  <a:pt x="304" y="395"/>
                </a:lnTo>
                <a:lnTo>
                  <a:pt x="283" y="386"/>
                </a:lnTo>
                <a:lnTo>
                  <a:pt x="264" y="378"/>
                </a:lnTo>
                <a:lnTo>
                  <a:pt x="242" y="368"/>
                </a:lnTo>
                <a:lnTo>
                  <a:pt x="223" y="360"/>
                </a:lnTo>
                <a:lnTo>
                  <a:pt x="202" y="351"/>
                </a:lnTo>
                <a:lnTo>
                  <a:pt x="182" y="343"/>
                </a:lnTo>
                <a:lnTo>
                  <a:pt x="171" y="331"/>
                </a:lnTo>
                <a:lnTo>
                  <a:pt x="161" y="320"/>
                </a:lnTo>
                <a:lnTo>
                  <a:pt x="149" y="308"/>
                </a:lnTo>
                <a:lnTo>
                  <a:pt x="140" y="296"/>
                </a:lnTo>
                <a:lnTo>
                  <a:pt x="128" y="285"/>
                </a:lnTo>
                <a:lnTo>
                  <a:pt x="118" y="273"/>
                </a:lnTo>
                <a:lnTo>
                  <a:pt x="107" y="262"/>
                </a:lnTo>
                <a:lnTo>
                  <a:pt x="97" y="252"/>
                </a:lnTo>
                <a:lnTo>
                  <a:pt x="87" y="238"/>
                </a:lnTo>
                <a:lnTo>
                  <a:pt x="80" y="225"/>
                </a:lnTo>
                <a:lnTo>
                  <a:pt x="70" y="213"/>
                </a:lnTo>
                <a:lnTo>
                  <a:pt x="62" y="201"/>
                </a:lnTo>
                <a:lnTo>
                  <a:pt x="52" y="188"/>
                </a:lnTo>
                <a:lnTo>
                  <a:pt x="45" y="176"/>
                </a:lnTo>
                <a:lnTo>
                  <a:pt x="37" y="165"/>
                </a:lnTo>
                <a:lnTo>
                  <a:pt x="29" y="153"/>
                </a:lnTo>
                <a:lnTo>
                  <a:pt x="23" y="139"/>
                </a:lnTo>
                <a:lnTo>
                  <a:pt x="21" y="126"/>
                </a:lnTo>
                <a:lnTo>
                  <a:pt x="16" y="114"/>
                </a:lnTo>
                <a:lnTo>
                  <a:pt x="14" y="103"/>
                </a:lnTo>
                <a:lnTo>
                  <a:pt x="10" y="89"/>
                </a:lnTo>
                <a:lnTo>
                  <a:pt x="6" y="75"/>
                </a:lnTo>
                <a:lnTo>
                  <a:pt x="2" y="64"/>
                </a:lnTo>
                <a:lnTo>
                  <a:pt x="0" y="52"/>
                </a:lnTo>
                <a:lnTo>
                  <a:pt x="6" y="37"/>
                </a:lnTo>
                <a:lnTo>
                  <a:pt x="14" y="25"/>
                </a:lnTo>
                <a:lnTo>
                  <a:pt x="21" y="11"/>
                </a:lnTo>
                <a:lnTo>
                  <a:pt x="29" y="0"/>
                </a:lnTo>
                <a:lnTo>
                  <a:pt x="48" y="0"/>
                </a:lnTo>
                <a:lnTo>
                  <a:pt x="70" y="0"/>
                </a:lnTo>
                <a:lnTo>
                  <a:pt x="89" y="2"/>
                </a:lnTo>
                <a:lnTo>
                  <a:pt x="111" y="4"/>
                </a:lnTo>
                <a:lnTo>
                  <a:pt x="128" y="11"/>
                </a:lnTo>
                <a:lnTo>
                  <a:pt x="149" y="21"/>
                </a:lnTo>
                <a:lnTo>
                  <a:pt x="159" y="25"/>
                </a:lnTo>
                <a:lnTo>
                  <a:pt x="171" y="29"/>
                </a:lnTo>
                <a:lnTo>
                  <a:pt x="180" y="35"/>
                </a:lnTo>
                <a:lnTo>
                  <a:pt x="192" y="41"/>
                </a:lnTo>
                <a:lnTo>
                  <a:pt x="204" y="46"/>
                </a:lnTo>
                <a:lnTo>
                  <a:pt x="215" y="52"/>
                </a:lnTo>
                <a:lnTo>
                  <a:pt x="227" y="58"/>
                </a:lnTo>
                <a:lnTo>
                  <a:pt x="240" y="64"/>
                </a:lnTo>
                <a:lnTo>
                  <a:pt x="252" y="70"/>
                </a:lnTo>
                <a:lnTo>
                  <a:pt x="266" y="75"/>
                </a:lnTo>
                <a:lnTo>
                  <a:pt x="279" y="81"/>
                </a:lnTo>
                <a:lnTo>
                  <a:pt x="293" y="89"/>
                </a:lnTo>
                <a:lnTo>
                  <a:pt x="308" y="95"/>
                </a:lnTo>
                <a:lnTo>
                  <a:pt x="324" y="105"/>
                </a:lnTo>
                <a:lnTo>
                  <a:pt x="339" y="110"/>
                </a:lnTo>
                <a:lnTo>
                  <a:pt x="357" y="120"/>
                </a:lnTo>
                <a:lnTo>
                  <a:pt x="372" y="128"/>
                </a:lnTo>
                <a:lnTo>
                  <a:pt x="390" y="136"/>
                </a:lnTo>
                <a:lnTo>
                  <a:pt x="405" y="143"/>
                </a:lnTo>
                <a:lnTo>
                  <a:pt x="423" y="153"/>
                </a:lnTo>
                <a:lnTo>
                  <a:pt x="442" y="161"/>
                </a:lnTo>
                <a:lnTo>
                  <a:pt x="464" y="170"/>
                </a:lnTo>
                <a:lnTo>
                  <a:pt x="483" y="180"/>
                </a:lnTo>
                <a:lnTo>
                  <a:pt x="504" y="190"/>
                </a:lnTo>
                <a:lnTo>
                  <a:pt x="522" y="200"/>
                </a:lnTo>
                <a:lnTo>
                  <a:pt x="541" y="211"/>
                </a:lnTo>
                <a:lnTo>
                  <a:pt x="559" y="223"/>
                </a:lnTo>
                <a:lnTo>
                  <a:pt x="578" y="234"/>
                </a:lnTo>
                <a:lnTo>
                  <a:pt x="595" y="252"/>
                </a:lnTo>
                <a:lnTo>
                  <a:pt x="613" y="271"/>
                </a:lnTo>
                <a:lnTo>
                  <a:pt x="630" y="289"/>
                </a:lnTo>
                <a:lnTo>
                  <a:pt x="650" y="308"/>
                </a:lnTo>
                <a:lnTo>
                  <a:pt x="650" y="324"/>
                </a:lnTo>
                <a:lnTo>
                  <a:pt x="650" y="339"/>
                </a:lnTo>
                <a:lnTo>
                  <a:pt x="650" y="355"/>
                </a:lnTo>
                <a:lnTo>
                  <a:pt x="650" y="372"/>
                </a:lnTo>
                <a:lnTo>
                  <a:pt x="634" y="386"/>
                </a:lnTo>
                <a:lnTo>
                  <a:pt x="621" y="399"/>
                </a:lnTo>
                <a:lnTo>
                  <a:pt x="607" y="413"/>
                </a:lnTo>
                <a:lnTo>
                  <a:pt x="593" y="428"/>
                </a:lnTo>
                <a:lnTo>
                  <a:pt x="576" y="428"/>
                </a:lnTo>
                <a:lnTo>
                  <a:pt x="560" y="428"/>
                </a:lnTo>
                <a:lnTo>
                  <a:pt x="545" y="428"/>
                </a:lnTo>
                <a:lnTo>
                  <a:pt x="529" y="428"/>
                </a:lnTo>
                <a:lnTo>
                  <a:pt x="514" y="428"/>
                </a:lnTo>
                <a:lnTo>
                  <a:pt x="498" y="428"/>
                </a:lnTo>
                <a:lnTo>
                  <a:pt x="483" y="428"/>
                </a:lnTo>
                <a:lnTo>
                  <a:pt x="467" y="428"/>
                </a:lnTo>
                <a:close/>
              </a:path>
            </a:pathLst>
          </a:custGeom>
          <a:solidFill>
            <a:srgbClr val="d133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58" name=""/>
          <p:cNvSpPr/>
          <p:nvPr/>
        </p:nvSpPr>
        <p:spPr>
          <a:xfrm>
            <a:off x="3879720" y="5776920"/>
            <a:ext cx="425520" cy="282600"/>
          </a:xfrm>
          <a:custGeom>
            <a:avLst/>
            <a:gdLst/>
            <a:ahLst/>
            <a:rect l="l" t="t" r="r" b="b"/>
            <a:pathLst>
              <a:path w="535" h="355">
                <a:moveTo>
                  <a:pt x="384" y="355"/>
                </a:moveTo>
                <a:lnTo>
                  <a:pt x="371" y="351"/>
                </a:lnTo>
                <a:lnTo>
                  <a:pt x="359" y="349"/>
                </a:lnTo>
                <a:lnTo>
                  <a:pt x="345" y="347"/>
                </a:lnTo>
                <a:lnTo>
                  <a:pt x="334" y="347"/>
                </a:lnTo>
                <a:lnTo>
                  <a:pt x="320" y="346"/>
                </a:lnTo>
                <a:lnTo>
                  <a:pt x="309" y="344"/>
                </a:lnTo>
                <a:lnTo>
                  <a:pt x="297" y="342"/>
                </a:lnTo>
                <a:lnTo>
                  <a:pt x="285" y="342"/>
                </a:lnTo>
                <a:lnTo>
                  <a:pt x="268" y="334"/>
                </a:lnTo>
                <a:lnTo>
                  <a:pt x="250" y="326"/>
                </a:lnTo>
                <a:lnTo>
                  <a:pt x="233" y="318"/>
                </a:lnTo>
                <a:lnTo>
                  <a:pt x="217" y="313"/>
                </a:lnTo>
                <a:lnTo>
                  <a:pt x="200" y="305"/>
                </a:lnTo>
                <a:lnTo>
                  <a:pt x="184" y="297"/>
                </a:lnTo>
                <a:lnTo>
                  <a:pt x="167" y="289"/>
                </a:lnTo>
                <a:lnTo>
                  <a:pt x="151" y="283"/>
                </a:lnTo>
                <a:lnTo>
                  <a:pt x="132" y="264"/>
                </a:lnTo>
                <a:lnTo>
                  <a:pt x="115" y="245"/>
                </a:lnTo>
                <a:lnTo>
                  <a:pt x="97" y="225"/>
                </a:lnTo>
                <a:lnTo>
                  <a:pt x="80" y="208"/>
                </a:lnTo>
                <a:lnTo>
                  <a:pt x="64" y="187"/>
                </a:lnTo>
                <a:lnTo>
                  <a:pt x="51" y="167"/>
                </a:lnTo>
                <a:lnTo>
                  <a:pt x="37" y="146"/>
                </a:lnTo>
                <a:lnTo>
                  <a:pt x="23" y="128"/>
                </a:lnTo>
                <a:lnTo>
                  <a:pt x="20" y="117"/>
                </a:lnTo>
                <a:lnTo>
                  <a:pt x="18" y="105"/>
                </a:lnTo>
                <a:lnTo>
                  <a:pt x="14" y="93"/>
                </a:lnTo>
                <a:lnTo>
                  <a:pt x="12" y="84"/>
                </a:lnTo>
                <a:lnTo>
                  <a:pt x="6" y="62"/>
                </a:lnTo>
                <a:lnTo>
                  <a:pt x="0" y="43"/>
                </a:lnTo>
                <a:lnTo>
                  <a:pt x="6" y="31"/>
                </a:lnTo>
                <a:lnTo>
                  <a:pt x="12" y="22"/>
                </a:lnTo>
                <a:lnTo>
                  <a:pt x="18" y="10"/>
                </a:lnTo>
                <a:lnTo>
                  <a:pt x="23" y="0"/>
                </a:lnTo>
                <a:lnTo>
                  <a:pt x="39" y="0"/>
                </a:lnTo>
                <a:lnTo>
                  <a:pt x="56" y="0"/>
                </a:lnTo>
                <a:lnTo>
                  <a:pt x="72" y="2"/>
                </a:lnTo>
                <a:lnTo>
                  <a:pt x="89" y="4"/>
                </a:lnTo>
                <a:lnTo>
                  <a:pt x="105" y="10"/>
                </a:lnTo>
                <a:lnTo>
                  <a:pt x="122" y="18"/>
                </a:lnTo>
                <a:lnTo>
                  <a:pt x="140" y="26"/>
                </a:lnTo>
                <a:lnTo>
                  <a:pt x="157" y="33"/>
                </a:lnTo>
                <a:lnTo>
                  <a:pt x="177" y="43"/>
                </a:lnTo>
                <a:lnTo>
                  <a:pt x="198" y="53"/>
                </a:lnTo>
                <a:lnTo>
                  <a:pt x="208" y="57"/>
                </a:lnTo>
                <a:lnTo>
                  <a:pt x="219" y="62"/>
                </a:lnTo>
                <a:lnTo>
                  <a:pt x="229" y="68"/>
                </a:lnTo>
                <a:lnTo>
                  <a:pt x="241" y="74"/>
                </a:lnTo>
                <a:lnTo>
                  <a:pt x="252" y="80"/>
                </a:lnTo>
                <a:lnTo>
                  <a:pt x="266" y="86"/>
                </a:lnTo>
                <a:lnTo>
                  <a:pt x="279" y="92"/>
                </a:lnTo>
                <a:lnTo>
                  <a:pt x="293" y="99"/>
                </a:lnTo>
                <a:lnTo>
                  <a:pt x="307" y="105"/>
                </a:lnTo>
                <a:lnTo>
                  <a:pt x="320" y="113"/>
                </a:lnTo>
                <a:lnTo>
                  <a:pt x="334" y="121"/>
                </a:lnTo>
                <a:lnTo>
                  <a:pt x="347" y="128"/>
                </a:lnTo>
                <a:lnTo>
                  <a:pt x="363" y="134"/>
                </a:lnTo>
                <a:lnTo>
                  <a:pt x="380" y="142"/>
                </a:lnTo>
                <a:lnTo>
                  <a:pt x="398" y="150"/>
                </a:lnTo>
                <a:lnTo>
                  <a:pt x="415" y="157"/>
                </a:lnTo>
                <a:lnTo>
                  <a:pt x="429" y="165"/>
                </a:lnTo>
                <a:lnTo>
                  <a:pt x="444" y="175"/>
                </a:lnTo>
                <a:lnTo>
                  <a:pt x="460" y="185"/>
                </a:lnTo>
                <a:lnTo>
                  <a:pt x="475" y="194"/>
                </a:lnTo>
                <a:lnTo>
                  <a:pt x="489" y="208"/>
                </a:lnTo>
                <a:lnTo>
                  <a:pt x="504" y="223"/>
                </a:lnTo>
                <a:lnTo>
                  <a:pt x="520" y="237"/>
                </a:lnTo>
                <a:lnTo>
                  <a:pt x="535" y="254"/>
                </a:lnTo>
                <a:lnTo>
                  <a:pt x="535" y="266"/>
                </a:lnTo>
                <a:lnTo>
                  <a:pt x="535" y="280"/>
                </a:lnTo>
                <a:lnTo>
                  <a:pt x="535" y="293"/>
                </a:lnTo>
                <a:lnTo>
                  <a:pt x="535" y="309"/>
                </a:lnTo>
                <a:lnTo>
                  <a:pt x="524" y="318"/>
                </a:lnTo>
                <a:lnTo>
                  <a:pt x="512" y="330"/>
                </a:lnTo>
                <a:lnTo>
                  <a:pt x="501" y="342"/>
                </a:lnTo>
                <a:lnTo>
                  <a:pt x="489" y="355"/>
                </a:lnTo>
                <a:lnTo>
                  <a:pt x="475" y="355"/>
                </a:lnTo>
                <a:lnTo>
                  <a:pt x="462" y="355"/>
                </a:lnTo>
                <a:lnTo>
                  <a:pt x="448" y="355"/>
                </a:lnTo>
                <a:lnTo>
                  <a:pt x="437" y="355"/>
                </a:lnTo>
                <a:lnTo>
                  <a:pt x="423" y="355"/>
                </a:lnTo>
                <a:lnTo>
                  <a:pt x="409" y="355"/>
                </a:lnTo>
                <a:lnTo>
                  <a:pt x="396" y="355"/>
                </a:lnTo>
                <a:lnTo>
                  <a:pt x="384" y="355"/>
                </a:lnTo>
                <a:close/>
              </a:path>
            </a:pathLst>
          </a:custGeom>
          <a:solidFill>
            <a:srgbClr val="d936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59" name=""/>
          <p:cNvSpPr/>
          <p:nvPr/>
        </p:nvSpPr>
        <p:spPr>
          <a:xfrm>
            <a:off x="3900600" y="5788080"/>
            <a:ext cx="333360" cy="222120"/>
          </a:xfrm>
          <a:custGeom>
            <a:avLst/>
            <a:gdLst/>
            <a:ahLst/>
            <a:rect l="l" t="t" r="r" b="b"/>
            <a:pathLst>
              <a:path w="421" h="279">
                <a:moveTo>
                  <a:pt x="303" y="279"/>
                </a:moveTo>
                <a:lnTo>
                  <a:pt x="282" y="275"/>
                </a:lnTo>
                <a:lnTo>
                  <a:pt x="262" y="273"/>
                </a:lnTo>
                <a:lnTo>
                  <a:pt x="241" y="269"/>
                </a:lnTo>
                <a:lnTo>
                  <a:pt x="223" y="268"/>
                </a:lnTo>
                <a:lnTo>
                  <a:pt x="210" y="262"/>
                </a:lnTo>
                <a:lnTo>
                  <a:pt x="196" y="256"/>
                </a:lnTo>
                <a:lnTo>
                  <a:pt x="183" y="250"/>
                </a:lnTo>
                <a:lnTo>
                  <a:pt x="171" y="244"/>
                </a:lnTo>
                <a:lnTo>
                  <a:pt x="158" y="238"/>
                </a:lnTo>
                <a:lnTo>
                  <a:pt x="144" y="233"/>
                </a:lnTo>
                <a:lnTo>
                  <a:pt x="130" y="227"/>
                </a:lnTo>
                <a:lnTo>
                  <a:pt x="119" y="223"/>
                </a:lnTo>
                <a:lnTo>
                  <a:pt x="103" y="207"/>
                </a:lnTo>
                <a:lnTo>
                  <a:pt x="90" y="192"/>
                </a:lnTo>
                <a:lnTo>
                  <a:pt x="76" y="176"/>
                </a:lnTo>
                <a:lnTo>
                  <a:pt x="62" y="163"/>
                </a:lnTo>
                <a:lnTo>
                  <a:pt x="51" y="145"/>
                </a:lnTo>
                <a:lnTo>
                  <a:pt x="39" y="130"/>
                </a:lnTo>
                <a:lnTo>
                  <a:pt x="28" y="114"/>
                </a:lnTo>
                <a:lnTo>
                  <a:pt x="18" y="99"/>
                </a:lnTo>
                <a:lnTo>
                  <a:pt x="12" y="81"/>
                </a:lnTo>
                <a:lnTo>
                  <a:pt x="8" y="66"/>
                </a:lnTo>
                <a:lnTo>
                  <a:pt x="4" y="50"/>
                </a:lnTo>
                <a:lnTo>
                  <a:pt x="0" y="35"/>
                </a:lnTo>
                <a:lnTo>
                  <a:pt x="8" y="17"/>
                </a:lnTo>
                <a:lnTo>
                  <a:pt x="18" y="0"/>
                </a:lnTo>
                <a:lnTo>
                  <a:pt x="30" y="0"/>
                </a:lnTo>
                <a:lnTo>
                  <a:pt x="43" y="0"/>
                </a:lnTo>
                <a:lnTo>
                  <a:pt x="57" y="0"/>
                </a:lnTo>
                <a:lnTo>
                  <a:pt x="72" y="2"/>
                </a:lnTo>
                <a:lnTo>
                  <a:pt x="84" y="8"/>
                </a:lnTo>
                <a:lnTo>
                  <a:pt x="97" y="14"/>
                </a:lnTo>
                <a:lnTo>
                  <a:pt x="109" y="19"/>
                </a:lnTo>
                <a:lnTo>
                  <a:pt x="123" y="27"/>
                </a:lnTo>
                <a:lnTo>
                  <a:pt x="138" y="33"/>
                </a:lnTo>
                <a:lnTo>
                  <a:pt x="156" y="43"/>
                </a:lnTo>
                <a:lnTo>
                  <a:pt x="171" y="48"/>
                </a:lnTo>
                <a:lnTo>
                  <a:pt x="189" y="58"/>
                </a:lnTo>
                <a:lnTo>
                  <a:pt x="198" y="62"/>
                </a:lnTo>
                <a:lnTo>
                  <a:pt x="208" y="68"/>
                </a:lnTo>
                <a:lnTo>
                  <a:pt x="220" y="72"/>
                </a:lnTo>
                <a:lnTo>
                  <a:pt x="231" y="78"/>
                </a:lnTo>
                <a:lnTo>
                  <a:pt x="241" y="81"/>
                </a:lnTo>
                <a:lnTo>
                  <a:pt x="251" y="87"/>
                </a:lnTo>
                <a:lnTo>
                  <a:pt x="262" y="93"/>
                </a:lnTo>
                <a:lnTo>
                  <a:pt x="274" y="99"/>
                </a:lnTo>
                <a:lnTo>
                  <a:pt x="286" y="105"/>
                </a:lnTo>
                <a:lnTo>
                  <a:pt x="299" y="110"/>
                </a:lnTo>
                <a:lnTo>
                  <a:pt x="313" y="116"/>
                </a:lnTo>
                <a:lnTo>
                  <a:pt x="326" y="124"/>
                </a:lnTo>
                <a:lnTo>
                  <a:pt x="338" y="130"/>
                </a:lnTo>
                <a:lnTo>
                  <a:pt x="350" y="138"/>
                </a:lnTo>
                <a:lnTo>
                  <a:pt x="361" y="145"/>
                </a:lnTo>
                <a:lnTo>
                  <a:pt x="373" y="153"/>
                </a:lnTo>
                <a:lnTo>
                  <a:pt x="384" y="165"/>
                </a:lnTo>
                <a:lnTo>
                  <a:pt x="396" y="176"/>
                </a:lnTo>
                <a:lnTo>
                  <a:pt x="408" y="188"/>
                </a:lnTo>
                <a:lnTo>
                  <a:pt x="421" y="200"/>
                </a:lnTo>
                <a:lnTo>
                  <a:pt x="421" y="209"/>
                </a:lnTo>
                <a:lnTo>
                  <a:pt x="421" y="219"/>
                </a:lnTo>
                <a:lnTo>
                  <a:pt x="421" y="231"/>
                </a:lnTo>
                <a:lnTo>
                  <a:pt x="421" y="242"/>
                </a:lnTo>
                <a:lnTo>
                  <a:pt x="402" y="260"/>
                </a:lnTo>
                <a:lnTo>
                  <a:pt x="384" y="279"/>
                </a:lnTo>
                <a:lnTo>
                  <a:pt x="363" y="279"/>
                </a:lnTo>
                <a:lnTo>
                  <a:pt x="344" y="279"/>
                </a:lnTo>
                <a:lnTo>
                  <a:pt x="322" y="279"/>
                </a:lnTo>
                <a:lnTo>
                  <a:pt x="303" y="279"/>
                </a:lnTo>
                <a:close/>
              </a:path>
            </a:pathLst>
          </a:custGeom>
          <a:solidFill>
            <a:srgbClr val="de38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60" name=""/>
          <p:cNvSpPr/>
          <p:nvPr/>
        </p:nvSpPr>
        <p:spPr>
          <a:xfrm>
            <a:off x="3919680" y="5799240"/>
            <a:ext cx="242640" cy="162000"/>
          </a:xfrm>
          <a:custGeom>
            <a:avLst/>
            <a:gdLst/>
            <a:ahLst/>
            <a:rect l="l" t="t" r="r" b="b"/>
            <a:pathLst>
              <a:path w="304" h="203">
                <a:moveTo>
                  <a:pt x="219" y="203"/>
                </a:moveTo>
                <a:lnTo>
                  <a:pt x="203" y="199"/>
                </a:lnTo>
                <a:lnTo>
                  <a:pt x="190" y="197"/>
                </a:lnTo>
                <a:lnTo>
                  <a:pt x="174" y="195"/>
                </a:lnTo>
                <a:lnTo>
                  <a:pt x="161" y="195"/>
                </a:lnTo>
                <a:lnTo>
                  <a:pt x="141" y="186"/>
                </a:lnTo>
                <a:lnTo>
                  <a:pt x="122" y="178"/>
                </a:lnTo>
                <a:lnTo>
                  <a:pt x="102" y="170"/>
                </a:lnTo>
                <a:lnTo>
                  <a:pt x="85" y="162"/>
                </a:lnTo>
                <a:lnTo>
                  <a:pt x="73" y="151"/>
                </a:lnTo>
                <a:lnTo>
                  <a:pt x="64" y="141"/>
                </a:lnTo>
                <a:lnTo>
                  <a:pt x="54" y="129"/>
                </a:lnTo>
                <a:lnTo>
                  <a:pt x="44" y="120"/>
                </a:lnTo>
                <a:lnTo>
                  <a:pt x="35" y="108"/>
                </a:lnTo>
                <a:lnTo>
                  <a:pt x="27" y="96"/>
                </a:lnTo>
                <a:lnTo>
                  <a:pt x="19" y="85"/>
                </a:lnTo>
                <a:lnTo>
                  <a:pt x="11" y="73"/>
                </a:lnTo>
                <a:lnTo>
                  <a:pt x="7" y="60"/>
                </a:lnTo>
                <a:lnTo>
                  <a:pt x="5" y="48"/>
                </a:lnTo>
                <a:lnTo>
                  <a:pt x="2" y="36"/>
                </a:lnTo>
                <a:lnTo>
                  <a:pt x="0" y="25"/>
                </a:lnTo>
                <a:lnTo>
                  <a:pt x="5" y="11"/>
                </a:lnTo>
                <a:lnTo>
                  <a:pt x="11" y="0"/>
                </a:lnTo>
                <a:lnTo>
                  <a:pt x="31" y="0"/>
                </a:lnTo>
                <a:lnTo>
                  <a:pt x="50" y="1"/>
                </a:lnTo>
                <a:lnTo>
                  <a:pt x="69" y="9"/>
                </a:lnTo>
                <a:lnTo>
                  <a:pt x="89" y="19"/>
                </a:lnTo>
                <a:lnTo>
                  <a:pt x="100" y="25"/>
                </a:lnTo>
                <a:lnTo>
                  <a:pt x="112" y="31"/>
                </a:lnTo>
                <a:lnTo>
                  <a:pt x="124" y="36"/>
                </a:lnTo>
                <a:lnTo>
                  <a:pt x="137" y="42"/>
                </a:lnTo>
                <a:lnTo>
                  <a:pt x="151" y="48"/>
                </a:lnTo>
                <a:lnTo>
                  <a:pt x="166" y="58"/>
                </a:lnTo>
                <a:lnTo>
                  <a:pt x="182" y="64"/>
                </a:lnTo>
                <a:lnTo>
                  <a:pt x="197" y="73"/>
                </a:lnTo>
                <a:lnTo>
                  <a:pt x="217" y="81"/>
                </a:lnTo>
                <a:lnTo>
                  <a:pt x="236" y="91"/>
                </a:lnTo>
                <a:lnTo>
                  <a:pt x="254" y="100"/>
                </a:lnTo>
                <a:lnTo>
                  <a:pt x="271" y="112"/>
                </a:lnTo>
                <a:lnTo>
                  <a:pt x="287" y="127"/>
                </a:lnTo>
                <a:lnTo>
                  <a:pt x="304" y="145"/>
                </a:lnTo>
                <a:lnTo>
                  <a:pt x="304" y="160"/>
                </a:lnTo>
                <a:lnTo>
                  <a:pt x="304" y="176"/>
                </a:lnTo>
                <a:lnTo>
                  <a:pt x="291" y="188"/>
                </a:lnTo>
                <a:lnTo>
                  <a:pt x="279" y="203"/>
                </a:lnTo>
                <a:lnTo>
                  <a:pt x="263" y="203"/>
                </a:lnTo>
                <a:lnTo>
                  <a:pt x="248" y="203"/>
                </a:lnTo>
                <a:lnTo>
                  <a:pt x="232" y="203"/>
                </a:lnTo>
                <a:lnTo>
                  <a:pt x="219" y="203"/>
                </a:lnTo>
                <a:close/>
              </a:path>
            </a:pathLst>
          </a:custGeom>
          <a:solidFill>
            <a:srgbClr val="e338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61" name=""/>
          <p:cNvSpPr/>
          <p:nvPr/>
        </p:nvSpPr>
        <p:spPr>
          <a:xfrm>
            <a:off x="3940200" y="5810400"/>
            <a:ext cx="150840" cy="101520"/>
          </a:xfrm>
          <a:custGeom>
            <a:avLst/>
            <a:gdLst/>
            <a:ahLst/>
            <a:rect l="l" t="t" r="r" b="b"/>
            <a:pathLst>
              <a:path w="190" h="128">
                <a:moveTo>
                  <a:pt x="136" y="128"/>
                </a:moveTo>
                <a:lnTo>
                  <a:pt x="101" y="122"/>
                </a:lnTo>
                <a:lnTo>
                  <a:pt x="52" y="103"/>
                </a:lnTo>
                <a:lnTo>
                  <a:pt x="27" y="76"/>
                </a:lnTo>
                <a:lnTo>
                  <a:pt x="8" y="47"/>
                </a:lnTo>
                <a:lnTo>
                  <a:pt x="0" y="16"/>
                </a:lnTo>
                <a:lnTo>
                  <a:pt x="8" y="0"/>
                </a:lnTo>
                <a:lnTo>
                  <a:pt x="31" y="2"/>
                </a:lnTo>
                <a:lnTo>
                  <a:pt x="54" y="14"/>
                </a:lnTo>
                <a:lnTo>
                  <a:pt x="85" y="27"/>
                </a:lnTo>
                <a:lnTo>
                  <a:pt x="122" y="47"/>
                </a:lnTo>
                <a:lnTo>
                  <a:pt x="147" y="56"/>
                </a:lnTo>
                <a:lnTo>
                  <a:pt x="169" y="72"/>
                </a:lnTo>
                <a:lnTo>
                  <a:pt x="190" y="93"/>
                </a:lnTo>
                <a:lnTo>
                  <a:pt x="190" y="111"/>
                </a:lnTo>
                <a:lnTo>
                  <a:pt x="172" y="128"/>
                </a:lnTo>
                <a:lnTo>
                  <a:pt x="136" y="128"/>
                </a:lnTo>
                <a:close/>
              </a:path>
            </a:pathLst>
          </a:custGeom>
          <a:solidFill>
            <a:srgbClr val="eb3b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62" name=""/>
          <p:cNvSpPr/>
          <p:nvPr/>
        </p:nvSpPr>
        <p:spPr>
          <a:xfrm>
            <a:off x="3954600" y="5632560"/>
            <a:ext cx="390240" cy="209520"/>
          </a:xfrm>
          <a:custGeom>
            <a:avLst/>
            <a:gdLst/>
            <a:ahLst/>
            <a:rect l="l" t="t" r="r" b="b"/>
            <a:pathLst>
              <a:path w="493" h="264">
                <a:moveTo>
                  <a:pt x="489" y="264"/>
                </a:moveTo>
                <a:lnTo>
                  <a:pt x="384" y="244"/>
                </a:lnTo>
                <a:lnTo>
                  <a:pt x="283" y="196"/>
                </a:lnTo>
                <a:lnTo>
                  <a:pt x="154" y="149"/>
                </a:lnTo>
                <a:lnTo>
                  <a:pt x="43" y="87"/>
                </a:lnTo>
                <a:lnTo>
                  <a:pt x="0" y="35"/>
                </a:lnTo>
                <a:lnTo>
                  <a:pt x="26" y="0"/>
                </a:lnTo>
                <a:lnTo>
                  <a:pt x="105" y="16"/>
                </a:lnTo>
                <a:lnTo>
                  <a:pt x="254" y="62"/>
                </a:lnTo>
                <a:lnTo>
                  <a:pt x="340" y="87"/>
                </a:lnTo>
                <a:lnTo>
                  <a:pt x="417" y="130"/>
                </a:lnTo>
                <a:lnTo>
                  <a:pt x="493" y="202"/>
                </a:lnTo>
                <a:lnTo>
                  <a:pt x="489" y="264"/>
                </a:lnTo>
                <a:close/>
              </a:path>
            </a:pathLst>
          </a:custGeom>
          <a:solidFill>
            <a:srgbClr val="cc33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63" name=""/>
          <p:cNvSpPr/>
          <p:nvPr/>
        </p:nvSpPr>
        <p:spPr>
          <a:xfrm>
            <a:off x="3983040" y="5648400"/>
            <a:ext cx="333360" cy="177840"/>
          </a:xfrm>
          <a:custGeom>
            <a:avLst/>
            <a:gdLst/>
            <a:ahLst/>
            <a:rect l="l" t="t" r="r" b="b"/>
            <a:pathLst>
              <a:path w="419" h="224">
                <a:moveTo>
                  <a:pt x="415" y="224"/>
                </a:moveTo>
                <a:lnTo>
                  <a:pt x="404" y="221"/>
                </a:lnTo>
                <a:lnTo>
                  <a:pt x="392" y="219"/>
                </a:lnTo>
                <a:lnTo>
                  <a:pt x="380" y="217"/>
                </a:lnTo>
                <a:lnTo>
                  <a:pt x="369" y="215"/>
                </a:lnTo>
                <a:lnTo>
                  <a:pt x="357" y="211"/>
                </a:lnTo>
                <a:lnTo>
                  <a:pt x="347" y="211"/>
                </a:lnTo>
                <a:lnTo>
                  <a:pt x="336" y="207"/>
                </a:lnTo>
                <a:lnTo>
                  <a:pt x="326" y="207"/>
                </a:lnTo>
                <a:lnTo>
                  <a:pt x="314" y="201"/>
                </a:lnTo>
                <a:lnTo>
                  <a:pt x="303" y="195"/>
                </a:lnTo>
                <a:lnTo>
                  <a:pt x="293" y="191"/>
                </a:lnTo>
                <a:lnTo>
                  <a:pt x="283" y="188"/>
                </a:lnTo>
                <a:lnTo>
                  <a:pt x="272" y="182"/>
                </a:lnTo>
                <a:lnTo>
                  <a:pt x="260" y="176"/>
                </a:lnTo>
                <a:lnTo>
                  <a:pt x="250" y="172"/>
                </a:lnTo>
                <a:lnTo>
                  <a:pt x="241" y="168"/>
                </a:lnTo>
                <a:lnTo>
                  <a:pt x="225" y="162"/>
                </a:lnTo>
                <a:lnTo>
                  <a:pt x="212" y="157"/>
                </a:lnTo>
                <a:lnTo>
                  <a:pt x="198" y="151"/>
                </a:lnTo>
                <a:lnTo>
                  <a:pt x="184" y="147"/>
                </a:lnTo>
                <a:lnTo>
                  <a:pt x="169" y="141"/>
                </a:lnTo>
                <a:lnTo>
                  <a:pt x="157" y="135"/>
                </a:lnTo>
                <a:lnTo>
                  <a:pt x="142" y="131"/>
                </a:lnTo>
                <a:lnTo>
                  <a:pt x="130" y="127"/>
                </a:lnTo>
                <a:lnTo>
                  <a:pt x="118" y="120"/>
                </a:lnTo>
                <a:lnTo>
                  <a:pt x="107" y="112"/>
                </a:lnTo>
                <a:lnTo>
                  <a:pt x="95" y="104"/>
                </a:lnTo>
                <a:lnTo>
                  <a:pt x="84" y="98"/>
                </a:lnTo>
                <a:lnTo>
                  <a:pt x="72" y="91"/>
                </a:lnTo>
                <a:lnTo>
                  <a:pt x="60" y="85"/>
                </a:lnTo>
                <a:lnTo>
                  <a:pt x="49" y="79"/>
                </a:lnTo>
                <a:lnTo>
                  <a:pt x="37" y="73"/>
                </a:lnTo>
                <a:lnTo>
                  <a:pt x="27" y="62"/>
                </a:lnTo>
                <a:lnTo>
                  <a:pt x="18" y="50"/>
                </a:lnTo>
                <a:lnTo>
                  <a:pt x="8" y="38"/>
                </a:lnTo>
                <a:lnTo>
                  <a:pt x="0" y="29"/>
                </a:lnTo>
                <a:lnTo>
                  <a:pt x="10" y="13"/>
                </a:lnTo>
                <a:lnTo>
                  <a:pt x="21" y="0"/>
                </a:lnTo>
                <a:lnTo>
                  <a:pt x="37" y="1"/>
                </a:lnTo>
                <a:lnTo>
                  <a:pt x="54" y="5"/>
                </a:lnTo>
                <a:lnTo>
                  <a:pt x="72" y="9"/>
                </a:lnTo>
                <a:lnTo>
                  <a:pt x="89" y="13"/>
                </a:lnTo>
                <a:lnTo>
                  <a:pt x="105" y="17"/>
                </a:lnTo>
                <a:lnTo>
                  <a:pt x="120" y="23"/>
                </a:lnTo>
                <a:lnTo>
                  <a:pt x="136" y="27"/>
                </a:lnTo>
                <a:lnTo>
                  <a:pt x="151" y="32"/>
                </a:lnTo>
                <a:lnTo>
                  <a:pt x="167" y="36"/>
                </a:lnTo>
                <a:lnTo>
                  <a:pt x="182" y="42"/>
                </a:lnTo>
                <a:lnTo>
                  <a:pt x="198" y="48"/>
                </a:lnTo>
                <a:lnTo>
                  <a:pt x="215" y="54"/>
                </a:lnTo>
                <a:lnTo>
                  <a:pt x="233" y="58"/>
                </a:lnTo>
                <a:lnTo>
                  <a:pt x="252" y="63"/>
                </a:lnTo>
                <a:lnTo>
                  <a:pt x="270" y="67"/>
                </a:lnTo>
                <a:lnTo>
                  <a:pt x="289" y="73"/>
                </a:lnTo>
                <a:lnTo>
                  <a:pt x="305" y="81"/>
                </a:lnTo>
                <a:lnTo>
                  <a:pt x="322" y="91"/>
                </a:lnTo>
                <a:lnTo>
                  <a:pt x="338" y="100"/>
                </a:lnTo>
                <a:lnTo>
                  <a:pt x="355" y="110"/>
                </a:lnTo>
                <a:lnTo>
                  <a:pt x="371" y="124"/>
                </a:lnTo>
                <a:lnTo>
                  <a:pt x="386" y="139"/>
                </a:lnTo>
                <a:lnTo>
                  <a:pt x="402" y="155"/>
                </a:lnTo>
                <a:lnTo>
                  <a:pt x="419" y="170"/>
                </a:lnTo>
                <a:lnTo>
                  <a:pt x="417" y="184"/>
                </a:lnTo>
                <a:lnTo>
                  <a:pt x="417" y="197"/>
                </a:lnTo>
                <a:lnTo>
                  <a:pt x="415" y="211"/>
                </a:lnTo>
                <a:lnTo>
                  <a:pt x="415" y="224"/>
                </a:lnTo>
                <a:close/>
              </a:path>
            </a:pathLst>
          </a:custGeom>
          <a:solidFill>
            <a:srgbClr val="d133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64" name=""/>
          <p:cNvSpPr/>
          <p:nvPr/>
        </p:nvSpPr>
        <p:spPr>
          <a:xfrm>
            <a:off x="4013280" y="5664240"/>
            <a:ext cx="272880" cy="146160"/>
          </a:xfrm>
          <a:custGeom>
            <a:avLst/>
            <a:gdLst/>
            <a:ahLst/>
            <a:rect l="l" t="t" r="r" b="b"/>
            <a:pathLst>
              <a:path w="343" h="182">
                <a:moveTo>
                  <a:pt x="339" y="182"/>
                </a:moveTo>
                <a:lnTo>
                  <a:pt x="320" y="178"/>
                </a:lnTo>
                <a:lnTo>
                  <a:pt x="302" y="176"/>
                </a:lnTo>
                <a:lnTo>
                  <a:pt x="285" y="172"/>
                </a:lnTo>
                <a:lnTo>
                  <a:pt x="268" y="170"/>
                </a:lnTo>
                <a:lnTo>
                  <a:pt x="248" y="161"/>
                </a:lnTo>
                <a:lnTo>
                  <a:pt x="231" y="153"/>
                </a:lnTo>
                <a:lnTo>
                  <a:pt x="213" y="143"/>
                </a:lnTo>
                <a:lnTo>
                  <a:pt x="196" y="136"/>
                </a:lnTo>
                <a:lnTo>
                  <a:pt x="184" y="130"/>
                </a:lnTo>
                <a:lnTo>
                  <a:pt x="173" y="126"/>
                </a:lnTo>
                <a:lnTo>
                  <a:pt x="161" y="122"/>
                </a:lnTo>
                <a:lnTo>
                  <a:pt x="149" y="118"/>
                </a:lnTo>
                <a:lnTo>
                  <a:pt x="138" y="114"/>
                </a:lnTo>
                <a:lnTo>
                  <a:pt x="126" y="110"/>
                </a:lnTo>
                <a:lnTo>
                  <a:pt x="114" y="106"/>
                </a:lnTo>
                <a:lnTo>
                  <a:pt x="105" y="103"/>
                </a:lnTo>
                <a:lnTo>
                  <a:pt x="85" y="91"/>
                </a:lnTo>
                <a:lnTo>
                  <a:pt x="66" y="81"/>
                </a:lnTo>
                <a:lnTo>
                  <a:pt x="46" y="70"/>
                </a:lnTo>
                <a:lnTo>
                  <a:pt x="29" y="60"/>
                </a:lnTo>
                <a:lnTo>
                  <a:pt x="14" y="41"/>
                </a:lnTo>
                <a:lnTo>
                  <a:pt x="0" y="23"/>
                </a:lnTo>
                <a:lnTo>
                  <a:pt x="6" y="11"/>
                </a:lnTo>
                <a:lnTo>
                  <a:pt x="15" y="0"/>
                </a:lnTo>
                <a:lnTo>
                  <a:pt x="29" y="0"/>
                </a:lnTo>
                <a:lnTo>
                  <a:pt x="43" y="4"/>
                </a:lnTo>
                <a:lnTo>
                  <a:pt x="56" y="6"/>
                </a:lnTo>
                <a:lnTo>
                  <a:pt x="72" y="10"/>
                </a:lnTo>
                <a:lnTo>
                  <a:pt x="83" y="11"/>
                </a:lnTo>
                <a:lnTo>
                  <a:pt x="97" y="17"/>
                </a:lnTo>
                <a:lnTo>
                  <a:pt x="110" y="19"/>
                </a:lnTo>
                <a:lnTo>
                  <a:pt x="124" y="25"/>
                </a:lnTo>
                <a:lnTo>
                  <a:pt x="136" y="29"/>
                </a:lnTo>
                <a:lnTo>
                  <a:pt x="149" y="33"/>
                </a:lnTo>
                <a:lnTo>
                  <a:pt x="163" y="37"/>
                </a:lnTo>
                <a:lnTo>
                  <a:pt x="176" y="42"/>
                </a:lnTo>
                <a:lnTo>
                  <a:pt x="190" y="46"/>
                </a:lnTo>
                <a:lnTo>
                  <a:pt x="206" y="50"/>
                </a:lnTo>
                <a:lnTo>
                  <a:pt x="221" y="54"/>
                </a:lnTo>
                <a:lnTo>
                  <a:pt x="237" y="60"/>
                </a:lnTo>
                <a:lnTo>
                  <a:pt x="248" y="66"/>
                </a:lnTo>
                <a:lnTo>
                  <a:pt x="262" y="74"/>
                </a:lnTo>
                <a:lnTo>
                  <a:pt x="275" y="81"/>
                </a:lnTo>
                <a:lnTo>
                  <a:pt x="289" y="89"/>
                </a:lnTo>
                <a:lnTo>
                  <a:pt x="302" y="101"/>
                </a:lnTo>
                <a:lnTo>
                  <a:pt x="316" y="114"/>
                </a:lnTo>
                <a:lnTo>
                  <a:pt x="330" y="126"/>
                </a:lnTo>
                <a:lnTo>
                  <a:pt x="343" y="139"/>
                </a:lnTo>
                <a:lnTo>
                  <a:pt x="341" y="149"/>
                </a:lnTo>
                <a:lnTo>
                  <a:pt x="341" y="161"/>
                </a:lnTo>
                <a:lnTo>
                  <a:pt x="339" y="170"/>
                </a:lnTo>
                <a:lnTo>
                  <a:pt x="339" y="182"/>
                </a:lnTo>
                <a:close/>
              </a:path>
            </a:pathLst>
          </a:custGeom>
          <a:solidFill>
            <a:srgbClr val="d936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65" name=""/>
          <p:cNvSpPr/>
          <p:nvPr/>
        </p:nvSpPr>
        <p:spPr>
          <a:xfrm>
            <a:off x="4041720" y="5680080"/>
            <a:ext cx="216000" cy="114120"/>
          </a:xfrm>
          <a:custGeom>
            <a:avLst/>
            <a:gdLst/>
            <a:ahLst/>
            <a:rect l="l" t="t" r="r" b="b"/>
            <a:pathLst>
              <a:path w="271" h="144">
                <a:moveTo>
                  <a:pt x="267" y="144"/>
                </a:moveTo>
                <a:lnTo>
                  <a:pt x="252" y="140"/>
                </a:lnTo>
                <a:lnTo>
                  <a:pt x="238" y="138"/>
                </a:lnTo>
                <a:lnTo>
                  <a:pt x="225" y="136"/>
                </a:lnTo>
                <a:lnTo>
                  <a:pt x="211" y="134"/>
                </a:lnTo>
                <a:lnTo>
                  <a:pt x="196" y="126"/>
                </a:lnTo>
                <a:lnTo>
                  <a:pt x="182" y="120"/>
                </a:lnTo>
                <a:lnTo>
                  <a:pt x="169" y="115"/>
                </a:lnTo>
                <a:lnTo>
                  <a:pt x="155" y="109"/>
                </a:lnTo>
                <a:lnTo>
                  <a:pt x="138" y="101"/>
                </a:lnTo>
                <a:lnTo>
                  <a:pt x="120" y="93"/>
                </a:lnTo>
                <a:lnTo>
                  <a:pt x="103" y="87"/>
                </a:lnTo>
                <a:lnTo>
                  <a:pt x="85" y="82"/>
                </a:lnTo>
                <a:lnTo>
                  <a:pt x="68" y="72"/>
                </a:lnTo>
                <a:lnTo>
                  <a:pt x="54" y="64"/>
                </a:lnTo>
                <a:lnTo>
                  <a:pt x="39" y="55"/>
                </a:lnTo>
                <a:lnTo>
                  <a:pt x="25" y="47"/>
                </a:lnTo>
                <a:lnTo>
                  <a:pt x="11" y="31"/>
                </a:lnTo>
                <a:lnTo>
                  <a:pt x="0" y="18"/>
                </a:lnTo>
                <a:lnTo>
                  <a:pt x="6" y="8"/>
                </a:lnTo>
                <a:lnTo>
                  <a:pt x="13" y="0"/>
                </a:lnTo>
                <a:lnTo>
                  <a:pt x="23" y="0"/>
                </a:lnTo>
                <a:lnTo>
                  <a:pt x="35" y="4"/>
                </a:lnTo>
                <a:lnTo>
                  <a:pt x="46" y="4"/>
                </a:lnTo>
                <a:lnTo>
                  <a:pt x="58" y="8"/>
                </a:lnTo>
                <a:lnTo>
                  <a:pt x="77" y="14"/>
                </a:lnTo>
                <a:lnTo>
                  <a:pt x="99" y="22"/>
                </a:lnTo>
                <a:lnTo>
                  <a:pt x="118" y="27"/>
                </a:lnTo>
                <a:lnTo>
                  <a:pt x="139" y="35"/>
                </a:lnTo>
                <a:lnTo>
                  <a:pt x="151" y="37"/>
                </a:lnTo>
                <a:lnTo>
                  <a:pt x="163" y="41"/>
                </a:lnTo>
                <a:lnTo>
                  <a:pt x="174" y="43"/>
                </a:lnTo>
                <a:lnTo>
                  <a:pt x="188" y="47"/>
                </a:lnTo>
                <a:lnTo>
                  <a:pt x="207" y="58"/>
                </a:lnTo>
                <a:lnTo>
                  <a:pt x="229" y="72"/>
                </a:lnTo>
                <a:lnTo>
                  <a:pt x="238" y="80"/>
                </a:lnTo>
                <a:lnTo>
                  <a:pt x="250" y="89"/>
                </a:lnTo>
                <a:lnTo>
                  <a:pt x="260" y="99"/>
                </a:lnTo>
                <a:lnTo>
                  <a:pt x="271" y="111"/>
                </a:lnTo>
                <a:lnTo>
                  <a:pt x="269" y="126"/>
                </a:lnTo>
                <a:lnTo>
                  <a:pt x="267" y="144"/>
                </a:lnTo>
                <a:close/>
              </a:path>
            </a:pathLst>
          </a:custGeom>
          <a:solidFill>
            <a:srgbClr val="de38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66" name=""/>
          <p:cNvSpPr/>
          <p:nvPr/>
        </p:nvSpPr>
        <p:spPr>
          <a:xfrm>
            <a:off x="4070520" y="5695920"/>
            <a:ext cx="156960" cy="82440"/>
          </a:xfrm>
          <a:custGeom>
            <a:avLst/>
            <a:gdLst/>
            <a:ahLst/>
            <a:rect l="l" t="t" r="r" b="b"/>
            <a:pathLst>
              <a:path w="198" h="104">
                <a:moveTo>
                  <a:pt x="196" y="104"/>
                </a:moveTo>
                <a:lnTo>
                  <a:pt x="184" y="102"/>
                </a:lnTo>
                <a:lnTo>
                  <a:pt x="174" y="100"/>
                </a:lnTo>
                <a:lnTo>
                  <a:pt x="163" y="99"/>
                </a:lnTo>
                <a:lnTo>
                  <a:pt x="153" y="97"/>
                </a:lnTo>
                <a:lnTo>
                  <a:pt x="132" y="87"/>
                </a:lnTo>
                <a:lnTo>
                  <a:pt x="114" y="79"/>
                </a:lnTo>
                <a:lnTo>
                  <a:pt x="101" y="73"/>
                </a:lnTo>
                <a:lnTo>
                  <a:pt x="87" y="67"/>
                </a:lnTo>
                <a:lnTo>
                  <a:pt x="73" y="64"/>
                </a:lnTo>
                <a:lnTo>
                  <a:pt x="62" y="60"/>
                </a:lnTo>
                <a:lnTo>
                  <a:pt x="50" y="52"/>
                </a:lnTo>
                <a:lnTo>
                  <a:pt x="38" y="46"/>
                </a:lnTo>
                <a:lnTo>
                  <a:pt x="27" y="40"/>
                </a:lnTo>
                <a:lnTo>
                  <a:pt x="17" y="35"/>
                </a:lnTo>
                <a:lnTo>
                  <a:pt x="7" y="23"/>
                </a:lnTo>
                <a:lnTo>
                  <a:pt x="0" y="13"/>
                </a:lnTo>
                <a:lnTo>
                  <a:pt x="4" y="5"/>
                </a:lnTo>
                <a:lnTo>
                  <a:pt x="9" y="0"/>
                </a:lnTo>
                <a:lnTo>
                  <a:pt x="25" y="2"/>
                </a:lnTo>
                <a:lnTo>
                  <a:pt x="42" y="5"/>
                </a:lnTo>
                <a:lnTo>
                  <a:pt x="56" y="9"/>
                </a:lnTo>
                <a:lnTo>
                  <a:pt x="71" y="15"/>
                </a:lnTo>
                <a:lnTo>
                  <a:pt x="85" y="19"/>
                </a:lnTo>
                <a:lnTo>
                  <a:pt x="102" y="25"/>
                </a:lnTo>
                <a:lnTo>
                  <a:pt x="118" y="29"/>
                </a:lnTo>
                <a:lnTo>
                  <a:pt x="135" y="35"/>
                </a:lnTo>
                <a:lnTo>
                  <a:pt x="151" y="42"/>
                </a:lnTo>
                <a:lnTo>
                  <a:pt x="166" y="52"/>
                </a:lnTo>
                <a:lnTo>
                  <a:pt x="182" y="66"/>
                </a:lnTo>
                <a:lnTo>
                  <a:pt x="198" y="79"/>
                </a:lnTo>
                <a:lnTo>
                  <a:pt x="196" y="91"/>
                </a:lnTo>
                <a:lnTo>
                  <a:pt x="196" y="104"/>
                </a:lnTo>
                <a:close/>
              </a:path>
            </a:pathLst>
          </a:custGeom>
          <a:solidFill>
            <a:srgbClr val="e33800"/>
          </a:solidFill>
          <a:ln w="0">
            <a:noFill/>
          </a:ln>
        </p:spPr>
        <p:style>
          <a:lnRef idx="0"/>
          <a:fillRef idx="0"/>
          <a:effectRef idx="0"/>
          <a:fontRef idx="minor"/>
        </p:style>
        <p:txBody>
          <a:bodyPr lIns="90000" rIns="90000" tIns="35640" bIns="35640" anchor="t">
            <a:noAutofit/>
          </a:bodyPr>
          <a:p>
            <a:endParaRPr b="0" lang="en-US" sz="2400" spc="-1" strike="noStrike">
              <a:solidFill>
                <a:srgbClr val="ffff00"/>
              </a:solidFill>
              <a:latin typeface="Times New Roman"/>
            </a:endParaRPr>
          </a:p>
        </p:txBody>
      </p:sp>
      <p:sp>
        <p:nvSpPr>
          <p:cNvPr id="167" name=""/>
          <p:cNvSpPr/>
          <p:nvPr/>
        </p:nvSpPr>
        <p:spPr>
          <a:xfrm>
            <a:off x="4102200" y="5711760"/>
            <a:ext cx="96840" cy="50760"/>
          </a:xfrm>
          <a:custGeom>
            <a:avLst/>
            <a:gdLst/>
            <a:ahLst/>
            <a:rect l="l" t="t" r="r" b="b"/>
            <a:pathLst>
              <a:path w="123" h="66">
                <a:moveTo>
                  <a:pt x="121" y="66"/>
                </a:moveTo>
                <a:lnTo>
                  <a:pt x="96" y="60"/>
                </a:lnTo>
                <a:lnTo>
                  <a:pt x="70" y="48"/>
                </a:lnTo>
                <a:lnTo>
                  <a:pt x="37" y="37"/>
                </a:lnTo>
                <a:lnTo>
                  <a:pt x="10" y="21"/>
                </a:lnTo>
                <a:lnTo>
                  <a:pt x="0" y="10"/>
                </a:lnTo>
                <a:lnTo>
                  <a:pt x="6" y="0"/>
                </a:lnTo>
                <a:lnTo>
                  <a:pt x="26" y="4"/>
                </a:lnTo>
                <a:lnTo>
                  <a:pt x="63" y="16"/>
                </a:lnTo>
                <a:lnTo>
                  <a:pt x="84" y="21"/>
                </a:lnTo>
                <a:lnTo>
                  <a:pt x="103" y="33"/>
                </a:lnTo>
                <a:lnTo>
                  <a:pt x="123" y="50"/>
                </a:lnTo>
                <a:lnTo>
                  <a:pt x="121" y="66"/>
                </a:lnTo>
                <a:close/>
              </a:path>
            </a:pathLst>
          </a:custGeom>
          <a:solidFill>
            <a:srgbClr val="eb3b00"/>
          </a:solidFill>
          <a:ln w="0">
            <a:noFill/>
          </a:ln>
        </p:spPr>
        <p:style>
          <a:lnRef idx="0"/>
          <a:fillRef idx="0"/>
          <a:effectRef idx="0"/>
          <a:fontRef idx="minor"/>
        </p:style>
        <p:txBody>
          <a:bodyPr lIns="90000" rIns="90000" tIns="3960" bIns="3960" anchor="t">
            <a:noAutofit/>
          </a:bodyPr>
          <a:p>
            <a:endParaRPr b="0" lang="en-US" sz="2400" spc="-1" strike="noStrike">
              <a:solidFill>
                <a:srgbClr val="ffff00"/>
              </a:solidFill>
              <a:latin typeface="Times New Roman"/>
            </a:endParaRPr>
          </a:p>
        </p:txBody>
      </p:sp>
      <p:sp>
        <p:nvSpPr>
          <p:cNvPr id="168" name=""/>
          <p:cNvSpPr/>
          <p:nvPr/>
        </p:nvSpPr>
        <p:spPr>
          <a:xfrm>
            <a:off x="3770280" y="2236680"/>
            <a:ext cx="3086280" cy="3989520"/>
          </a:xfrm>
          <a:custGeom>
            <a:avLst/>
            <a:gdLst/>
            <a:ahLst/>
            <a:rect l="l" t="t" r="r" b="b"/>
            <a:pathLst>
              <a:path w="3888" h="5026">
                <a:moveTo>
                  <a:pt x="3263" y="2202"/>
                </a:moveTo>
                <a:lnTo>
                  <a:pt x="3281" y="2181"/>
                </a:lnTo>
                <a:lnTo>
                  <a:pt x="3739" y="1821"/>
                </a:lnTo>
                <a:lnTo>
                  <a:pt x="3518" y="1807"/>
                </a:lnTo>
                <a:lnTo>
                  <a:pt x="3698" y="1599"/>
                </a:lnTo>
                <a:lnTo>
                  <a:pt x="3822" y="1295"/>
                </a:lnTo>
                <a:lnTo>
                  <a:pt x="3558" y="1406"/>
                </a:lnTo>
                <a:lnTo>
                  <a:pt x="3364" y="1406"/>
                </a:lnTo>
                <a:lnTo>
                  <a:pt x="3531" y="1241"/>
                </a:lnTo>
                <a:lnTo>
                  <a:pt x="3779" y="851"/>
                </a:lnTo>
                <a:lnTo>
                  <a:pt x="3448" y="1020"/>
                </a:lnTo>
                <a:lnTo>
                  <a:pt x="3033" y="1157"/>
                </a:lnTo>
                <a:lnTo>
                  <a:pt x="3310" y="907"/>
                </a:lnTo>
                <a:lnTo>
                  <a:pt x="3628" y="630"/>
                </a:lnTo>
                <a:lnTo>
                  <a:pt x="3739" y="423"/>
                </a:lnTo>
                <a:lnTo>
                  <a:pt x="3434" y="560"/>
                </a:lnTo>
                <a:lnTo>
                  <a:pt x="2976" y="741"/>
                </a:lnTo>
                <a:lnTo>
                  <a:pt x="3391" y="395"/>
                </a:lnTo>
                <a:lnTo>
                  <a:pt x="3688" y="6"/>
                </a:lnTo>
                <a:lnTo>
                  <a:pt x="3888" y="6"/>
                </a:lnTo>
                <a:lnTo>
                  <a:pt x="3888" y="2586"/>
                </a:lnTo>
                <a:lnTo>
                  <a:pt x="3882" y="3242"/>
                </a:lnTo>
                <a:lnTo>
                  <a:pt x="3876" y="3457"/>
                </a:lnTo>
                <a:lnTo>
                  <a:pt x="3876" y="3472"/>
                </a:lnTo>
                <a:lnTo>
                  <a:pt x="3851" y="3504"/>
                </a:lnTo>
                <a:lnTo>
                  <a:pt x="3826" y="3538"/>
                </a:lnTo>
                <a:lnTo>
                  <a:pt x="3810" y="3556"/>
                </a:lnTo>
                <a:lnTo>
                  <a:pt x="3799" y="3544"/>
                </a:lnTo>
                <a:lnTo>
                  <a:pt x="3799" y="3513"/>
                </a:lnTo>
                <a:lnTo>
                  <a:pt x="3789" y="3504"/>
                </a:lnTo>
                <a:lnTo>
                  <a:pt x="3768" y="3509"/>
                </a:lnTo>
                <a:lnTo>
                  <a:pt x="3653" y="3633"/>
                </a:lnTo>
                <a:lnTo>
                  <a:pt x="3613" y="3717"/>
                </a:lnTo>
                <a:lnTo>
                  <a:pt x="3523" y="3810"/>
                </a:lnTo>
                <a:lnTo>
                  <a:pt x="3512" y="3821"/>
                </a:lnTo>
                <a:lnTo>
                  <a:pt x="3580" y="3664"/>
                </a:lnTo>
                <a:lnTo>
                  <a:pt x="3591" y="3608"/>
                </a:lnTo>
                <a:lnTo>
                  <a:pt x="3585" y="3571"/>
                </a:lnTo>
                <a:lnTo>
                  <a:pt x="3570" y="3556"/>
                </a:lnTo>
                <a:lnTo>
                  <a:pt x="3490" y="3602"/>
                </a:lnTo>
                <a:lnTo>
                  <a:pt x="3345" y="3757"/>
                </a:lnTo>
                <a:lnTo>
                  <a:pt x="3329" y="3769"/>
                </a:lnTo>
                <a:lnTo>
                  <a:pt x="3324" y="3775"/>
                </a:lnTo>
                <a:lnTo>
                  <a:pt x="3329" y="3723"/>
                </a:lnTo>
                <a:lnTo>
                  <a:pt x="3341" y="3680"/>
                </a:lnTo>
                <a:lnTo>
                  <a:pt x="3341" y="3659"/>
                </a:lnTo>
                <a:lnTo>
                  <a:pt x="3324" y="3643"/>
                </a:lnTo>
                <a:lnTo>
                  <a:pt x="3298" y="3649"/>
                </a:lnTo>
                <a:lnTo>
                  <a:pt x="3132" y="3889"/>
                </a:lnTo>
                <a:lnTo>
                  <a:pt x="2938" y="4180"/>
                </a:lnTo>
                <a:lnTo>
                  <a:pt x="2620" y="4572"/>
                </a:lnTo>
                <a:lnTo>
                  <a:pt x="2338" y="4874"/>
                </a:lnTo>
                <a:lnTo>
                  <a:pt x="2172" y="5026"/>
                </a:lnTo>
                <a:lnTo>
                  <a:pt x="2199" y="4979"/>
                </a:lnTo>
                <a:lnTo>
                  <a:pt x="2271" y="4874"/>
                </a:lnTo>
                <a:lnTo>
                  <a:pt x="2307" y="4803"/>
                </a:lnTo>
                <a:lnTo>
                  <a:pt x="2302" y="4785"/>
                </a:lnTo>
                <a:lnTo>
                  <a:pt x="2292" y="4779"/>
                </a:lnTo>
                <a:lnTo>
                  <a:pt x="2261" y="4791"/>
                </a:lnTo>
                <a:lnTo>
                  <a:pt x="2218" y="4818"/>
                </a:lnTo>
                <a:lnTo>
                  <a:pt x="2240" y="4764"/>
                </a:lnTo>
                <a:lnTo>
                  <a:pt x="2240" y="4739"/>
                </a:lnTo>
                <a:lnTo>
                  <a:pt x="2218" y="4723"/>
                </a:lnTo>
                <a:lnTo>
                  <a:pt x="2156" y="4744"/>
                </a:lnTo>
                <a:lnTo>
                  <a:pt x="2100" y="4779"/>
                </a:lnTo>
                <a:lnTo>
                  <a:pt x="2094" y="4785"/>
                </a:lnTo>
                <a:lnTo>
                  <a:pt x="2082" y="4785"/>
                </a:lnTo>
                <a:lnTo>
                  <a:pt x="2360" y="4504"/>
                </a:lnTo>
                <a:lnTo>
                  <a:pt x="2616" y="4186"/>
                </a:lnTo>
                <a:lnTo>
                  <a:pt x="2684" y="4097"/>
                </a:lnTo>
                <a:lnTo>
                  <a:pt x="2833" y="3847"/>
                </a:lnTo>
                <a:lnTo>
                  <a:pt x="2881" y="3757"/>
                </a:lnTo>
                <a:lnTo>
                  <a:pt x="3048" y="3424"/>
                </a:lnTo>
                <a:lnTo>
                  <a:pt x="3231" y="2871"/>
                </a:lnTo>
                <a:lnTo>
                  <a:pt x="3246" y="2790"/>
                </a:lnTo>
                <a:lnTo>
                  <a:pt x="3267" y="2736"/>
                </a:lnTo>
                <a:lnTo>
                  <a:pt x="3277" y="2670"/>
                </a:lnTo>
                <a:lnTo>
                  <a:pt x="3277" y="2602"/>
                </a:lnTo>
                <a:lnTo>
                  <a:pt x="3341" y="2460"/>
                </a:lnTo>
                <a:lnTo>
                  <a:pt x="3341" y="2373"/>
                </a:lnTo>
                <a:lnTo>
                  <a:pt x="3314" y="2340"/>
                </a:lnTo>
                <a:lnTo>
                  <a:pt x="3366" y="2263"/>
                </a:lnTo>
                <a:lnTo>
                  <a:pt x="3382" y="2216"/>
                </a:lnTo>
                <a:lnTo>
                  <a:pt x="3372" y="2173"/>
                </a:lnTo>
                <a:lnTo>
                  <a:pt x="3357" y="2158"/>
                </a:lnTo>
                <a:lnTo>
                  <a:pt x="3314" y="2164"/>
                </a:lnTo>
                <a:lnTo>
                  <a:pt x="3263" y="2202"/>
                </a:lnTo>
                <a:close/>
                <a:moveTo>
                  <a:pt x="2881" y="4"/>
                </a:moveTo>
                <a:lnTo>
                  <a:pt x="2408" y="2"/>
                </a:lnTo>
                <a:lnTo>
                  <a:pt x="2131" y="174"/>
                </a:lnTo>
                <a:lnTo>
                  <a:pt x="1799" y="463"/>
                </a:lnTo>
                <a:lnTo>
                  <a:pt x="1662" y="686"/>
                </a:lnTo>
                <a:lnTo>
                  <a:pt x="2174" y="298"/>
                </a:lnTo>
                <a:lnTo>
                  <a:pt x="2881" y="4"/>
                </a:lnTo>
                <a:close/>
                <a:moveTo>
                  <a:pt x="2177" y="2"/>
                </a:moveTo>
                <a:lnTo>
                  <a:pt x="1431" y="0"/>
                </a:lnTo>
                <a:lnTo>
                  <a:pt x="1122" y="8"/>
                </a:lnTo>
                <a:lnTo>
                  <a:pt x="899" y="118"/>
                </a:lnTo>
                <a:lnTo>
                  <a:pt x="444" y="382"/>
                </a:lnTo>
                <a:lnTo>
                  <a:pt x="0" y="770"/>
                </a:lnTo>
                <a:lnTo>
                  <a:pt x="347" y="533"/>
                </a:lnTo>
                <a:lnTo>
                  <a:pt x="956" y="215"/>
                </a:lnTo>
                <a:lnTo>
                  <a:pt x="1355" y="147"/>
                </a:lnTo>
                <a:lnTo>
                  <a:pt x="1163" y="339"/>
                </a:lnTo>
                <a:lnTo>
                  <a:pt x="1508" y="147"/>
                </a:lnTo>
                <a:lnTo>
                  <a:pt x="2177"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69" name=""/>
          <p:cNvSpPr/>
          <p:nvPr/>
        </p:nvSpPr>
        <p:spPr>
          <a:xfrm>
            <a:off x="3935520" y="3951360"/>
            <a:ext cx="55440" cy="54000"/>
          </a:xfrm>
          <a:custGeom>
            <a:avLst/>
            <a:gdLst/>
            <a:ahLst/>
            <a:rect l="l" t="t" r="r" b="b"/>
            <a:pathLst>
              <a:path w="70" h="68">
                <a:moveTo>
                  <a:pt x="68" y="68"/>
                </a:moveTo>
                <a:lnTo>
                  <a:pt x="0" y="54"/>
                </a:lnTo>
                <a:lnTo>
                  <a:pt x="6" y="0"/>
                </a:lnTo>
                <a:lnTo>
                  <a:pt x="70" y="25"/>
                </a:lnTo>
                <a:lnTo>
                  <a:pt x="68" y="68"/>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00"/>
              </a:solidFill>
              <a:latin typeface="Times New Roman"/>
            </a:endParaRPr>
          </a:p>
        </p:txBody>
      </p:sp>
      <p:sp>
        <p:nvSpPr>
          <p:cNvPr id="170" name=""/>
          <p:cNvSpPr/>
          <p:nvPr/>
        </p:nvSpPr>
        <p:spPr>
          <a:xfrm>
            <a:off x="4022640" y="3951360"/>
            <a:ext cx="122400" cy="144360"/>
          </a:xfrm>
          <a:custGeom>
            <a:avLst/>
            <a:gdLst/>
            <a:ahLst/>
            <a:rect l="l" t="t" r="r" b="b"/>
            <a:pathLst>
              <a:path w="153" h="180">
                <a:moveTo>
                  <a:pt x="9" y="172"/>
                </a:moveTo>
                <a:lnTo>
                  <a:pt x="0" y="122"/>
                </a:lnTo>
                <a:lnTo>
                  <a:pt x="40" y="103"/>
                </a:lnTo>
                <a:lnTo>
                  <a:pt x="58" y="62"/>
                </a:lnTo>
                <a:lnTo>
                  <a:pt x="54" y="21"/>
                </a:lnTo>
                <a:lnTo>
                  <a:pt x="126" y="0"/>
                </a:lnTo>
                <a:lnTo>
                  <a:pt x="153" y="62"/>
                </a:lnTo>
                <a:lnTo>
                  <a:pt x="139" y="112"/>
                </a:lnTo>
                <a:lnTo>
                  <a:pt x="104" y="153"/>
                </a:lnTo>
                <a:lnTo>
                  <a:pt x="66" y="180"/>
                </a:lnTo>
                <a:lnTo>
                  <a:pt x="9" y="172"/>
                </a:lnTo>
                <a:close/>
              </a:path>
            </a:pathLst>
          </a:custGeom>
          <a:solidFill>
            <a:srgbClr val="f0bd52"/>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71" name=""/>
          <p:cNvSpPr/>
          <p:nvPr/>
        </p:nvSpPr>
        <p:spPr>
          <a:xfrm>
            <a:off x="5554800" y="4432320"/>
            <a:ext cx="60120" cy="42840"/>
          </a:xfrm>
          <a:custGeom>
            <a:avLst/>
            <a:gdLst/>
            <a:ahLst/>
            <a:rect l="l" t="t" r="r" b="b"/>
            <a:pathLst>
              <a:path w="76" h="54">
                <a:moveTo>
                  <a:pt x="76" y="31"/>
                </a:moveTo>
                <a:lnTo>
                  <a:pt x="0" y="54"/>
                </a:lnTo>
                <a:lnTo>
                  <a:pt x="18" y="0"/>
                </a:lnTo>
                <a:lnTo>
                  <a:pt x="76" y="31"/>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00"/>
              </a:solidFill>
              <a:latin typeface="Times New Roman"/>
            </a:endParaRPr>
          </a:p>
        </p:txBody>
      </p:sp>
      <p:sp>
        <p:nvSpPr>
          <p:cNvPr id="172" name=""/>
          <p:cNvSpPr/>
          <p:nvPr/>
        </p:nvSpPr>
        <p:spPr>
          <a:xfrm>
            <a:off x="5627520" y="4406760"/>
            <a:ext cx="106560" cy="144720"/>
          </a:xfrm>
          <a:custGeom>
            <a:avLst/>
            <a:gdLst/>
            <a:ahLst/>
            <a:rect l="l" t="t" r="r" b="b"/>
            <a:pathLst>
              <a:path w="134" h="180">
                <a:moveTo>
                  <a:pt x="16" y="180"/>
                </a:moveTo>
                <a:lnTo>
                  <a:pt x="0" y="135"/>
                </a:lnTo>
                <a:lnTo>
                  <a:pt x="45" y="112"/>
                </a:lnTo>
                <a:lnTo>
                  <a:pt x="59" y="71"/>
                </a:lnTo>
                <a:lnTo>
                  <a:pt x="53" y="37"/>
                </a:lnTo>
                <a:lnTo>
                  <a:pt x="109" y="0"/>
                </a:lnTo>
                <a:lnTo>
                  <a:pt x="134" y="48"/>
                </a:lnTo>
                <a:lnTo>
                  <a:pt x="130" y="95"/>
                </a:lnTo>
                <a:lnTo>
                  <a:pt x="113" y="153"/>
                </a:lnTo>
                <a:lnTo>
                  <a:pt x="72" y="176"/>
                </a:lnTo>
                <a:lnTo>
                  <a:pt x="16" y="180"/>
                </a:lnTo>
                <a:close/>
              </a:path>
            </a:pathLst>
          </a:custGeom>
          <a:solidFill>
            <a:srgbClr val="f0bd52"/>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73" name=""/>
          <p:cNvSpPr/>
          <p:nvPr/>
        </p:nvSpPr>
        <p:spPr>
          <a:xfrm>
            <a:off x="2252520" y="2276640"/>
            <a:ext cx="1517760" cy="1110960"/>
          </a:xfrm>
          <a:custGeom>
            <a:avLst/>
            <a:gdLst/>
            <a:ahLst/>
            <a:rect l="l" t="t" r="r" b="b"/>
            <a:pathLst>
              <a:path w="1913" h="1400">
                <a:moveTo>
                  <a:pt x="1913" y="0"/>
                </a:moveTo>
                <a:lnTo>
                  <a:pt x="0" y="14"/>
                </a:lnTo>
                <a:lnTo>
                  <a:pt x="16" y="1400"/>
                </a:lnTo>
                <a:lnTo>
                  <a:pt x="555" y="1082"/>
                </a:lnTo>
                <a:lnTo>
                  <a:pt x="902" y="722"/>
                </a:lnTo>
                <a:lnTo>
                  <a:pt x="1164" y="472"/>
                </a:lnTo>
                <a:lnTo>
                  <a:pt x="1511" y="250"/>
                </a:lnTo>
                <a:lnTo>
                  <a:pt x="191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74" name=""/>
          <p:cNvSpPr/>
          <p:nvPr/>
        </p:nvSpPr>
        <p:spPr>
          <a:xfrm>
            <a:off x="2247840" y="2274840"/>
            <a:ext cx="1290600" cy="943200"/>
          </a:xfrm>
          <a:custGeom>
            <a:avLst/>
            <a:gdLst/>
            <a:ahLst/>
            <a:rect l="l" t="t" r="r" b="b"/>
            <a:pathLst>
              <a:path w="1626" h="1189">
                <a:moveTo>
                  <a:pt x="1626" y="0"/>
                </a:moveTo>
                <a:lnTo>
                  <a:pt x="1599" y="0"/>
                </a:lnTo>
                <a:lnTo>
                  <a:pt x="1573" y="0"/>
                </a:lnTo>
                <a:lnTo>
                  <a:pt x="1548" y="0"/>
                </a:lnTo>
                <a:lnTo>
                  <a:pt x="1523" y="0"/>
                </a:lnTo>
                <a:lnTo>
                  <a:pt x="1496" y="0"/>
                </a:lnTo>
                <a:lnTo>
                  <a:pt x="1472" y="0"/>
                </a:lnTo>
                <a:lnTo>
                  <a:pt x="1445" y="0"/>
                </a:lnTo>
                <a:lnTo>
                  <a:pt x="1422" y="0"/>
                </a:lnTo>
                <a:lnTo>
                  <a:pt x="1395" y="0"/>
                </a:lnTo>
                <a:lnTo>
                  <a:pt x="1370" y="0"/>
                </a:lnTo>
                <a:lnTo>
                  <a:pt x="1344" y="0"/>
                </a:lnTo>
                <a:lnTo>
                  <a:pt x="1319" y="0"/>
                </a:lnTo>
                <a:lnTo>
                  <a:pt x="1292" y="0"/>
                </a:lnTo>
                <a:lnTo>
                  <a:pt x="1269" y="0"/>
                </a:lnTo>
                <a:lnTo>
                  <a:pt x="1242" y="0"/>
                </a:lnTo>
                <a:lnTo>
                  <a:pt x="1218" y="2"/>
                </a:lnTo>
                <a:lnTo>
                  <a:pt x="1191" y="2"/>
                </a:lnTo>
                <a:lnTo>
                  <a:pt x="1166" y="2"/>
                </a:lnTo>
                <a:lnTo>
                  <a:pt x="1141" y="2"/>
                </a:lnTo>
                <a:lnTo>
                  <a:pt x="1116" y="2"/>
                </a:lnTo>
                <a:lnTo>
                  <a:pt x="1088" y="2"/>
                </a:lnTo>
                <a:lnTo>
                  <a:pt x="1065" y="2"/>
                </a:lnTo>
                <a:lnTo>
                  <a:pt x="1038" y="2"/>
                </a:lnTo>
                <a:lnTo>
                  <a:pt x="1015" y="4"/>
                </a:lnTo>
                <a:lnTo>
                  <a:pt x="988" y="4"/>
                </a:lnTo>
                <a:lnTo>
                  <a:pt x="962" y="4"/>
                </a:lnTo>
                <a:lnTo>
                  <a:pt x="937" y="4"/>
                </a:lnTo>
                <a:lnTo>
                  <a:pt x="914" y="4"/>
                </a:lnTo>
                <a:lnTo>
                  <a:pt x="887" y="4"/>
                </a:lnTo>
                <a:lnTo>
                  <a:pt x="862" y="4"/>
                </a:lnTo>
                <a:lnTo>
                  <a:pt x="836" y="4"/>
                </a:lnTo>
                <a:lnTo>
                  <a:pt x="813" y="6"/>
                </a:lnTo>
                <a:lnTo>
                  <a:pt x="786" y="6"/>
                </a:lnTo>
                <a:lnTo>
                  <a:pt x="761" y="6"/>
                </a:lnTo>
                <a:lnTo>
                  <a:pt x="736" y="6"/>
                </a:lnTo>
                <a:lnTo>
                  <a:pt x="710" y="6"/>
                </a:lnTo>
                <a:lnTo>
                  <a:pt x="683" y="6"/>
                </a:lnTo>
                <a:lnTo>
                  <a:pt x="660" y="6"/>
                </a:lnTo>
                <a:lnTo>
                  <a:pt x="633" y="6"/>
                </a:lnTo>
                <a:lnTo>
                  <a:pt x="609" y="6"/>
                </a:lnTo>
                <a:lnTo>
                  <a:pt x="582" y="6"/>
                </a:lnTo>
                <a:lnTo>
                  <a:pt x="557" y="6"/>
                </a:lnTo>
                <a:lnTo>
                  <a:pt x="532" y="6"/>
                </a:lnTo>
                <a:lnTo>
                  <a:pt x="507" y="6"/>
                </a:lnTo>
                <a:lnTo>
                  <a:pt x="480" y="6"/>
                </a:lnTo>
                <a:lnTo>
                  <a:pt x="456" y="6"/>
                </a:lnTo>
                <a:lnTo>
                  <a:pt x="429" y="6"/>
                </a:lnTo>
                <a:lnTo>
                  <a:pt x="406" y="8"/>
                </a:lnTo>
                <a:lnTo>
                  <a:pt x="379" y="8"/>
                </a:lnTo>
                <a:lnTo>
                  <a:pt x="353" y="8"/>
                </a:lnTo>
                <a:lnTo>
                  <a:pt x="328" y="8"/>
                </a:lnTo>
                <a:lnTo>
                  <a:pt x="303" y="8"/>
                </a:lnTo>
                <a:lnTo>
                  <a:pt x="276" y="8"/>
                </a:lnTo>
                <a:lnTo>
                  <a:pt x="253" y="8"/>
                </a:lnTo>
                <a:lnTo>
                  <a:pt x="225" y="8"/>
                </a:lnTo>
                <a:lnTo>
                  <a:pt x="202" y="10"/>
                </a:lnTo>
                <a:lnTo>
                  <a:pt x="175" y="10"/>
                </a:lnTo>
                <a:lnTo>
                  <a:pt x="150" y="10"/>
                </a:lnTo>
                <a:lnTo>
                  <a:pt x="125" y="10"/>
                </a:lnTo>
                <a:lnTo>
                  <a:pt x="101" y="10"/>
                </a:lnTo>
                <a:lnTo>
                  <a:pt x="74" y="10"/>
                </a:lnTo>
                <a:lnTo>
                  <a:pt x="49" y="10"/>
                </a:lnTo>
                <a:lnTo>
                  <a:pt x="24" y="10"/>
                </a:lnTo>
                <a:lnTo>
                  <a:pt x="0" y="12"/>
                </a:lnTo>
                <a:lnTo>
                  <a:pt x="0" y="30"/>
                </a:lnTo>
                <a:lnTo>
                  <a:pt x="0" y="47"/>
                </a:lnTo>
                <a:lnTo>
                  <a:pt x="0" y="64"/>
                </a:lnTo>
                <a:lnTo>
                  <a:pt x="0" y="84"/>
                </a:lnTo>
                <a:lnTo>
                  <a:pt x="0" y="101"/>
                </a:lnTo>
                <a:lnTo>
                  <a:pt x="0" y="121"/>
                </a:lnTo>
                <a:lnTo>
                  <a:pt x="0" y="138"/>
                </a:lnTo>
                <a:lnTo>
                  <a:pt x="0" y="157"/>
                </a:lnTo>
                <a:lnTo>
                  <a:pt x="0" y="175"/>
                </a:lnTo>
                <a:lnTo>
                  <a:pt x="0" y="192"/>
                </a:lnTo>
                <a:lnTo>
                  <a:pt x="0" y="212"/>
                </a:lnTo>
                <a:lnTo>
                  <a:pt x="0" y="231"/>
                </a:lnTo>
                <a:lnTo>
                  <a:pt x="0" y="249"/>
                </a:lnTo>
                <a:lnTo>
                  <a:pt x="0" y="266"/>
                </a:lnTo>
                <a:lnTo>
                  <a:pt x="0" y="285"/>
                </a:lnTo>
                <a:lnTo>
                  <a:pt x="2" y="305"/>
                </a:lnTo>
                <a:lnTo>
                  <a:pt x="2" y="322"/>
                </a:lnTo>
                <a:lnTo>
                  <a:pt x="2" y="340"/>
                </a:lnTo>
                <a:lnTo>
                  <a:pt x="2" y="357"/>
                </a:lnTo>
                <a:lnTo>
                  <a:pt x="2" y="377"/>
                </a:lnTo>
                <a:lnTo>
                  <a:pt x="2" y="394"/>
                </a:lnTo>
                <a:lnTo>
                  <a:pt x="2" y="413"/>
                </a:lnTo>
                <a:lnTo>
                  <a:pt x="2" y="433"/>
                </a:lnTo>
                <a:lnTo>
                  <a:pt x="4" y="452"/>
                </a:lnTo>
                <a:lnTo>
                  <a:pt x="4" y="470"/>
                </a:lnTo>
                <a:lnTo>
                  <a:pt x="4" y="487"/>
                </a:lnTo>
                <a:lnTo>
                  <a:pt x="4" y="505"/>
                </a:lnTo>
                <a:lnTo>
                  <a:pt x="4" y="524"/>
                </a:lnTo>
                <a:lnTo>
                  <a:pt x="4" y="541"/>
                </a:lnTo>
                <a:lnTo>
                  <a:pt x="4" y="561"/>
                </a:lnTo>
                <a:lnTo>
                  <a:pt x="4" y="580"/>
                </a:lnTo>
                <a:lnTo>
                  <a:pt x="6" y="600"/>
                </a:lnTo>
                <a:lnTo>
                  <a:pt x="6" y="617"/>
                </a:lnTo>
                <a:lnTo>
                  <a:pt x="6" y="634"/>
                </a:lnTo>
                <a:lnTo>
                  <a:pt x="6" y="652"/>
                </a:lnTo>
                <a:lnTo>
                  <a:pt x="6" y="671"/>
                </a:lnTo>
                <a:lnTo>
                  <a:pt x="6" y="689"/>
                </a:lnTo>
                <a:lnTo>
                  <a:pt x="6" y="708"/>
                </a:lnTo>
                <a:lnTo>
                  <a:pt x="6" y="726"/>
                </a:lnTo>
                <a:lnTo>
                  <a:pt x="6" y="745"/>
                </a:lnTo>
                <a:lnTo>
                  <a:pt x="6" y="762"/>
                </a:lnTo>
                <a:lnTo>
                  <a:pt x="6" y="780"/>
                </a:lnTo>
                <a:lnTo>
                  <a:pt x="6" y="799"/>
                </a:lnTo>
                <a:lnTo>
                  <a:pt x="6" y="819"/>
                </a:lnTo>
                <a:lnTo>
                  <a:pt x="6" y="836"/>
                </a:lnTo>
                <a:lnTo>
                  <a:pt x="6" y="854"/>
                </a:lnTo>
                <a:lnTo>
                  <a:pt x="6" y="873"/>
                </a:lnTo>
                <a:lnTo>
                  <a:pt x="8" y="892"/>
                </a:lnTo>
                <a:lnTo>
                  <a:pt x="8" y="910"/>
                </a:lnTo>
                <a:lnTo>
                  <a:pt x="8" y="927"/>
                </a:lnTo>
                <a:lnTo>
                  <a:pt x="8" y="947"/>
                </a:lnTo>
                <a:lnTo>
                  <a:pt x="8" y="966"/>
                </a:lnTo>
                <a:lnTo>
                  <a:pt x="8" y="983"/>
                </a:lnTo>
                <a:lnTo>
                  <a:pt x="8" y="1001"/>
                </a:lnTo>
                <a:lnTo>
                  <a:pt x="8" y="1020"/>
                </a:lnTo>
                <a:lnTo>
                  <a:pt x="10" y="1040"/>
                </a:lnTo>
                <a:lnTo>
                  <a:pt x="10" y="1057"/>
                </a:lnTo>
                <a:lnTo>
                  <a:pt x="10" y="1077"/>
                </a:lnTo>
                <a:lnTo>
                  <a:pt x="10" y="1094"/>
                </a:lnTo>
                <a:lnTo>
                  <a:pt x="10" y="1113"/>
                </a:lnTo>
                <a:lnTo>
                  <a:pt x="10" y="1131"/>
                </a:lnTo>
                <a:lnTo>
                  <a:pt x="10" y="1150"/>
                </a:lnTo>
                <a:lnTo>
                  <a:pt x="10" y="1170"/>
                </a:lnTo>
                <a:lnTo>
                  <a:pt x="12" y="1189"/>
                </a:lnTo>
                <a:lnTo>
                  <a:pt x="24" y="1179"/>
                </a:lnTo>
                <a:lnTo>
                  <a:pt x="39" y="1172"/>
                </a:lnTo>
                <a:lnTo>
                  <a:pt x="53" y="1162"/>
                </a:lnTo>
                <a:lnTo>
                  <a:pt x="68" y="1154"/>
                </a:lnTo>
                <a:lnTo>
                  <a:pt x="82" y="1144"/>
                </a:lnTo>
                <a:lnTo>
                  <a:pt x="97" y="1137"/>
                </a:lnTo>
                <a:lnTo>
                  <a:pt x="111" y="1127"/>
                </a:lnTo>
                <a:lnTo>
                  <a:pt x="127" y="1121"/>
                </a:lnTo>
                <a:lnTo>
                  <a:pt x="138" y="1111"/>
                </a:lnTo>
                <a:lnTo>
                  <a:pt x="154" y="1104"/>
                </a:lnTo>
                <a:lnTo>
                  <a:pt x="167" y="1094"/>
                </a:lnTo>
                <a:lnTo>
                  <a:pt x="183" y="1086"/>
                </a:lnTo>
                <a:lnTo>
                  <a:pt x="196" y="1077"/>
                </a:lnTo>
                <a:lnTo>
                  <a:pt x="212" y="1069"/>
                </a:lnTo>
                <a:lnTo>
                  <a:pt x="225" y="1059"/>
                </a:lnTo>
                <a:lnTo>
                  <a:pt x="241" y="1053"/>
                </a:lnTo>
                <a:lnTo>
                  <a:pt x="255" y="1044"/>
                </a:lnTo>
                <a:lnTo>
                  <a:pt x="268" y="1036"/>
                </a:lnTo>
                <a:lnTo>
                  <a:pt x="282" y="1026"/>
                </a:lnTo>
                <a:lnTo>
                  <a:pt x="297" y="1018"/>
                </a:lnTo>
                <a:lnTo>
                  <a:pt x="311" y="1009"/>
                </a:lnTo>
                <a:lnTo>
                  <a:pt x="326" y="1001"/>
                </a:lnTo>
                <a:lnTo>
                  <a:pt x="340" y="991"/>
                </a:lnTo>
                <a:lnTo>
                  <a:pt x="355" y="985"/>
                </a:lnTo>
                <a:lnTo>
                  <a:pt x="369" y="976"/>
                </a:lnTo>
                <a:lnTo>
                  <a:pt x="384" y="968"/>
                </a:lnTo>
                <a:lnTo>
                  <a:pt x="398" y="958"/>
                </a:lnTo>
                <a:lnTo>
                  <a:pt x="414" y="950"/>
                </a:lnTo>
                <a:lnTo>
                  <a:pt x="427" y="941"/>
                </a:lnTo>
                <a:lnTo>
                  <a:pt x="443" y="933"/>
                </a:lnTo>
                <a:lnTo>
                  <a:pt x="456" y="923"/>
                </a:lnTo>
                <a:lnTo>
                  <a:pt x="472" y="918"/>
                </a:lnTo>
                <a:lnTo>
                  <a:pt x="489" y="896"/>
                </a:lnTo>
                <a:lnTo>
                  <a:pt x="507" y="879"/>
                </a:lnTo>
                <a:lnTo>
                  <a:pt x="524" y="857"/>
                </a:lnTo>
                <a:lnTo>
                  <a:pt x="544" y="840"/>
                </a:lnTo>
                <a:lnTo>
                  <a:pt x="561" y="821"/>
                </a:lnTo>
                <a:lnTo>
                  <a:pt x="580" y="801"/>
                </a:lnTo>
                <a:lnTo>
                  <a:pt x="600" y="782"/>
                </a:lnTo>
                <a:lnTo>
                  <a:pt x="619" y="764"/>
                </a:lnTo>
                <a:lnTo>
                  <a:pt x="637" y="745"/>
                </a:lnTo>
                <a:lnTo>
                  <a:pt x="654" y="726"/>
                </a:lnTo>
                <a:lnTo>
                  <a:pt x="672" y="706"/>
                </a:lnTo>
                <a:lnTo>
                  <a:pt x="691" y="689"/>
                </a:lnTo>
                <a:lnTo>
                  <a:pt x="708" y="669"/>
                </a:lnTo>
                <a:lnTo>
                  <a:pt x="728" y="650"/>
                </a:lnTo>
                <a:lnTo>
                  <a:pt x="747" y="631"/>
                </a:lnTo>
                <a:lnTo>
                  <a:pt x="767" y="613"/>
                </a:lnTo>
                <a:lnTo>
                  <a:pt x="778" y="598"/>
                </a:lnTo>
                <a:lnTo>
                  <a:pt x="794" y="584"/>
                </a:lnTo>
                <a:lnTo>
                  <a:pt x="805" y="570"/>
                </a:lnTo>
                <a:lnTo>
                  <a:pt x="821" y="559"/>
                </a:lnTo>
                <a:lnTo>
                  <a:pt x="834" y="545"/>
                </a:lnTo>
                <a:lnTo>
                  <a:pt x="848" y="532"/>
                </a:lnTo>
                <a:lnTo>
                  <a:pt x="862" y="518"/>
                </a:lnTo>
                <a:lnTo>
                  <a:pt x="877" y="506"/>
                </a:lnTo>
                <a:lnTo>
                  <a:pt x="889" y="491"/>
                </a:lnTo>
                <a:lnTo>
                  <a:pt x="904" y="477"/>
                </a:lnTo>
                <a:lnTo>
                  <a:pt x="918" y="464"/>
                </a:lnTo>
                <a:lnTo>
                  <a:pt x="933" y="452"/>
                </a:lnTo>
                <a:lnTo>
                  <a:pt x="945" y="439"/>
                </a:lnTo>
                <a:lnTo>
                  <a:pt x="960" y="425"/>
                </a:lnTo>
                <a:lnTo>
                  <a:pt x="974" y="411"/>
                </a:lnTo>
                <a:lnTo>
                  <a:pt x="990" y="400"/>
                </a:lnTo>
                <a:lnTo>
                  <a:pt x="1007" y="386"/>
                </a:lnTo>
                <a:lnTo>
                  <a:pt x="1024" y="375"/>
                </a:lnTo>
                <a:lnTo>
                  <a:pt x="1042" y="363"/>
                </a:lnTo>
                <a:lnTo>
                  <a:pt x="1061" y="351"/>
                </a:lnTo>
                <a:lnTo>
                  <a:pt x="1079" y="340"/>
                </a:lnTo>
                <a:lnTo>
                  <a:pt x="1098" y="328"/>
                </a:lnTo>
                <a:lnTo>
                  <a:pt x="1118" y="316"/>
                </a:lnTo>
                <a:lnTo>
                  <a:pt x="1137" y="305"/>
                </a:lnTo>
                <a:lnTo>
                  <a:pt x="1154" y="293"/>
                </a:lnTo>
                <a:lnTo>
                  <a:pt x="1172" y="282"/>
                </a:lnTo>
                <a:lnTo>
                  <a:pt x="1189" y="270"/>
                </a:lnTo>
                <a:lnTo>
                  <a:pt x="1209" y="258"/>
                </a:lnTo>
                <a:lnTo>
                  <a:pt x="1226" y="247"/>
                </a:lnTo>
                <a:lnTo>
                  <a:pt x="1246" y="235"/>
                </a:lnTo>
                <a:lnTo>
                  <a:pt x="1265" y="223"/>
                </a:lnTo>
                <a:lnTo>
                  <a:pt x="1284" y="212"/>
                </a:lnTo>
                <a:lnTo>
                  <a:pt x="1304" y="196"/>
                </a:lnTo>
                <a:lnTo>
                  <a:pt x="1325" y="185"/>
                </a:lnTo>
                <a:lnTo>
                  <a:pt x="1335" y="177"/>
                </a:lnTo>
                <a:lnTo>
                  <a:pt x="1346" y="169"/>
                </a:lnTo>
                <a:lnTo>
                  <a:pt x="1356" y="163"/>
                </a:lnTo>
                <a:lnTo>
                  <a:pt x="1368" y="157"/>
                </a:lnTo>
                <a:lnTo>
                  <a:pt x="1377" y="150"/>
                </a:lnTo>
                <a:lnTo>
                  <a:pt x="1389" y="144"/>
                </a:lnTo>
                <a:lnTo>
                  <a:pt x="1399" y="136"/>
                </a:lnTo>
                <a:lnTo>
                  <a:pt x="1410" y="130"/>
                </a:lnTo>
                <a:lnTo>
                  <a:pt x="1420" y="123"/>
                </a:lnTo>
                <a:lnTo>
                  <a:pt x="1432" y="117"/>
                </a:lnTo>
                <a:lnTo>
                  <a:pt x="1443" y="111"/>
                </a:lnTo>
                <a:lnTo>
                  <a:pt x="1455" y="105"/>
                </a:lnTo>
                <a:lnTo>
                  <a:pt x="1474" y="92"/>
                </a:lnTo>
                <a:lnTo>
                  <a:pt x="1496" y="78"/>
                </a:lnTo>
                <a:lnTo>
                  <a:pt x="1505" y="70"/>
                </a:lnTo>
                <a:lnTo>
                  <a:pt x="1517" y="64"/>
                </a:lnTo>
                <a:lnTo>
                  <a:pt x="1527" y="59"/>
                </a:lnTo>
                <a:lnTo>
                  <a:pt x="1538" y="53"/>
                </a:lnTo>
                <a:lnTo>
                  <a:pt x="1548" y="45"/>
                </a:lnTo>
                <a:lnTo>
                  <a:pt x="1560" y="39"/>
                </a:lnTo>
                <a:lnTo>
                  <a:pt x="1569" y="31"/>
                </a:lnTo>
                <a:lnTo>
                  <a:pt x="1581" y="26"/>
                </a:lnTo>
                <a:lnTo>
                  <a:pt x="1591" y="18"/>
                </a:lnTo>
                <a:lnTo>
                  <a:pt x="1602" y="12"/>
                </a:lnTo>
                <a:lnTo>
                  <a:pt x="1614" y="6"/>
                </a:lnTo>
                <a:lnTo>
                  <a:pt x="162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75" name=""/>
          <p:cNvSpPr/>
          <p:nvPr/>
        </p:nvSpPr>
        <p:spPr>
          <a:xfrm>
            <a:off x="2243160" y="2271600"/>
            <a:ext cx="1062000" cy="776520"/>
          </a:xfrm>
          <a:custGeom>
            <a:avLst/>
            <a:gdLst/>
            <a:ahLst/>
            <a:rect l="l" t="t" r="r" b="b"/>
            <a:pathLst>
              <a:path w="1338" h="979">
                <a:moveTo>
                  <a:pt x="1338" y="0"/>
                </a:moveTo>
                <a:lnTo>
                  <a:pt x="1315" y="0"/>
                </a:lnTo>
                <a:lnTo>
                  <a:pt x="1295" y="0"/>
                </a:lnTo>
                <a:lnTo>
                  <a:pt x="1272" y="0"/>
                </a:lnTo>
                <a:lnTo>
                  <a:pt x="1253" y="0"/>
                </a:lnTo>
                <a:lnTo>
                  <a:pt x="1231" y="0"/>
                </a:lnTo>
                <a:lnTo>
                  <a:pt x="1210" y="0"/>
                </a:lnTo>
                <a:lnTo>
                  <a:pt x="1189" y="0"/>
                </a:lnTo>
                <a:lnTo>
                  <a:pt x="1169" y="0"/>
                </a:lnTo>
                <a:lnTo>
                  <a:pt x="1146" y="0"/>
                </a:lnTo>
                <a:lnTo>
                  <a:pt x="1126" y="0"/>
                </a:lnTo>
                <a:lnTo>
                  <a:pt x="1105" y="0"/>
                </a:lnTo>
                <a:lnTo>
                  <a:pt x="1086" y="0"/>
                </a:lnTo>
                <a:lnTo>
                  <a:pt x="1062" y="0"/>
                </a:lnTo>
                <a:lnTo>
                  <a:pt x="1043" y="0"/>
                </a:lnTo>
                <a:lnTo>
                  <a:pt x="1022" y="0"/>
                </a:lnTo>
                <a:lnTo>
                  <a:pt x="1002" y="1"/>
                </a:lnTo>
                <a:lnTo>
                  <a:pt x="979" y="1"/>
                </a:lnTo>
                <a:lnTo>
                  <a:pt x="960" y="1"/>
                </a:lnTo>
                <a:lnTo>
                  <a:pt x="936" y="1"/>
                </a:lnTo>
                <a:lnTo>
                  <a:pt x="917" y="1"/>
                </a:lnTo>
                <a:lnTo>
                  <a:pt x="896" y="1"/>
                </a:lnTo>
                <a:lnTo>
                  <a:pt x="876" y="1"/>
                </a:lnTo>
                <a:lnTo>
                  <a:pt x="855" y="1"/>
                </a:lnTo>
                <a:lnTo>
                  <a:pt x="836" y="1"/>
                </a:lnTo>
                <a:lnTo>
                  <a:pt x="812" y="1"/>
                </a:lnTo>
                <a:lnTo>
                  <a:pt x="793" y="1"/>
                </a:lnTo>
                <a:lnTo>
                  <a:pt x="770" y="1"/>
                </a:lnTo>
                <a:lnTo>
                  <a:pt x="750" y="1"/>
                </a:lnTo>
                <a:lnTo>
                  <a:pt x="729" y="1"/>
                </a:lnTo>
                <a:lnTo>
                  <a:pt x="709" y="1"/>
                </a:lnTo>
                <a:lnTo>
                  <a:pt x="688" y="1"/>
                </a:lnTo>
                <a:lnTo>
                  <a:pt x="669" y="3"/>
                </a:lnTo>
                <a:lnTo>
                  <a:pt x="645" y="3"/>
                </a:lnTo>
                <a:lnTo>
                  <a:pt x="626" y="3"/>
                </a:lnTo>
                <a:lnTo>
                  <a:pt x="603" y="3"/>
                </a:lnTo>
                <a:lnTo>
                  <a:pt x="583" y="3"/>
                </a:lnTo>
                <a:lnTo>
                  <a:pt x="562" y="3"/>
                </a:lnTo>
                <a:lnTo>
                  <a:pt x="541" y="3"/>
                </a:lnTo>
                <a:lnTo>
                  <a:pt x="519" y="3"/>
                </a:lnTo>
                <a:lnTo>
                  <a:pt x="500" y="3"/>
                </a:lnTo>
                <a:lnTo>
                  <a:pt x="477" y="3"/>
                </a:lnTo>
                <a:lnTo>
                  <a:pt x="457" y="3"/>
                </a:lnTo>
                <a:lnTo>
                  <a:pt x="436" y="3"/>
                </a:lnTo>
                <a:lnTo>
                  <a:pt x="417" y="3"/>
                </a:lnTo>
                <a:lnTo>
                  <a:pt x="393" y="3"/>
                </a:lnTo>
                <a:lnTo>
                  <a:pt x="374" y="3"/>
                </a:lnTo>
                <a:lnTo>
                  <a:pt x="353" y="3"/>
                </a:lnTo>
                <a:lnTo>
                  <a:pt x="333" y="5"/>
                </a:lnTo>
                <a:lnTo>
                  <a:pt x="310" y="5"/>
                </a:lnTo>
                <a:lnTo>
                  <a:pt x="291" y="5"/>
                </a:lnTo>
                <a:lnTo>
                  <a:pt x="267" y="5"/>
                </a:lnTo>
                <a:lnTo>
                  <a:pt x="248" y="5"/>
                </a:lnTo>
                <a:lnTo>
                  <a:pt x="227" y="5"/>
                </a:lnTo>
                <a:lnTo>
                  <a:pt x="207" y="5"/>
                </a:lnTo>
                <a:lnTo>
                  <a:pt x="186" y="5"/>
                </a:lnTo>
                <a:lnTo>
                  <a:pt x="166" y="7"/>
                </a:lnTo>
                <a:lnTo>
                  <a:pt x="143" y="7"/>
                </a:lnTo>
                <a:lnTo>
                  <a:pt x="124" y="7"/>
                </a:lnTo>
                <a:lnTo>
                  <a:pt x="101" y="7"/>
                </a:lnTo>
                <a:lnTo>
                  <a:pt x="81" y="7"/>
                </a:lnTo>
                <a:lnTo>
                  <a:pt x="60" y="7"/>
                </a:lnTo>
                <a:lnTo>
                  <a:pt x="40" y="7"/>
                </a:lnTo>
                <a:lnTo>
                  <a:pt x="19" y="7"/>
                </a:lnTo>
                <a:lnTo>
                  <a:pt x="0" y="9"/>
                </a:lnTo>
                <a:lnTo>
                  <a:pt x="0" y="23"/>
                </a:lnTo>
                <a:lnTo>
                  <a:pt x="0" y="38"/>
                </a:lnTo>
                <a:lnTo>
                  <a:pt x="0" y="52"/>
                </a:lnTo>
                <a:lnTo>
                  <a:pt x="0" y="67"/>
                </a:lnTo>
                <a:lnTo>
                  <a:pt x="0" y="81"/>
                </a:lnTo>
                <a:lnTo>
                  <a:pt x="0" y="98"/>
                </a:lnTo>
                <a:lnTo>
                  <a:pt x="0" y="112"/>
                </a:lnTo>
                <a:lnTo>
                  <a:pt x="0" y="129"/>
                </a:lnTo>
                <a:lnTo>
                  <a:pt x="0" y="143"/>
                </a:lnTo>
                <a:lnTo>
                  <a:pt x="0" y="159"/>
                </a:lnTo>
                <a:lnTo>
                  <a:pt x="0" y="172"/>
                </a:lnTo>
                <a:lnTo>
                  <a:pt x="0" y="188"/>
                </a:lnTo>
                <a:lnTo>
                  <a:pt x="0" y="201"/>
                </a:lnTo>
                <a:lnTo>
                  <a:pt x="0" y="219"/>
                </a:lnTo>
                <a:lnTo>
                  <a:pt x="0" y="232"/>
                </a:lnTo>
                <a:lnTo>
                  <a:pt x="2" y="250"/>
                </a:lnTo>
                <a:lnTo>
                  <a:pt x="2" y="263"/>
                </a:lnTo>
                <a:lnTo>
                  <a:pt x="2" y="279"/>
                </a:lnTo>
                <a:lnTo>
                  <a:pt x="2" y="294"/>
                </a:lnTo>
                <a:lnTo>
                  <a:pt x="2" y="310"/>
                </a:lnTo>
                <a:lnTo>
                  <a:pt x="2" y="323"/>
                </a:lnTo>
                <a:lnTo>
                  <a:pt x="2" y="341"/>
                </a:lnTo>
                <a:lnTo>
                  <a:pt x="2" y="354"/>
                </a:lnTo>
                <a:lnTo>
                  <a:pt x="2" y="372"/>
                </a:lnTo>
                <a:lnTo>
                  <a:pt x="2" y="385"/>
                </a:lnTo>
                <a:lnTo>
                  <a:pt x="2" y="401"/>
                </a:lnTo>
                <a:lnTo>
                  <a:pt x="2" y="416"/>
                </a:lnTo>
                <a:lnTo>
                  <a:pt x="2" y="432"/>
                </a:lnTo>
                <a:lnTo>
                  <a:pt x="2" y="446"/>
                </a:lnTo>
                <a:lnTo>
                  <a:pt x="2" y="463"/>
                </a:lnTo>
                <a:lnTo>
                  <a:pt x="2" y="477"/>
                </a:lnTo>
                <a:lnTo>
                  <a:pt x="4" y="494"/>
                </a:lnTo>
                <a:lnTo>
                  <a:pt x="4" y="508"/>
                </a:lnTo>
                <a:lnTo>
                  <a:pt x="4" y="523"/>
                </a:lnTo>
                <a:lnTo>
                  <a:pt x="4" y="537"/>
                </a:lnTo>
                <a:lnTo>
                  <a:pt x="4" y="552"/>
                </a:lnTo>
                <a:lnTo>
                  <a:pt x="4" y="566"/>
                </a:lnTo>
                <a:lnTo>
                  <a:pt x="4" y="583"/>
                </a:lnTo>
                <a:lnTo>
                  <a:pt x="4" y="597"/>
                </a:lnTo>
                <a:lnTo>
                  <a:pt x="4" y="614"/>
                </a:lnTo>
                <a:lnTo>
                  <a:pt x="4" y="628"/>
                </a:lnTo>
                <a:lnTo>
                  <a:pt x="4" y="643"/>
                </a:lnTo>
                <a:lnTo>
                  <a:pt x="4" y="657"/>
                </a:lnTo>
                <a:lnTo>
                  <a:pt x="4" y="672"/>
                </a:lnTo>
                <a:lnTo>
                  <a:pt x="4" y="686"/>
                </a:lnTo>
                <a:lnTo>
                  <a:pt x="4" y="703"/>
                </a:lnTo>
                <a:lnTo>
                  <a:pt x="4" y="717"/>
                </a:lnTo>
                <a:lnTo>
                  <a:pt x="5" y="734"/>
                </a:lnTo>
                <a:lnTo>
                  <a:pt x="5" y="748"/>
                </a:lnTo>
                <a:lnTo>
                  <a:pt x="5" y="763"/>
                </a:lnTo>
                <a:lnTo>
                  <a:pt x="5" y="779"/>
                </a:lnTo>
                <a:lnTo>
                  <a:pt x="5" y="795"/>
                </a:lnTo>
                <a:lnTo>
                  <a:pt x="5" y="808"/>
                </a:lnTo>
                <a:lnTo>
                  <a:pt x="5" y="826"/>
                </a:lnTo>
                <a:lnTo>
                  <a:pt x="5" y="839"/>
                </a:lnTo>
                <a:lnTo>
                  <a:pt x="7" y="857"/>
                </a:lnTo>
                <a:lnTo>
                  <a:pt x="7" y="870"/>
                </a:lnTo>
                <a:lnTo>
                  <a:pt x="7" y="886"/>
                </a:lnTo>
                <a:lnTo>
                  <a:pt x="7" y="901"/>
                </a:lnTo>
                <a:lnTo>
                  <a:pt x="7" y="917"/>
                </a:lnTo>
                <a:lnTo>
                  <a:pt x="7" y="930"/>
                </a:lnTo>
                <a:lnTo>
                  <a:pt x="7" y="948"/>
                </a:lnTo>
                <a:lnTo>
                  <a:pt x="7" y="961"/>
                </a:lnTo>
                <a:lnTo>
                  <a:pt x="9" y="979"/>
                </a:lnTo>
                <a:lnTo>
                  <a:pt x="21" y="971"/>
                </a:lnTo>
                <a:lnTo>
                  <a:pt x="33" y="963"/>
                </a:lnTo>
                <a:lnTo>
                  <a:pt x="44" y="955"/>
                </a:lnTo>
                <a:lnTo>
                  <a:pt x="56" y="950"/>
                </a:lnTo>
                <a:lnTo>
                  <a:pt x="68" y="942"/>
                </a:lnTo>
                <a:lnTo>
                  <a:pt x="79" y="934"/>
                </a:lnTo>
                <a:lnTo>
                  <a:pt x="91" y="928"/>
                </a:lnTo>
                <a:lnTo>
                  <a:pt x="102" y="922"/>
                </a:lnTo>
                <a:lnTo>
                  <a:pt x="114" y="915"/>
                </a:lnTo>
                <a:lnTo>
                  <a:pt x="126" y="907"/>
                </a:lnTo>
                <a:lnTo>
                  <a:pt x="137" y="899"/>
                </a:lnTo>
                <a:lnTo>
                  <a:pt x="149" y="893"/>
                </a:lnTo>
                <a:lnTo>
                  <a:pt x="161" y="886"/>
                </a:lnTo>
                <a:lnTo>
                  <a:pt x="172" y="878"/>
                </a:lnTo>
                <a:lnTo>
                  <a:pt x="184" y="872"/>
                </a:lnTo>
                <a:lnTo>
                  <a:pt x="197" y="866"/>
                </a:lnTo>
                <a:lnTo>
                  <a:pt x="209" y="858"/>
                </a:lnTo>
                <a:lnTo>
                  <a:pt x="221" y="851"/>
                </a:lnTo>
                <a:lnTo>
                  <a:pt x="232" y="843"/>
                </a:lnTo>
                <a:lnTo>
                  <a:pt x="244" y="837"/>
                </a:lnTo>
                <a:lnTo>
                  <a:pt x="256" y="829"/>
                </a:lnTo>
                <a:lnTo>
                  <a:pt x="267" y="824"/>
                </a:lnTo>
                <a:lnTo>
                  <a:pt x="279" y="816"/>
                </a:lnTo>
                <a:lnTo>
                  <a:pt x="293" y="810"/>
                </a:lnTo>
                <a:lnTo>
                  <a:pt x="304" y="802"/>
                </a:lnTo>
                <a:lnTo>
                  <a:pt x="316" y="795"/>
                </a:lnTo>
                <a:lnTo>
                  <a:pt x="327" y="789"/>
                </a:lnTo>
                <a:lnTo>
                  <a:pt x="339" y="783"/>
                </a:lnTo>
                <a:lnTo>
                  <a:pt x="351" y="775"/>
                </a:lnTo>
                <a:lnTo>
                  <a:pt x="362" y="767"/>
                </a:lnTo>
                <a:lnTo>
                  <a:pt x="374" y="762"/>
                </a:lnTo>
                <a:lnTo>
                  <a:pt x="388" y="756"/>
                </a:lnTo>
                <a:lnTo>
                  <a:pt x="401" y="738"/>
                </a:lnTo>
                <a:lnTo>
                  <a:pt x="417" y="723"/>
                </a:lnTo>
                <a:lnTo>
                  <a:pt x="430" y="707"/>
                </a:lnTo>
                <a:lnTo>
                  <a:pt x="448" y="692"/>
                </a:lnTo>
                <a:lnTo>
                  <a:pt x="461" y="674"/>
                </a:lnTo>
                <a:lnTo>
                  <a:pt x="477" y="659"/>
                </a:lnTo>
                <a:lnTo>
                  <a:pt x="490" y="643"/>
                </a:lnTo>
                <a:lnTo>
                  <a:pt x="508" y="630"/>
                </a:lnTo>
                <a:lnTo>
                  <a:pt x="521" y="612"/>
                </a:lnTo>
                <a:lnTo>
                  <a:pt x="537" y="597"/>
                </a:lnTo>
                <a:lnTo>
                  <a:pt x="552" y="581"/>
                </a:lnTo>
                <a:lnTo>
                  <a:pt x="568" y="566"/>
                </a:lnTo>
                <a:lnTo>
                  <a:pt x="581" y="548"/>
                </a:lnTo>
                <a:lnTo>
                  <a:pt x="599" y="533"/>
                </a:lnTo>
                <a:lnTo>
                  <a:pt x="613" y="517"/>
                </a:lnTo>
                <a:lnTo>
                  <a:pt x="630" y="504"/>
                </a:lnTo>
                <a:lnTo>
                  <a:pt x="640" y="492"/>
                </a:lnTo>
                <a:lnTo>
                  <a:pt x="651" y="480"/>
                </a:lnTo>
                <a:lnTo>
                  <a:pt x="663" y="469"/>
                </a:lnTo>
                <a:lnTo>
                  <a:pt x="675" y="459"/>
                </a:lnTo>
                <a:lnTo>
                  <a:pt x="686" y="447"/>
                </a:lnTo>
                <a:lnTo>
                  <a:pt x="698" y="438"/>
                </a:lnTo>
                <a:lnTo>
                  <a:pt x="709" y="426"/>
                </a:lnTo>
                <a:lnTo>
                  <a:pt x="721" y="416"/>
                </a:lnTo>
                <a:lnTo>
                  <a:pt x="733" y="405"/>
                </a:lnTo>
                <a:lnTo>
                  <a:pt x="744" y="393"/>
                </a:lnTo>
                <a:lnTo>
                  <a:pt x="756" y="382"/>
                </a:lnTo>
                <a:lnTo>
                  <a:pt x="768" y="372"/>
                </a:lnTo>
                <a:lnTo>
                  <a:pt x="779" y="360"/>
                </a:lnTo>
                <a:lnTo>
                  <a:pt x="791" y="350"/>
                </a:lnTo>
                <a:lnTo>
                  <a:pt x="803" y="339"/>
                </a:lnTo>
                <a:lnTo>
                  <a:pt x="814" y="329"/>
                </a:lnTo>
                <a:lnTo>
                  <a:pt x="828" y="318"/>
                </a:lnTo>
                <a:lnTo>
                  <a:pt x="843" y="308"/>
                </a:lnTo>
                <a:lnTo>
                  <a:pt x="857" y="298"/>
                </a:lnTo>
                <a:lnTo>
                  <a:pt x="874" y="290"/>
                </a:lnTo>
                <a:lnTo>
                  <a:pt x="888" y="279"/>
                </a:lnTo>
                <a:lnTo>
                  <a:pt x="903" y="269"/>
                </a:lnTo>
                <a:lnTo>
                  <a:pt x="917" y="259"/>
                </a:lnTo>
                <a:lnTo>
                  <a:pt x="934" y="252"/>
                </a:lnTo>
                <a:lnTo>
                  <a:pt x="948" y="240"/>
                </a:lnTo>
                <a:lnTo>
                  <a:pt x="964" y="230"/>
                </a:lnTo>
                <a:lnTo>
                  <a:pt x="979" y="221"/>
                </a:lnTo>
                <a:lnTo>
                  <a:pt x="995" y="213"/>
                </a:lnTo>
                <a:lnTo>
                  <a:pt x="1008" y="201"/>
                </a:lnTo>
                <a:lnTo>
                  <a:pt x="1026" y="192"/>
                </a:lnTo>
                <a:lnTo>
                  <a:pt x="1039" y="182"/>
                </a:lnTo>
                <a:lnTo>
                  <a:pt x="1057" y="174"/>
                </a:lnTo>
                <a:lnTo>
                  <a:pt x="1074" y="162"/>
                </a:lnTo>
                <a:lnTo>
                  <a:pt x="1092" y="151"/>
                </a:lnTo>
                <a:lnTo>
                  <a:pt x="1109" y="139"/>
                </a:lnTo>
                <a:lnTo>
                  <a:pt x="1126" y="129"/>
                </a:lnTo>
                <a:lnTo>
                  <a:pt x="1144" y="118"/>
                </a:lnTo>
                <a:lnTo>
                  <a:pt x="1161" y="108"/>
                </a:lnTo>
                <a:lnTo>
                  <a:pt x="1179" y="97"/>
                </a:lnTo>
                <a:lnTo>
                  <a:pt x="1196" y="87"/>
                </a:lnTo>
                <a:lnTo>
                  <a:pt x="1214" y="75"/>
                </a:lnTo>
                <a:lnTo>
                  <a:pt x="1231" y="64"/>
                </a:lnTo>
                <a:lnTo>
                  <a:pt x="1249" y="52"/>
                </a:lnTo>
                <a:lnTo>
                  <a:pt x="1266" y="42"/>
                </a:lnTo>
                <a:lnTo>
                  <a:pt x="1284" y="31"/>
                </a:lnTo>
                <a:lnTo>
                  <a:pt x="1301" y="21"/>
                </a:lnTo>
                <a:lnTo>
                  <a:pt x="1318" y="9"/>
                </a:lnTo>
                <a:lnTo>
                  <a:pt x="133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76" name=""/>
          <p:cNvSpPr/>
          <p:nvPr/>
        </p:nvSpPr>
        <p:spPr>
          <a:xfrm>
            <a:off x="2238480" y="2270160"/>
            <a:ext cx="834840" cy="609480"/>
          </a:xfrm>
          <a:custGeom>
            <a:avLst/>
            <a:gdLst/>
            <a:ahLst/>
            <a:rect l="l" t="t" r="r" b="b"/>
            <a:pathLst>
              <a:path w="1051" h="767">
                <a:moveTo>
                  <a:pt x="1051" y="0"/>
                </a:moveTo>
                <a:lnTo>
                  <a:pt x="1034" y="0"/>
                </a:lnTo>
                <a:lnTo>
                  <a:pt x="1016" y="0"/>
                </a:lnTo>
                <a:lnTo>
                  <a:pt x="999" y="0"/>
                </a:lnTo>
                <a:lnTo>
                  <a:pt x="983" y="0"/>
                </a:lnTo>
                <a:lnTo>
                  <a:pt x="966" y="0"/>
                </a:lnTo>
                <a:lnTo>
                  <a:pt x="950" y="0"/>
                </a:lnTo>
                <a:lnTo>
                  <a:pt x="933" y="0"/>
                </a:lnTo>
                <a:lnTo>
                  <a:pt x="917" y="0"/>
                </a:lnTo>
                <a:lnTo>
                  <a:pt x="900" y="0"/>
                </a:lnTo>
                <a:lnTo>
                  <a:pt x="884" y="0"/>
                </a:lnTo>
                <a:lnTo>
                  <a:pt x="867" y="0"/>
                </a:lnTo>
                <a:lnTo>
                  <a:pt x="851" y="0"/>
                </a:lnTo>
                <a:lnTo>
                  <a:pt x="834" y="0"/>
                </a:lnTo>
                <a:lnTo>
                  <a:pt x="818" y="0"/>
                </a:lnTo>
                <a:lnTo>
                  <a:pt x="803" y="0"/>
                </a:lnTo>
                <a:lnTo>
                  <a:pt x="787" y="0"/>
                </a:lnTo>
                <a:lnTo>
                  <a:pt x="770" y="0"/>
                </a:lnTo>
                <a:lnTo>
                  <a:pt x="752" y="0"/>
                </a:lnTo>
                <a:lnTo>
                  <a:pt x="735" y="0"/>
                </a:lnTo>
                <a:lnTo>
                  <a:pt x="719" y="0"/>
                </a:lnTo>
                <a:lnTo>
                  <a:pt x="702" y="0"/>
                </a:lnTo>
                <a:lnTo>
                  <a:pt x="686" y="0"/>
                </a:lnTo>
                <a:lnTo>
                  <a:pt x="669" y="0"/>
                </a:lnTo>
                <a:lnTo>
                  <a:pt x="653" y="0"/>
                </a:lnTo>
                <a:lnTo>
                  <a:pt x="636" y="0"/>
                </a:lnTo>
                <a:lnTo>
                  <a:pt x="620" y="0"/>
                </a:lnTo>
                <a:lnTo>
                  <a:pt x="603" y="0"/>
                </a:lnTo>
                <a:lnTo>
                  <a:pt x="587" y="0"/>
                </a:lnTo>
                <a:lnTo>
                  <a:pt x="570" y="0"/>
                </a:lnTo>
                <a:lnTo>
                  <a:pt x="555" y="0"/>
                </a:lnTo>
                <a:lnTo>
                  <a:pt x="539" y="0"/>
                </a:lnTo>
                <a:lnTo>
                  <a:pt x="523" y="2"/>
                </a:lnTo>
                <a:lnTo>
                  <a:pt x="506" y="2"/>
                </a:lnTo>
                <a:lnTo>
                  <a:pt x="489" y="2"/>
                </a:lnTo>
                <a:lnTo>
                  <a:pt x="473" y="2"/>
                </a:lnTo>
                <a:lnTo>
                  <a:pt x="458" y="2"/>
                </a:lnTo>
                <a:lnTo>
                  <a:pt x="440" y="2"/>
                </a:lnTo>
                <a:lnTo>
                  <a:pt x="423" y="2"/>
                </a:lnTo>
                <a:lnTo>
                  <a:pt x="407" y="2"/>
                </a:lnTo>
                <a:lnTo>
                  <a:pt x="392" y="2"/>
                </a:lnTo>
                <a:lnTo>
                  <a:pt x="374" y="2"/>
                </a:lnTo>
                <a:lnTo>
                  <a:pt x="359" y="2"/>
                </a:lnTo>
                <a:lnTo>
                  <a:pt x="341" y="2"/>
                </a:lnTo>
                <a:lnTo>
                  <a:pt x="326" y="2"/>
                </a:lnTo>
                <a:lnTo>
                  <a:pt x="308" y="2"/>
                </a:lnTo>
                <a:lnTo>
                  <a:pt x="293" y="2"/>
                </a:lnTo>
                <a:lnTo>
                  <a:pt x="277" y="2"/>
                </a:lnTo>
                <a:lnTo>
                  <a:pt x="262" y="3"/>
                </a:lnTo>
                <a:lnTo>
                  <a:pt x="244" y="3"/>
                </a:lnTo>
                <a:lnTo>
                  <a:pt x="227" y="3"/>
                </a:lnTo>
                <a:lnTo>
                  <a:pt x="211" y="3"/>
                </a:lnTo>
                <a:lnTo>
                  <a:pt x="196" y="3"/>
                </a:lnTo>
                <a:lnTo>
                  <a:pt x="178" y="3"/>
                </a:lnTo>
                <a:lnTo>
                  <a:pt x="161" y="3"/>
                </a:lnTo>
                <a:lnTo>
                  <a:pt x="145" y="3"/>
                </a:lnTo>
                <a:lnTo>
                  <a:pt x="130" y="5"/>
                </a:lnTo>
                <a:lnTo>
                  <a:pt x="112" y="5"/>
                </a:lnTo>
                <a:lnTo>
                  <a:pt x="97" y="5"/>
                </a:lnTo>
                <a:lnTo>
                  <a:pt x="79" y="5"/>
                </a:lnTo>
                <a:lnTo>
                  <a:pt x="64" y="5"/>
                </a:lnTo>
                <a:lnTo>
                  <a:pt x="46" y="5"/>
                </a:lnTo>
                <a:lnTo>
                  <a:pt x="31" y="5"/>
                </a:lnTo>
                <a:lnTo>
                  <a:pt x="15" y="5"/>
                </a:lnTo>
                <a:lnTo>
                  <a:pt x="0" y="7"/>
                </a:lnTo>
                <a:lnTo>
                  <a:pt x="0" y="19"/>
                </a:lnTo>
                <a:lnTo>
                  <a:pt x="0" y="31"/>
                </a:lnTo>
                <a:lnTo>
                  <a:pt x="0" y="42"/>
                </a:lnTo>
                <a:lnTo>
                  <a:pt x="0" y="54"/>
                </a:lnTo>
                <a:lnTo>
                  <a:pt x="0" y="66"/>
                </a:lnTo>
                <a:lnTo>
                  <a:pt x="0" y="77"/>
                </a:lnTo>
                <a:lnTo>
                  <a:pt x="0" y="89"/>
                </a:lnTo>
                <a:lnTo>
                  <a:pt x="0" y="100"/>
                </a:lnTo>
                <a:lnTo>
                  <a:pt x="0" y="112"/>
                </a:lnTo>
                <a:lnTo>
                  <a:pt x="0" y="124"/>
                </a:lnTo>
                <a:lnTo>
                  <a:pt x="0" y="135"/>
                </a:lnTo>
                <a:lnTo>
                  <a:pt x="0" y="147"/>
                </a:lnTo>
                <a:lnTo>
                  <a:pt x="0" y="159"/>
                </a:lnTo>
                <a:lnTo>
                  <a:pt x="0" y="170"/>
                </a:lnTo>
                <a:lnTo>
                  <a:pt x="0" y="182"/>
                </a:lnTo>
                <a:lnTo>
                  <a:pt x="0" y="195"/>
                </a:lnTo>
                <a:lnTo>
                  <a:pt x="0" y="207"/>
                </a:lnTo>
                <a:lnTo>
                  <a:pt x="0" y="219"/>
                </a:lnTo>
                <a:lnTo>
                  <a:pt x="0" y="230"/>
                </a:lnTo>
                <a:lnTo>
                  <a:pt x="0" y="242"/>
                </a:lnTo>
                <a:lnTo>
                  <a:pt x="0" y="254"/>
                </a:lnTo>
                <a:lnTo>
                  <a:pt x="0" y="265"/>
                </a:lnTo>
                <a:lnTo>
                  <a:pt x="0" y="277"/>
                </a:lnTo>
                <a:lnTo>
                  <a:pt x="2" y="290"/>
                </a:lnTo>
                <a:lnTo>
                  <a:pt x="2" y="302"/>
                </a:lnTo>
                <a:lnTo>
                  <a:pt x="2" y="314"/>
                </a:lnTo>
                <a:lnTo>
                  <a:pt x="2" y="325"/>
                </a:lnTo>
                <a:lnTo>
                  <a:pt x="2" y="337"/>
                </a:lnTo>
                <a:lnTo>
                  <a:pt x="2" y="349"/>
                </a:lnTo>
                <a:lnTo>
                  <a:pt x="2" y="360"/>
                </a:lnTo>
                <a:lnTo>
                  <a:pt x="2" y="372"/>
                </a:lnTo>
                <a:lnTo>
                  <a:pt x="4" y="385"/>
                </a:lnTo>
                <a:lnTo>
                  <a:pt x="4" y="397"/>
                </a:lnTo>
                <a:lnTo>
                  <a:pt x="4" y="409"/>
                </a:lnTo>
                <a:lnTo>
                  <a:pt x="4" y="420"/>
                </a:lnTo>
                <a:lnTo>
                  <a:pt x="4" y="432"/>
                </a:lnTo>
                <a:lnTo>
                  <a:pt x="4" y="444"/>
                </a:lnTo>
                <a:lnTo>
                  <a:pt x="4" y="455"/>
                </a:lnTo>
                <a:lnTo>
                  <a:pt x="4" y="467"/>
                </a:lnTo>
                <a:lnTo>
                  <a:pt x="4" y="480"/>
                </a:lnTo>
                <a:lnTo>
                  <a:pt x="4" y="492"/>
                </a:lnTo>
                <a:lnTo>
                  <a:pt x="4" y="504"/>
                </a:lnTo>
                <a:lnTo>
                  <a:pt x="4" y="515"/>
                </a:lnTo>
                <a:lnTo>
                  <a:pt x="4" y="527"/>
                </a:lnTo>
                <a:lnTo>
                  <a:pt x="4" y="539"/>
                </a:lnTo>
                <a:lnTo>
                  <a:pt x="4" y="550"/>
                </a:lnTo>
                <a:lnTo>
                  <a:pt x="4" y="562"/>
                </a:lnTo>
                <a:lnTo>
                  <a:pt x="4" y="575"/>
                </a:lnTo>
                <a:lnTo>
                  <a:pt x="4" y="587"/>
                </a:lnTo>
                <a:lnTo>
                  <a:pt x="4" y="599"/>
                </a:lnTo>
                <a:lnTo>
                  <a:pt x="4" y="610"/>
                </a:lnTo>
                <a:lnTo>
                  <a:pt x="4" y="622"/>
                </a:lnTo>
                <a:lnTo>
                  <a:pt x="4" y="634"/>
                </a:lnTo>
                <a:lnTo>
                  <a:pt x="4" y="645"/>
                </a:lnTo>
                <a:lnTo>
                  <a:pt x="4" y="657"/>
                </a:lnTo>
                <a:lnTo>
                  <a:pt x="6" y="670"/>
                </a:lnTo>
                <a:lnTo>
                  <a:pt x="6" y="682"/>
                </a:lnTo>
                <a:lnTo>
                  <a:pt x="6" y="694"/>
                </a:lnTo>
                <a:lnTo>
                  <a:pt x="6" y="705"/>
                </a:lnTo>
                <a:lnTo>
                  <a:pt x="6" y="719"/>
                </a:lnTo>
                <a:lnTo>
                  <a:pt x="6" y="731"/>
                </a:lnTo>
                <a:lnTo>
                  <a:pt x="6" y="742"/>
                </a:lnTo>
                <a:lnTo>
                  <a:pt x="6" y="754"/>
                </a:lnTo>
                <a:lnTo>
                  <a:pt x="8" y="767"/>
                </a:lnTo>
                <a:lnTo>
                  <a:pt x="25" y="756"/>
                </a:lnTo>
                <a:lnTo>
                  <a:pt x="43" y="744"/>
                </a:lnTo>
                <a:lnTo>
                  <a:pt x="62" y="733"/>
                </a:lnTo>
                <a:lnTo>
                  <a:pt x="81" y="723"/>
                </a:lnTo>
                <a:lnTo>
                  <a:pt x="99" y="711"/>
                </a:lnTo>
                <a:lnTo>
                  <a:pt x="116" y="702"/>
                </a:lnTo>
                <a:lnTo>
                  <a:pt x="136" y="690"/>
                </a:lnTo>
                <a:lnTo>
                  <a:pt x="155" y="680"/>
                </a:lnTo>
                <a:lnTo>
                  <a:pt x="172" y="669"/>
                </a:lnTo>
                <a:lnTo>
                  <a:pt x="192" y="657"/>
                </a:lnTo>
                <a:lnTo>
                  <a:pt x="209" y="645"/>
                </a:lnTo>
                <a:lnTo>
                  <a:pt x="229" y="636"/>
                </a:lnTo>
                <a:lnTo>
                  <a:pt x="246" y="624"/>
                </a:lnTo>
                <a:lnTo>
                  <a:pt x="266" y="614"/>
                </a:lnTo>
                <a:lnTo>
                  <a:pt x="285" y="603"/>
                </a:lnTo>
                <a:lnTo>
                  <a:pt x="304" y="593"/>
                </a:lnTo>
                <a:lnTo>
                  <a:pt x="316" y="579"/>
                </a:lnTo>
                <a:lnTo>
                  <a:pt x="328" y="568"/>
                </a:lnTo>
                <a:lnTo>
                  <a:pt x="339" y="554"/>
                </a:lnTo>
                <a:lnTo>
                  <a:pt x="351" y="543"/>
                </a:lnTo>
                <a:lnTo>
                  <a:pt x="363" y="529"/>
                </a:lnTo>
                <a:lnTo>
                  <a:pt x="374" y="517"/>
                </a:lnTo>
                <a:lnTo>
                  <a:pt x="386" y="506"/>
                </a:lnTo>
                <a:lnTo>
                  <a:pt x="399" y="494"/>
                </a:lnTo>
                <a:lnTo>
                  <a:pt x="411" y="480"/>
                </a:lnTo>
                <a:lnTo>
                  <a:pt x="423" y="469"/>
                </a:lnTo>
                <a:lnTo>
                  <a:pt x="434" y="455"/>
                </a:lnTo>
                <a:lnTo>
                  <a:pt x="446" y="444"/>
                </a:lnTo>
                <a:lnTo>
                  <a:pt x="458" y="430"/>
                </a:lnTo>
                <a:lnTo>
                  <a:pt x="469" y="418"/>
                </a:lnTo>
                <a:lnTo>
                  <a:pt x="481" y="407"/>
                </a:lnTo>
                <a:lnTo>
                  <a:pt x="494" y="395"/>
                </a:lnTo>
                <a:lnTo>
                  <a:pt x="512" y="378"/>
                </a:lnTo>
                <a:lnTo>
                  <a:pt x="529" y="360"/>
                </a:lnTo>
                <a:lnTo>
                  <a:pt x="547" y="343"/>
                </a:lnTo>
                <a:lnTo>
                  <a:pt x="566" y="325"/>
                </a:lnTo>
                <a:lnTo>
                  <a:pt x="584" y="308"/>
                </a:lnTo>
                <a:lnTo>
                  <a:pt x="603" y="290"/>
                </a:lnTo>
                <a:lnTo>
                  <a:pt x="620" y="273"/>
                </a:lnTo>
                <a:lnTo>
                  <a:pt x="640" y="257"/>
                </a:lnTo>
                <a:lnTo>
                  <a:pt x="651" y="248"/>
                </a:lnTo>
                <a:lnTo>
                  <a:pt x="663" y="240"/>
                </a:lnTo>
                <a:lnTo>
                  <a:pt x="675" y="232"/>
                </a:lnTo>
                <a:lnTo>
                  <a:pt x="686" y="226"/>
                </a:lnTo>
                <a:lnTo>
                  <a:pt x="698" y="217"/>
                </a:lnTo>
                <a:lnTo>
                  <a:pt x="710" y="209"/>
                </a:lnTo>
                <a:lnTo>
                  <a:pt x="721" y="201"/>
                </a:lnTo>
                <a:lnTo>
                  <a:pt x="733" y="195"/>
                </a:lnTo>
                <a:lnTo>
                  <a:pt x="745" y="186"/>
                </a:lnTo>
                <a:lnTo>
                  <a:pt x="756" y="180"/>
                </a:lnTo>
                <a:lnTo>
                  <a:pt x="768" y="170"/>
                </a:lnTo>
                <a:lnTo>
                  <a:pt x="781" y="164"/>
                </a:lnTo>
                <a:lnTo>
                  <a:pt x="793" y="157"/>
                </a:lnTo>
                <a:lnTo>
                  <a:pt x="805" y="149"/>
                </a:lnTo>
                <a:lnTo>
                  <a:pt x="816" y="141"/>
                </a:lnTo>
                <a:lnTo>
                  <a:pt x="830" y="135"/>
                </a:lnTo>
                <a:lnTo>
                  <a:pt x="842" y="126"/>
                </a:lnTo>
                <a:lnTo>
                  <a:pt x="857" y="118"/>
                </a:lnTo>
                <a:lnTo>
                  <a:pt x="869" y="108"/>
                </a:lnTo>
                <a:lnTo>
                  <a:pt x="884" y="100"/>
                </a:lnTo>
                <a:lnTo>
                  <a:pt x="898" y="91"/>
                </a:lnTo>
                <a:lnTo>
                  <a:pt x="911" y="83"/>
                </a:lnTo>
                <a:lnTo>
                  <a:pt x="925" y="73"/>
                </a:lnTo>
                <a:lnTo>
                  <a:pt x="940" y="67"/>
                </a:lnTo>
                <a:lnTo>
                  <a:pt x="952" y="58"/>
                </a:lnTo>
                <a:lnTo>
                  <a:pt x="968" y="50"/>
                </a:lnTo>
                <a:lnTo>
                  <a:pt x="979" y="40"/>
                </a:lnTo>
                <a:lnTo>
                  <a:pt x="995" y="33"/>
                </a:lnTo>
                <a:lnTo>
                  <a:pt x="1008" y="23"/>
                </a:lnTo>
                <a:lnTo>
                  <a:pt x="1022" y="15"/>
                </a:lnTo>
                <a:lnTo>
                  <a:pt x="1035" y="5"/>
                </a:lnTo>
                <a:lnTo>
                  <a:pt x="105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77" name=""/>
          <p:cNvSpPr/>
          <p:nvPr/>
        </p:nvSpPr>
        <p:spPr>
          <a:xfrm>
            <a:off x="2235240" y="2266920"/>
            <a:ext cx="606240" cy="444600"/>
          </a:xfrm>
          <a:custGeom>
            <a:avLst/>
            <a:gdLst/>
            <a:ahLst/>
            <a:rect l="l" t="t" r="r" b="b"/>
            <a:pathLst>
              <a:path w="764" h="560">
                <a:moveTo>
                  <a:pt x="764" y="0"/>
                </a:moveTo>
                <a:lnTo>
                  <a:pt x="751" y="0"/>
                </a:lnTo>
                <a:lnTo>
                  <a:pt x="739" y="0"/>
                </a:lnTo>
                <a:lnTo>
                  <a:pt x="727" y="0"/>
                </a:lnTo>
                <a:lnTo>
                  <a:pt x="716" y="0"/>
                </a:lnTo>
                <a:lnTo>
                  <a:pt x="702" y="0"/>
                </a:lnTo>
                <a:lnTo>
                  <a:pt x="690" y="0"/>
                </a:lnTo>
                <a:lnTo>
                  <a:pt x="679" y="0"/>
                </a:lnTo>
                <a:lnTo>
                  <a:pt x="667" y="0"/>
                </a:lnTo>
                <a:lnTo>
                  <a:pt x="654" y="0"/>
                </a:lnTo>
                <a:lnTo>
                  <a:pt x="642" y="0"/>
                </a:lnTo>
                <a:lnTo>
                  <a:pt x="630" y="0"/>
                </a:lnTo>
                <a:lnTo>
                  <a:pt x="619" y="0"/>
                </a:lnTo>
                <a:lnTo>
                  <a:pt x="607" y="0"/>
                </a:lnTo>
                <a:lnTo>
                  <a:pt x="595" y="0"/>
                </a:lnTo>
                <a:lnTo>
                  <a:pt x="584" y="0"/>
                </a:lnTo>
                <a:lnTo>
                  <a:pt x="572" y="0"/>
                </a:lnTo>
                <a:lnTo>
                  <a:pt x="559" y="0"/>
                </a:lnTo>
                <a:lnTo>
                  <a:pt x="547" y="0"/>
                </a:lnTo>
                <a:lnTo>
                  <a:pt x="535" y="0"/>
                </a:lnTo>
                <a:lnTo>
                  <a:pt x="524" y="0"/>
                </a:lnTo>
                <a:lnTo>
                  <a:pt x="510" y="0"/>
                </a:lnTo>
                <a:lnTo>
                  <a:pt x="498" y="0"/>
                </a:lnTo>
                <a:lnTo>
                  <a:pt x="487" y="0"/>
                </a:lnTo>
                <a:lnTo>
                  <a:pt x="475" y="0"/>
                </a:lnTo>
                <a:lnTo>
                  <a:pt x="464" y="0"/>
                </a:lnTo>
                <a:lnTo>
                  <a:pt x="452" y="0"/>
                </a:lnTo>
                <a:lnTo>
                  <a:pt x="440" y="0"/>
                </a:lnTo>
                <a:lnTo>
                  <a:pt x="429" y="0"/>
                </a:lnTo>
                <a:lnTo>
                  <a:pt x="417" y="0"/>
                </a:lnTo>
                <a:lnTo>
                  <a:pt x="405" y="0"/>
                </a:lnTo>
                <a:lnTo>
                  <a:pt x="394" y="0"/>
                </a:lnTo>
                <a:lnTo>
                  <a:pt x="382" y="2"/>
                </a:lnTo>
                <a:lnTo>
                  <a:pt x="369" y="2"/>
                </a:lnTo>
                <a:lnTo>
                  <a:pt x="357" y="2"/>
                </a:lnTo>
                <a:lnTo>
                  <a:pt x="345" y="2"/>
                </a:lnTo>
                <a:lnTo>
                  <a:pt x="334" y="2"/>
                </a:lnTo>
                <a:lnTo>
                  <a:pt x="320" y="2"/>
                </a:lnTo>
                <a:lnTo>
                  <a:pt x="308" y="2"/>
                </a:lnTo>
                <a:lnTo>
                  <a:pt x="297" y="2"/>
                </a:lnTo>
                <a:lnTo>
                  <a:pt x="285" y="2"/>
                </a:lnTo>
                <a:lnTo>
                  <a:pt x="272" y="2"/>
                </a:lnTo>
                <a:lnTo>
                  <a:pt x="260" y="2"/>
                </a:lnTo>
                <a:lnTo>
                  <a:pt x="248" y="2"/>
                </a:lnTo>
                <a:lnTo>
                  <a:pt x="237" y="2"/>
                </a:lnTo>
                <a:lnTo>
                  <a:pt x="225" y="2"/>
                </a:lnTo>
                <a:lnTo>
                  <a:pt x="213" y="2"/>
                </a:lnTo>
                <a:lnTo>
                  <a:pt x="202" y="2"/>
                </a:lnTo>
                <a:lnTo>
                  <a:pt x="190" y="4"/>
                </a:lnTo>
                <a:lnTo>
                  <a:pt x="177" y="4"/>
                </a:lnTo>
                <a:lnTo>
                  <a:pt x="165" y="4"/>
                </a:lnTo>
                <a:lnTo>
                  <a:pt x="153" y="4"/>
                </a:lnTo>
                <a:lnTo>
                  <a:pt x="142" y="4"/>
                </a:lnTo>
                <a:lnTo>
                  <a:pt x="128" y="4"/>
                </a:lnTo>
                <a:lnTo>
                  <a:pt x="116" y="4"/>
                </a:lnTo>
                <a:lnTo>
                  <a:pt x="105" y="4"/>
                </a:lnTo>
                <a:lnTo>
                  <a:pt x="93" y="4"/>
                </a:lnTo>
                <a:lnTo>
                  <a:pt x="81" y="4"/>
                </a:lnTo>
                <a:lnTo>
                  <a:pt x="70" y="4"/>
                </a:lnTo>
                <a:lnTo>
                  <a:pt x="58" y="4"/>
                </a:lnTo>
                <a:lnTo>
                  <a:pt x="47" y="4"/>
                </a:lnTo>
                <a:lnTo>
                  <a:pt x="35" y="4"/>
                </a:lnTo>
                <a:lnTo>
                  <a:pt x="23" y="4"/>
                </a:lnTo>
                <a:lnTo>
                  <a:pt x="12" y="4"/>
                </a:lnTo>
                <a:lnTo>
                  <a:pt x="0" y="6"/>
                </a:lnTo>
                <a:lnTo>
                  <a:pt x="0" y="21"/>
                </a:lnTo>
                <a:lnTo>
                  <a:pt x="0" y="39"/>
                </a:lnTo>
                <a:lnTo>
                  <a:pt x="0" y="56"/>
                </a:lnTo>
                <a:lnTo>
                  <a:pt x="0" y="73"/>
                </a:lnTo>
                <a:lnTo>
                  <a:pt x="0" y="91"/>
                </a:lnTo>
                <a:lnTo>
                  <a:pt x="0" y="108"/>
                </a:lnTo>
                <a:lnTo>
                  <a:pt x="0" y="126"/>
                </a:lnTo>
                <a:lnTo>
                  <a:pt x="0" y="143"/>
                </a:lnTo>
                <a:lnTo>
                  <a:pt x="0" y="159"/>
                </a:lnTo>
                <a:lnTo>
                  <a:pt x="0" y="176"/>
                </a:lnTo>
                <a:lnTo>
                  <a:pt x="0" y="194"/>
                </a:lnTo>
                <a:lnTo>
                  <a:pt x="0" y="211"/>
                </a:lnTo>
                <a:lnTo>
                  <a:pt x="0" y="229"/>
                </a:lnTo>
                <a:lnTo>
                  <a:pt x="0" y="246"/>
                </a:lnTo>
                <a:lnTo>
                  <a:pt x="0" y="263"/>
                </a:lnTo>
                <a:lnTo>
                  <a:pt x="2" y="281"/>
                </a:lnTo>
                <a:lnTo>
                  <a:pt x="2" y="298"/>
                </a:lnTo>
                <a:lnTo>
                  <a:pt x="2" y="316"/>
                </a:lnTo>
                <a:lnTo>
                  <a:pt x="2" y="333"/>
                </a:lnTo>
                <a:lnTo>
                  <a:pt x="2" y="351"/>
                </a:lnTo>
                <a:lnTo>
                  <a:pt x="2" y="368"/>
                </a:lnTo>
                <a:lnTo>
                  <a:pt x="2" y="386"/>
                </a:lnTo>
                <a:lnTo>
                  <a:pt x="2" y="403"/>
                </a:lnTo>
                <a:lnTo>
                  <a:pt x="2" y="420"/>
                </a:lnTo>
                <a:lnTo>
                  <a:pt x="2" y="438"/>
                </a:lnTo>
                <a:lnTo>
                  <a:pt x="2" y="455"/>
                </a:lnTo>
                <a:lnTo>
                  <a:pt x="2" y="473"/>
                </a:lnTo>
                <a:lnTo>
                  <a:pt x="2" y="490"/>
                </a:lnTo>
                <a:lnTo>
                  <a:pt x="2" y="508"/>
                </a:lnTo>
                <a:lnTo>
                  <a:pt x="2" y="525"/>
                </a:lnTo>
                <a:lnTo>
                  <a:pt x="2" y="543"/>
                </a:lnTo>
                <a:lnTo>
                  <a:pt x="4" y="560"/>
                </a:lnTo>
                <a:lnTo>
                  <a:pt x="16" y="550"/>
                </a:lnTo>
                <a:lnTo>
                  <a:pt x="29" y="543"/>
                </a:lnTo>
                <a:lnTo>
                  <a:pt x="43" y="535"/>
                </a:lnTo>
                <a:lnTo>
                  <a:pt x="58" y="527"/>
                </a:lnTo>
                <a:lnTo>
                  <a:pt x="70" y="517"/>
                </a:lnTo>
                <a:lnTo>
                  <a:pt x="83" y="512"/>
                </a:lnTo>
                <a:lnTo>
                  <a:pt x="97" y="502"/>
                </a:lnTo>
                <a:lnTo>
                  <a:pt x="113" y="496"/>
                </a:lnTo>
                <a:lnTo>
                  <a:pt x="124" y="486"/>
                </a:lnTo>
                <a:lnTo>
                  <a:pt x="138" y="479"/>
                </a:lnTo>
                <a:lnTo>
                  <a:pt x="151" y="471"/>
                </a:lnTo>
                <a:lnTo>
                  <a:pt x="167" y="463"/>
                </a:lnTo>
                <a:lnTo>
                  <a:pt x="178" y="453"/>
                </a:lnTo>
                <a:lnTo>
                  <a:pt x="192" y="448"/>
                </a:lnTo>
                <a:lnTo>
                  <a:pt x="206" y="438"/>
                </a:lnTo>
                <a:lnTo>
                  <a:pt x="221" y="432"/>
                </a:lnTo>
                <a:lnTo>
                  <a:pt x="237" y="413"/>
                </a:lnTo>
                <a:lnTo>
                  <a:pt x="254" y="395"/>
                </a:lnTo>
                <a:lnTo>
                  <a:pt x="272" y="376"/>
                </a:lnTo>
                <a:lnTo>
                  <a:pt x="289" y="358"/>
                </a:lnTo>
                <a:lnTo>
                  <a:pt x="306" y="339"/>
                </a:lnTo>
                <a:lnTo>
                  <a:pt x="324" y="322"/>
                </a:lnTo>
                <a:lnTo>
                  <a:pt x="341" y="304"/>
                </a:lnTo>
                <a:lnTo>
                  <a:pt x="359" y="287"/>
                </a:lnTo>
                <a:lnTo>
                  <a:pt x="370" y="273"/>
                </a:lnTo>
                <a:lnTo>
                  <a:pt x="384" y="261"/>
                </a:lnTo>
                <a:lnTo>
                  <a:pt x="398" y="248"/>
                </a:lnTo>
                <a:lnTo>
                  <a:pt x="411" y="236"/>
                </a:lnTo>
                <a:lnTo>
                  <a:pt x="423" y="223"/>
                </a:lnTo>
                <a:lnTo>
                  <a:pt x="436" y="211"/>
                </a:lnTo>
                <a:lnTo>
                  <a:pt x="450" y="199"/>
                </a:lnTo>
                <a:lnTo>
                  <a:pt x="465" y="188"/>
                </a:lnTo>
                <a:lnTo>
                  <a:pt x="481" y="176"/>
                </a:lnTo>
                <a:lnTo>
                  <a:pt x="498" y="165"/>
                </a:lnTo>
                <a:lnTo>
                  <a:pt x="516" y="153"/>
                </a:lnTo>
                <a:lnTo>
                  <a:pt x="533" y="143"/>
                </a:lnTo>
                <a:lnTo>
                  <a:pt x="551" y="132"/>
                </a:lnTo>
                <a:lnTo>
                  <a:pt x="568" y="120"/>
                </a:lnTo>
                <a:lnTo>
                  <a:pt x="586" y="108"/>
                </a:lnTo>
                <a:lnTo>
                  <a:pt x="603" y="99"/>
                </a:lnTo>
                <a:lnTo>
                  <a:pt x="623" y="85"/>
                </a:lnTo>
                <a:lnTo>
                  <a:pt x="642" y="73"/>
                </a:lnTo>
                <a:lnTo>
                  <a:pt x="661" y="60"/>
                </a:lnTo>
                <a:lnTo>
                  <a:pt x="683" y="48"/>
                </a:lnTo>
                <a:lnTo>
                  <a:pt x="702" y="35"/>
                </a:lnTo>
                <a:lnTo>
                  <a:pt x="723" y="23"/>
                </a:lnTo>
                <a:lnTo>
                  <a:pt x="743" y="11"/>
                </a:lnTo>
                <a:lnTo>
                  <a:pt x="76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78" name=""/>
          <p:cNvSpPr/>
          <p:nvPr/>
        </p:nvSpPr>
        <p:spPr>
          <a:xfrm>
            <a:off x="2228760" y="2265480"/>
            <a:ext cx="379440" cy="276120"/>
          </a:xfrm>
          <a:custGeom>
            <a:avLst/>
            <a:gdLst/>
            <a:ahLst/>
            <a:rect l="l" t="t" r="r" b="b"/>
            <a:pathLst>
              <a:path w="479" h="349">
                <a:moveTo>
                  <a:pt x="479" y="0"/>
                </a:moveTo>
                <a:lnTo>
                  <a:pt x="0" y="2"/>
                </a:lnTo>
                <a:lnTo>
                  <a:pt x="4" y="349"/>
                </a:lnTo>
                <a:lnTo>
                  <a:pt x="140" y="267"/>
                </a:lnTo>
                <a:lnTo>
                  <a:pt x="225" y="178"/>
                </a:lnTo>
                <a:lnTo>
                  <a:pt x="291" y="116"/>
                </a:lnTo>
                <a:lnTo>
                  <a:pt x="378" y="62"/>
                </a:lnTo>
                <a:lnTo>
                  <a:pt x="47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9900cc"/>
            </a:gs>
          </a:gsLst>
          <a:lin ang="108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c9ff"/>
                </a:solidFill>
                <a:latin typeface="Arial"/>
              </a:rPr>
              <a:t>Main Points</a:t>
            </a:r>
            <a:endParaRPr b="0" lang="en-US" sz="4400" spc="-1" strike="noStrike">
              <a:solidFill>
                <a:srgbClr val="e4c9ff"/>
              </a:solidFill>
              <a:latin typeface="Arial"/>
            </a:endParaRPr>
          </a:p>
        </p:txBody>
      </p:sp>
      <p:sp>
        <p:nvSpPr>
          <p:cNvPr id="1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Basic human emotions:  pleasure, fear, anger</a:t>
            </a:r>
            <a:endParaRPr b="0" lang="en-US" sz="3200" spc="-1" strike="noStrike">
              <a:solidFill>
                <a:srgbClr val="ffff00"/>
              </a:solidFill>
              <a:latin typeface="Times New Roman"/>
            </a:endParaRPr>
          </a:p>
          <a:p>
            <a:pPr marL="343080" indent="-343080">
              <a:lnSpc>
                <a:spcPct val="90000"/>
              </a:lnSpc>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Positive emotions are stronger than negative emotions</a:t>
            </a:r>
            <a:endParaRPr b="0" lang="en-US" sz="3200" spc="-1" strike="noStrike">
              <a:solidFill>
                <a:srgbClr val="ffff00"/>
              </a:solidFill>
              <a:latin typeface="Times New Roman"/>
            </a:endParaRPr>
          </a:p>
          <a:p>
            <a:pPr marL="343080" indent="-343080">
              <a:lnSpc>
                <a:spcPct val="90000"/>
              </a:lnSpc>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We can control our emotions through our rationality</a:t>
            </a:r>
            <a:endParaRPr b="0" lang="en-US" sz="3200" spc="-1" strike="noStrike">
              <a:solidFill>
                <a:srgbClr val="ffff00"/>
              </a:solidFill>
              <a:latin typeface="Times New Roman"/>
            </a:endParaRPr>
          </a:p>
          <a:p>
            <a:pPr marL="343080" indent="-343080">
              <a:lnSpc>
                <a:spcPct val="90000"/>
              </a:lnSpc>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This is especially important in romantic relationship at this age </a:t>
            </a:r>
            <a:endParaRPr b="0" lang="en-US" sz="32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9900cc"/>
            </a:gs>
          </a:gsLst>
          <a:lin ang="108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c9ff"/>
                </a:solidFill>
                <a:latin typeface="Arial"/>
              </a:rPr>
              <a:t>“</a:t>
            </a:r>
            <a:r>
              <a:rPr b="0" lang="en-US" sz="4400" spc="-1" strike="noStrike">
                <a:solidFill>
                  <a:srgbClr val="e4c9ff"/>
                </a:solidFill>
                <a:latin typeface="Arial"/>
              </a:rPr>
              <a:t>Our Emotional Life”: Cognitive Objectives</a:t>
            </a:r>
            <a:endParaRPr b="0" lang="en-US" sz="4400" spc="-1" strike="noStrike">
              <a:solidFill>
                <a:srgbClr val="e4c9ff"/>
              </a:solidFill>
              <a:latin typeface="Arial"/>
            </a:endParaRPr>
          </a:p>
        </p:txBody>
      </p:sp>
      <p:sp>
        <p:nvSpPr>
          <p:cNvPr id="182"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Be more aware of emotions</a:t>
            </a:r>
            <a:endParaRPr b="0" lang="en-US" sz="3200" spc="-1" strike="noStrike">
              <a:solidFill>
                <a:srgbClr val="ffff00"/>
              </a:solidFill>
              <a:latin typeface="Times New Roman"/>
            </a:endParaRPr>
          </a:p>
          <a:p>
            <a:pPr marL="343080" indent="-343080">
              <a:lnSpc>
                <a:spcPct val="90000"/>
              </a:lnSpc>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Recognize that positive is stronger than negative</a:t>
            </a:r>
            <a:endParaRPr b="0" lang="en-US" sz="3200" spc="-1" strike="noStrike">
              <a:solidFill>
                <a:srgbClr val="ffff00"/>
              </a:solidFill>
              <a:latin typeface="Times New Roman"/>
            </a:endParaRPr>
          </a:p>
          <a:p>
            <a:pPr marL="343080" indent="-343080">
              <a:lnSpc>
                <a:spcPct val="90000"/>
              </a:lnSpc>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Realize it is possible to control emotions</a:t>
            </a:r>
            <a:endParaRPr b="0" lang="en-US" sz="3200" spc="-1" strike="noStrike">
              <a:solidFill>
                <a:srgbClr val="ffff00"/>
              </a:solidFill>
              <a:latin typeface="Times New Roman"/>
            </a:endParaRPr>
          </a:p>
        </p:txBody>
      </p:sp>
      <p:pic>
        <p:nvPicPr>
          <p:cNvPr id="183" name="" descr=""/>
          <p:cNvPicPr/>
          <p:nvPr/>
        </p:nvPicPr>
        <p:blipFill>
          <a:blip r:embed="rId1"/>
          <a:stretch/>
        </p:blipFill>
        <p:spPr>
          <a:xfrm>
            <a:off x="5105520" y="2133720"/>
            <a:ext cx="3352680" cy="3809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aunders</cp:lastModifiedBy>
  <dcterms:modified xsi:type="dcterms:W3CDTF">2008-03-27T17:45:41Z</dcterms:modified>
  <cp:revision>13</cp:revision>
  <dc:subject/>
  <dc:title>PowerPoint Presentation</dc:title>
</cp:coreProperties>
</file>